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4F8-8508-4331-883F-834070C6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FF4-E275-443E-84F5-40A8C2D3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D7C-C0E9-439D-9070-D6DA084F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6090-9A20-4004-B69F-2D679F06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624-1E5D-46AE-9B19-6C538B4C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07BA-4D4E-4C5C-9DF0-93908093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20E-7F51-47C3-90D9-F3F4B14E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492-AD7B-44EE-996E-4215A172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A6D-0403-445D-B720-4BD700B6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DE5-E959-46F7-A868-52FD8032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93D-5E19-4F7B-B89B-B01907FC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828C-69E4-485B-97E6-EDFF9DB1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8692-011E-43F4-AB67-1697699B1FC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Line 6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6095880" y="1143000"/>
            <a:ext cx="2133720" cy="1600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6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6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9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Text Box 10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Text Box 14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Text Box 16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4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Text Box 6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Text Box 10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Text Box 7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6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9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Text Box 6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Rectangle 5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7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Text Box 6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Text Box 5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Text Box 5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Text Box 7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Text Box 6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Text Box 8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Text Box 4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Text Box 7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026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27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28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29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30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31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32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33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2819520" y="2514600"/>
            <a:ext cx="3581280" cy="3200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2362320" y="3048120"/>
            <a:ext cx="4952880" cy="2133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2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6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1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Line 7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7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6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2057400" y="1752480"/>
            <a:ext cx="3581280" cy="2667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2057400" y="1752480"/>
            <a:ext cx="2286000" cy="2133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6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3"/>
          <p:cNvSpPr/>
          <p:nvPr/>
        </p:nvSpPr>
        <p:spPr>
          <a:xfrm>
            <a:off x="2057400" y="1752480"/>
            <a:ext cx="1523880" cy="289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4"/>
          <p:cNvSpPr/>
          <p:nvPr/>
        </p:nvSpPr>
        <p:spPr>
          <a:xfrm>
            <a:off x="2057400" y="1828800"/>
            <a:ext cx="1219320" cy="274320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2057400" y="1752480"/>
            <a:ext cx="274320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6"/>
          <p:cNvSpPr/>
          <p:nvPr/>
        </p:nvSpPr>
        <p:spPr>
          <a:xfrm>
            <a:off x="2057400" y="1676520"/>
            <a:ext cx="2514600" cy="335268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7"/>
          <p:cNvSpPr/>
          <p:nvPr/>
        </p:nvSpPr>
        <p:spPr>
          <a:xfrm>
            <a:off x="2057400" y="1981080"/>
            <a:ext cx="487692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18"/>
          <p:cNvSpPr/>
          <p:nvPr/>
        </p:nvSpPr>
        <p:spPr>
          <a:xfrm>
            <a:off x="2057400" y="2895480"/>
            <a:ext cx="5410080" cy="24386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9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1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026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9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2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15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7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2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6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7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8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9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30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1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33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34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7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8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9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0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41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2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3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46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Text Box 7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9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 Box 11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Text Box 8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6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 muñoz</cp:lastModifiedBy>
  <dcterms:modified xsi:type="dcterms:W3CDTF">2009-10-05T13:34:01Z</dcterms:modified>
  <cp:revision>55</cp:revision>
  <dc:subject/>
  <dc:title>Sin título de diapositiva</dc:title>
</cp:coreProperties>
</file>