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0CD-1B78-4F5D-81E8-8281DDB2389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DFC7-9B1B-4DA6-B776-9C391A80E76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87F-E8AF-4310-A8AD-158C43ECFAD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96D-1DE4-44DF-9F87-EEE5544B990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2AC-1F8C-4570-903E-64CBEBE9DDA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F0F6-8C0E-4176-AE9E-6A17BF8840E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27C-8104-4B7B-89E5-B397C80FC13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41D-16DE-49FD-AE40-1C1A0F02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E21-B9FD-41A0-8E49-7136BD69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B29-E3C9-4521-90B8-6245F1E1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884-8473-436D-A30D-30D2B98F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43A3-F922-4513-9213-D6396588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BC1-CA6D-4DE3-BA03-6DD7DEB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A3B-9C41-4E0E-AD8B-AB2D70F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F26-B5F3-4D02-A87B-799CB0F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87B3-A4E5-40D6-9698-754AE40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F3E4-E576-4AD8-BA75-50397DE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2C13-081A-406E-9113-1400CE3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D36-4FB7-43C6-9A54-432151F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C537-64D4-4CCC-BD82-FE2E317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BBDA-640A-4186-9D42-627F33C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6B91-04BC-40BE-98DB-293BCB0B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76A9-7686-4AE7-AF66-D09A2B8F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E2FF-9D0C-491A-ABCD-7CE54482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13B7-DF8D-446E-9406-3697E9D8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5E3E-E2CE-44D1-88CD-0C20821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C0E4-78B9-452F-B1B3-A6920F33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5BF0-45F5-4001-885B-72073C02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C198-6A1D-48E7-93A4-9D9A53E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50A-F63C-46D7-9062-2B9283D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33AF-4A6D-4BD2-8804-3A589AC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A7A9-9653-4C55-9DCD-63388E8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1FA1-58BA-4D4D-AE65-94A3C43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8091-BD18-491E-995A-B6A19E1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C1CF-3F52-4E2D-8C7B-617EFC7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DC63-ECB0-4698-9173-4A5279CA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1180-CDE9-40D1-A5B4-BDFA9BB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5F25-71DC-4DFA-B626-0C77B572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C147-90B3-4588-A7BD-B7D58AB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320D-C642-4496-AF14-1918F98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C45-C6EB-4A79-9AE4-18F786B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2CFF-8C71-4D6F-B094-A2A064CD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C2DE-54A8-4832-A63E-DE77121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C651-5976-44ED-90CA-C766FF9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488A-0E41-406A-8D43-511B2E4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F06B-C8C7-4723-82AC-3A38938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2F3F-EBB3-4E2A-B9A4-F2CF22F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8B2E-C4F2-4008-A6C6-A7B6868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E6DE-4225-48F8-9C1D-29098FEF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73E6-8567-4F72-B1F0-E2BFD45F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B77-485F-4858-86BB-FB4C1A0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A5A-D26C-4C3B-BC17-4D8635C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F68-14FD-4978-8670-813830A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EF1-06C0-4A7B-8E78-4BB4900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430-7138-49DC-B6B2-C651E5C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6B59-FA1E-42E4-B43D-B2F09EB4C130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EEAB-5049-46E3-92BD-58B91ADE41C3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974E-5048-4A37-ADFA-48CDEAD46E7E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E64E-89AB-4083-AF05-7D1946D2959C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860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D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5 NOVIEMBRE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pro.corbis.com/images/42-21548373.jpg?size=67&amp;uid=8C338461-4D1E-4083-987D-232F405CB4A2"/>
          <p:cNvPicPr/>
          <p:nvPr/>
        </p:nvPicPr>
        <p:blipFill>
          <a:blip r:embed="rId2"/>
          <a:stretch/>
        </p:blipFill>
        <p:spPr>
          <a:xfrm>
            <a:off x="500040" y="2643120"/>
            <a:ext cx="28335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sideraciones bás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pectos cultur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Ope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TES INVOLUCR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oveedor / Cl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 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mpañía de Segu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B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tc.. Etc..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http://ops.fhwa.dot.gov/freight/intermodal/efmmanifest/images/limitedsc.png"/>
          <p:cNvPicPr/>
          <p:nvPr/>
        </p:nvPicPr>
        <p:blipFill>
          <a:blip r:embed="rId1"/>
          <a:stretch/>
        </p:blipFill>
        <p:spPr>
          <a:xfrm>
            <a:off x="3610080" y="3943440"/>
            <a:ext cx="5533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ONSIDERACIONES PREV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ormativ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LC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iempos de vi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egociación 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ting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Usos hor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escripción del produ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ersona de Cont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SPECTOS CULTUR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prender antes de negoci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esoría agencias de promo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Ferias, misiones, reuniones bilater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di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OPER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Content Placeholder 3"/>
          <p:cNvGraphicFramePr/>
          <p:nvPr/>
        </p:nvGraphicFramePr>
        <p:xfrm>
          <a:off x="3338640" y="2097000"/>
          <a:ext cx="24652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2097000"/>
                    <a:ext cx="24652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54:18Z</dcterms:created>
  <dc:creator>Vixo</dc:creator>
  <dc:description/>
  <dc:language>en-US</dc:language>
  <cp:lastModifiedBy>Vixo</cp:lastModifiedBy>
  <dcterms:modified xsi:type="dcterms:W3CDTF">2009-11-05T19:38:35Z</dcterms:modified>
  <cp:revision>35</cp:revision>
  <dc:subject/>
  <dc:title>SITUACION JUDICIAL</dc:title>
</cp:coreProperties>
</file>