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AA1-7EC2-4BEA-BCA0-8017A94D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687-C403-4199-83DA-08694607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4CE-9C11-4863-B581-76ED56A1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A1B-F808-433B-81F9-BC49E655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B50-5F44-4F50-8836-8B702479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6A1-9B46-4F33-9560-9D51ED8F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AEB-ECA1-40CA-AF80-AB033B1C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32B-A9BE-43A7-8BAD-FB5B58D5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300-4F57-4BD0-B5B2-E801A96F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3F4-4B7C-441B-90EF-2C30CE97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D23-C4F7-4838-82D0-75F5C35D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77C-C413-4009-A4F8-4777E151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0C72-BA5F-4460-ADAA-842745123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aalvear</cp:lastModifiedBy>
  <dcterms:modified xsi:type="dcterms:W3CDTF">2009-09-07T15:10:23Z</dcterms:modified>
  <cp:revision>39</cp:revision>
  <dc:subject/>
  <dc:title>Diapositiva 1</dc:title>
</cp:coreProperties>
</file>