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2BA-5F03-4891-B87B-12B02CB3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6C5-2808-48A6-A0B8-77B929F4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91C-69B3-408A-A684-E8541D93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283-D04F-4905-A0DF-DAC63628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16CB-17C6-43E3-A218-D92BB700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08A1-3929-4DD0-87AF-96F0DB80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2BBD-591F-440E-B8E7-3B52D012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EAF8-DF67-4D99-A67C-AD2B2D56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F881-9793-4834-B258-650B552E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1F13-09E9-4A04-A669-9E92B5CC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A479-A5EE-4D70-AF31-ADC5E2CE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2EB-C88A-42C6-B19C-505CC412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7978-EA3C-42D2-BBDD-951F53EB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CD7C-E8E5-47F2-8D99-711EDE33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3B6A-A6B1-4E32-B4A6-49C21478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06E3-9DD9-4D7A-84EE-65603D50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40C8-0155-4309-9162-7D4EB43D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85AEF-C5B0-4B03-ABEC-5CC1E629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806B-EDF0-4116-9C44-28C8E874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BCC0-0547-4003-ABC9-8326E451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6003B-89FB-40A5-A25F-F79D762E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717A-4C5A-4846-8741-944F23F1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17D-17C0-4C64-895B-6C5334F6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3AA2-F086-436B-9D03-858BC66B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D01B-BFAC-453A-909C-E31855E9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42656-0195-4D1D-980A-FB111A4D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A0B3-F2EC-460F-8284-A50BEBB4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E5323-6049-47F0-9F0A-37CC3BF1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35C1-4D72-4376-924B-B8138D8D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440A9-8BFE-486E-B445-A00E6809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C097B-3879-4DE1-922E-8B5B9CDD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8C41-C817-4AE3-82B2-7809C903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93B04-E2A6-4746-956C-78A89B26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402-CF91-43D9-83D7-06BDD531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C34CB-1ED6-4D14-A5FD-9EAE2730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3825-6178-49F1-8E87-648F72CA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00C31-68BE-4356-83C7-DC524335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3987A-DFD9-4107-B4D7-9E1E148B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91046-4FF4-4C82-B6D1-AB57FF8E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192E4-D52D-4B92-A374-95C02B9B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2A013-EDC4-47E3-9433-165A12F0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1C35C-6D9D-4361-BDF8-09D4EDE3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42E36-E9A0-4738-85F9-40CA6817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B597E-D216-43C3-9AF9-88725321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5F4-7F49-4F4E-A68D-17137768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E17AE-8283-424B-976E-77459BA9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2B0C-7BB6-415B-A0F5-6EDD95B3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0F22F-B334-4D63-9EF3-A42F5F1B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8AAD6-6450-47E8-B8AA-B3E836C7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17C07-EEA1-4954-A29A-205CC5A7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08712-6BC9-423A-8184-2A5F9233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318E6-ED7C-45AB-921F-A368CBCD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95F8D-0240-419E-892B-5A00B1D0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84930-AF0A-4180-A2BC-ACF5E8C6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D170F-5FAB-4809-92FD-87DD1B28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4D4-44BC-4B57-9E8F-3B544F55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3189B-DBA9-447B-999A-4B7A4C8C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231-C42E-4646-B506-DB4E845F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816-0D47-4253-A53F-72E2CA3E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85A-44B7-49B3-83BF-FE19DDE3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3793-6905-4811-87A6-0C5F9C3AE2D5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7420-0367-4DDE-A683-17AFF82A111D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3061-4B85-4A3D-8C80-84F7BAD22121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C357-23DC-4B37-BC60-A57CB853223C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460C-4850-4423-AC9A-DF6950A7E89F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ledad.arellano@uai.cl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914040" y="4876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M. Soledad Arellan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Escuela de Gobierno, UA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soledad.arellano@uai.c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4000" spc="-1" strike="noStrike">
                <a:solidFill>
                  <a:srgbClr val="ffffff"/>
                </a:solidFill>
                <a:latin typeface="Franklin Gothic Book"/>
              </a:rPr>
              <a:t>Por que existe la Regulación?</a:t>
            </a:r>
            <a:br>
              <a:rPr sz="48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Por qué existe la regulació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del Interés Publico (NPT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de la Captur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Económica de la Regula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Teoría del Interés Públic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66280" y="17521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R existe porque hay ocasiones en las que la competencia sin restricciones no funciona bie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es el resultado de la demanda pública por corregir una falla de mercado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debiera entonces </a:t>
            </a:r>
            <a:r>
              <a:rPr b="1" i="1" lang="es-CL" sz="2400" spc="-1" strike="noStrike">
                <a:solidFill>
                  <a:srgbClr val="000000"/>
                </a:solidFill>
                <a:latin typeface="Perpetua"/>
              </a:rPr>
              <a:t>aumentar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el bienestar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1. Teoría del Interés Públic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66280" y="17521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R existe porque hay ocasiones en las que la competencia sin restricciones no funciona bie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es el resultado de la demanda pública por corregir una falla de mercado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debiera entonces </a:t>
            </a:r>
            <a:r>
              <a:rPr b="1" i="1" lang="es-CL" sz="2400" spc="-1" strike="noStrike">
                <a:solidFill>
                  <a:srgbClr val="000000"/>
                </a:solidFill>
                <a:latin typeface="Perpetua"/>
              </a:rPr>
              <a:t>aumentar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el bienestar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33520" y="4495680"/>
            <a:ext cx="3504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uando se debiera regular (cuando hay falla de mercad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nálisis Norm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5638680" y="4572000"/>
            <a:ext cx="243864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uando se reg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nálisis Posi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4495680" y="45720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8"/>
          <p:cNvSpPr/>
          <p:nvPr/>
        </p:nvSpPr>
        <p:spPr>
          <a:xfrm rot="5400000">
            <a:off x="1942560" y="4305240"/>
            <a:ext cx="457200" cy="2819160"/>
          </a:xfrm>
          <a:custGeom>
            <a:avLst/>
            <a:gdLst>
              <a:gd name="textAreaLeft" fmla="*/ 0 w 457200"/>
              <a:gd name="textAreaRight" fmla="*/ 164880 w 4572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9"/>
          <p:cNvSpPr/>
          <p:nvPr/>
        </p:nvSpPr>
        <p:spPr>
          <a:xfrm rot="5400000">
            <a:off x="6743160" y="4000320"/>
            <a:ext cx="457200" cy="2819160"/>
          </a:xfrm>
          <a:custGeom>
            <a:avLst/>
            <a:gdLst>
              <a:gd name="textAreaLeft" fmla="*/ 0 w 457200"/>
              <a:gd name="textAreaRight" fmla="*/ 164880 w 4572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del Interés Público: Comentarios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Perpetua"/>
              </a:rPr>
              <a:t>Teoría Incomple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ómo pide la sociedad que se regul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ómo y por que la potencial ganancia social motiva a los legisladores a tomar la decisión correct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Perpetua"/>
              </a:rPr>
              <a:t>No genera una predicción, la asu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ocurre para corregir una falla de mercado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Perpetua"/>
              </a:rPr>
              <a:t>La evidencia no la apoy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rrelación entre R y fallas de mercado es débil e inestable en el tiemp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del Interés Público: Reform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742217"/>
                </a:solidFill>
                <a:latin typeface="Perpetua"/>
              </a:rPr>
              <a:t>“</a:t>
            </a:r>
            <a:r>
              <a:rPr b="1" lang="es-CL" sz="2600" spc="-1" strike="noStrike">
                <a:solidFill>
                  <a:srgbClr val="742217"/>
                </a:solidFill>
                <a:latin typeface="Perpetua"/>
              </a:rPr>
              <a:t>La R ocurre para corregir fallas de mercado pero es posteriormente mal administrada o mal aplicada por el regulador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in embarg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sume hipótesis en vez de generarla: por que es mal administrada por el regulador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un es inconsistente con evidencia de R en mercados sin fallas de mercad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2. Teoría de la Captur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 ocurre en respuesta a una solicitud de la industria como resultado d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industria 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captura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al </a:t>
            </a:r>
            <a:r>
              <a:rPr b="0" i="1" lang="es-CL" sz="2400" spc="-1" strike="noStrike">
                <a:solidFill>
                  <a:srgbClr val="000000"/>
                </a:solidFill>
                <a:latin typeface="Perpetua"/>
              </a:rPr>
              <a:t>legislad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industria 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captura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al </a:t>
            </a:r>
            <a:r>
              <a:rPr b="0" i="1" lang="es-CL" sz="2400" spc="-1" strike="noStrike">
                <a:solidFill>
                  <a:srgbClr val="000000"/>
                </a:solidFill>
                <a:latin typeface="Perpetua"/>
              </a:rPr>
              <a:t>regulad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or “algún” motivo, la autoridad es capturada por la industri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Implicanci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aumenta utilidades de la industr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no promueve el bienestar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de la Captura: Comentarios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Incompleta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mo se produce la captur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or que captura la industria y no los consumidore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sume el resultado (R pro-productor), no lo gener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evidencia no la apoy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a veces pro-productor, a veces pro-consumid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3. 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emisas básicas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ecurso básico del Estado: Poder coercitiv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rupos de interés pueden convencer al Estado de usar su poder coercitivo de modo que los favorezc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gentes son racionale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eligen acciones que maximizan su utilida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Esto aplica tanto a nivel de regulador como de regulado (c/u tiene su propia función objetivo que maximizar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3. 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Enfoqu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Stigler / Peltzman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egislador quiere maximizar apoyo polí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Becker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mpetencia entre grupos de interés determina el resultado de la 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osn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obierno quiere redistribuir riquez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696464"/>
                </a:solidFill>
                <a:latin typeface="Franklin Gothic Book"/>
              </a:rPr>
              <a:t>Enfoque 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R se provee en respuesta a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demandas de grupos de interés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que actúan con el objetivo de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mejorar sus condiciones económica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Motiv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Discusión actual en torno a competencia / regulació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Programas presidencial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emandas de grupos de interés de más / menos regulació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Medio ambientalistas, profesores, sindicatos, empresarios, agricultores, grupos indígenas, 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emisas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 redistribuye riquez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(tb otras cosas, pero esto es lo relevante para R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os legisladores quieren </a:t>
            </a:r>
            <a:r>
              <a:rPr b="0" i="1" lang="es-CL" sz="2400" spc="-1" strike="noStrike">
                <a:solidFill>
                  <a:srgbClr val="742217"/>
                </a:solidFill>
                <a:latin typeface="Perpetua"/>
              </a:rPr>
              <a:t>mantenerse en el pode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buscan max apoyo polí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os grupos de interés compiten entre si en busca de legislación favorable, a cambio de apoyo polí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21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Legisl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5638680" y="33526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Grupos de inte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2819520" y="2286000"/>
            <a:ext cx="2286000" cy="129528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AutoShape 8"/>
          <p:cNvSpPr/>
          <p:nvPr/>
        </p:nvSpPr>
        <p:spPr>
          <a:xfrm rot="10800000">
            <a:off x="3048120" y="4114800"/>
            <a:ext cx="2286000" cy="129528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3048120" y="1828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R favor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30481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Vo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11"/>
          <p:cNvSpPr/>
          <p:nvPr/>
        </p:nvSpPr>
        <p:spPr>
          <a:xfrm>
            <a:off x="7620120" y="2971800"/>
            <a:ext cx="838080" cy="1981080"/>
          </a:xfrm>
          <a:custGeom>
            <a:avLst/>
            <a:gdLst>
              <a:gd name="textAreaLeft" fmla="*/ 112320 w 838080"/>
              <a:gd name="textAreaRight" fmla="*/ 725760 w 83808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Grupos de interés más activos en pedir R son aquello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uyos integrantes ganan más en términos individual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Beneficio per cápita es el que induce a participar e invertir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 mayor beneficio, más dispuestos a invertir en conseguir apoyo político (votos y $); menos free rid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rupos de i mejor organizad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ás efectivos en organizar apoyo polític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lebiscito Vitacura / Elecciones parlamentari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egulación estará sesgada en beneficio de grupos de interé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uyos integrantes ganan más en términos individual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Grupos de i mejor organizado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48080" indent="-20772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La R tiende a beneficiar a grupos </a:t>
            </a:r>
            <a:r>
              <a:rPr b="1" lang="es-CL" sz="2400" spc="-1" strike="noStrike">
                <a:solidFill>
                  <a:srgbClr val="742217"/>
                </a:solidFill>
                <a:latin typeface="Perpetua"/>
              </a:rPr>
              <a:t>pequeños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 con </a:t>
            </a:r>
            <a:r>
              <a:rPr b="1" lang="es-CL" sz="2400" spc="-1" strike="noStrike">
                <a:solidFill>
                  <a:srgbClr val="742217"/>
                </a:solidFill>
                <a:latin typeface="Perpetua"/>
              </a:rPr>
              <a:t>fuertes preferencias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 (sobre el resultado de la R) a costa de grandes grupos con preferencias mas débil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tendemos por que usualmente R favorece al productor, pero permite que también proteja al consumid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4 Conector recto"/>
          <p:cNvSpPr/>
          <p:nvPr/>
        </p:nvSpPr>
        <p:spPr>
          <a:xfrm flipH="1">
            <a:off x="1523520" y="1828800"/>
            <a:ext cx="1800" cy="2514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6 Conector recto"/>
          <p:cNvSpPr/>
          <p:nvPr/>
        </p:nvSpPr>
        <p:spPr>
          <a:xfrm>
            <a:off x="1523880" y="4343400"/>
            <a:ext cx="411480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7 Arco"/>
          <p:cNvSpPr/>
          <p:nvPr/>
        </p:nvSpPr>
        <p:spPr>
          <a:xfrm>
            <a:off x="1905120" y="2590920"/>
            <a:ext cx="3200400" cy="3657600"/>
          </a:xfrm>
          <a:custGeom>
            <a:avLst/>
            <a:gdLst>
              <a:gd name="textAreaLeft" fmla="*/ 360 w 3200400"/>
              <a:gd name="textAreaRight" fmla="*/ 3199680 w 3200400"/>
              <a:gd name="textAreaTop" fmla="*/ 0 h 3657600"/>
              <a:gd name="textAreaBottom" fmla="*/ 1777680 h 3657600"/>
            </a:gdLst>
            <a:ahLst/>
            <a:rect l="textAreaLeft" t="textAreaTop" r="textAreaRight" b="textAreaBottom"/>
            <a:pathLst>
              <a:path stroke="0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  <a:lnTo>
                  <a:pt x="1600200" y="1828800"/>
                </a:lnTo>
                <a:close/>
              </a:path>
              <a:path fill="none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9 CuadroTexto"/>
          <p:cNvSpPr/>
          <p:nvPr/>
        </p:nvSpPr>
        <p:spPr>
          <a:xfrm>
            <a:off x="1676520" y="4419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14 Arco"/>
          <p:cNvSpPr/>
          <p:nvPr/>
        </p:nvSpPr>
        <p:spPr>
          <a:xfrm rot="6783600">
            <a:off x="1558800" y="1590480"/>
            <a:ext cx="1911600" cy="1670400"/>
          </a:xfrm>
          <a:custGeom>
            <a:avLst/>
            <a:gdLst>
              <a:gd name="textAreaLeft" fmla="*/ 470880 w 1911600"/>
              <a:gd name="textAreaRight" fmla="*/ 1911960 w 1911600"/>
              <a:gd name="textAreaTop" fmla="*/ 0 h 1670400"/>
              <a:gd name="textAreaBottom" fmla="*/ 1290960 h 167040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15 Arco"/>
          <p:cNvSpPr/>
          <p:nvPr/>
        </p:nvSpPr>
        <p:spPr>
          <a:xfrm rot="6783600">
            <a:off x="1405800" y="1209240"/>
            <a:ext cx="1911240" cy="1670040"/>
          </a:xfrm>
          <a:custGeom>
            <a:avLst/>
            <a:gdLst>
              <a:gd name="textAreaLeft" fmla="*/ 470520 w 1911240"/>
              <a:gd name="textAreaRight" fmla="*/ 1911600 w 1911240"/>
              <a:gd name="textAreaTop" fmla="*/ 0 h 1670040"/>
              <a:gd name="textAreaBottom" fmla="*/ 1290960 h 167004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17 Conector recto"/>
          <p:cNvSpPr/>
          <p:nvPr/>
        </p:nvSpPr>
        <p:spPr>
          <a:xfrm flipH="1">
            <a:off x="2743200" y="2819520"/>
            <a:ext cx="1440" cy="15238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18 CuadroTexto"/>
          <p:cNvSpPr/>
          <p:nvPr/>
        </p:nvSpPr>
        <p:spPr>
          <a:xfrm>
            <a:off x="68580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∏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19 CuadroTexto"/>
          <p:cNvSpPr/>
          <p:nvPr/>
        </p:nvSpPr>
        <p:spPr>
          <a:xfrm>
            <a:off x="6019920" y="1523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M( P, ∏(P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  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4 Conector recto"/>
          <p:cNvSpPr/>
          <p:nvPr/>
        </p:nvSpPr>
        <p:spPr>
          <a:xfrm flipH="1">
            <a:off x="1523520" y="1828800"/>
            <a:ext cx="1800" cy="2514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6 Conector recto"/>
          <p:cNvSpPr/>
          <p:nvPr/>
        </p:nvSpPr>
        <p:spPr>
          <a:xfrm>
            <a:off x="1523880" y="4343400"/>
            <a:ext cx="411480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7 Arco"/>
          <p:cNvSpPr/>
          <p:nvPr/>
        </p:nvSpPr>
        <p:spPr>
          <a:xfrm>
            <a:off x="1905120" y="2590920"/>
            <a:ext cx="3200400" cy="3657600"/>
          </a:xfrm>
          <a:custGeom>
            <a:avLst/>
            <a:gdLst>
              <a:gd name="textAreaLeft" fmla="*/ 360 w 3200400"/>
              <a:gd name="textAreaRight" fmla="*/ 3199680 w 3200400"/>
              <a:gd name="textAreaTop" fmla="*/ 0 h 3657600"/>
              <a:gd name="textAreaBottom" fmla="*/ 1777680 h 3657600"/>
            </a:gdLst>
            <a:ahLst/>
            <a:rect l="textAreaLeft" t="textAreaTop" r="textAreaRight" b="textAreaBottom"/>
            <a:pathLst>
              <a:path stroke="0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  <a:lnTo>
                  <a:pt x="1600200" y="1828800"/>
                </a:lnTo>
                <a:close/>
              </a:path>
              <a:path fill="none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9 CuadroTexto"/>
          <p:cNvSpPr/>
          <p:nvPr/>
        </p:nvSpPr>
        <p:spPr>
          <a:xfrm>
            <a:off x="1676520" y="4419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14 Arco"/>
          <p:cNvSpPr/>
          <p:nvPr/>
        </p:nvSpPr>
        <p:spPr>
          <a:xfrm rot="6783600">
            <a:off x="1558800" y="1590480"/>
            <a:ext cx="1911600" cy="1670400"/>
          </a:xfrm>
          <a:custGeom>
            <a:avLst/>
            <a:gdLst>
              <a:gd name="textAreaLeft" fmla="*/ 470880 w 1911600"/>
              <a:gd name="textAreaRight" fmla="*/ 1911960 w 1911600"/>
              <a:gd name="textAreaTop" fmla="*/ 0 h 1670400"/>
              <a:gd name="textAreaBottom" fmla="*/ 1290960 h 167040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15 Arco"/>
          <p:cNvSpPr/>
          <p:nvPr/>
        </p:nvSpPr>
        <p:spPr>
          <a:xfrm rot="6783600">
            <a:off x="1405800" y="1209240"/>
            <a:ext cx="1911240" cy="1670040"/>
          </a:xfrm>
          <a:custGeom>
            <a:avLst/>
            <a:gdLst>
              <a:gd name="textAreaLeft" fmla="*/ 470520 w 1911240"/>
              <a:gd name="textAreaRight" fmla="*/ 1911600 w 1911240"/>
              <a:gd name="textAreaTop" fmla="*/ 0 h 1670040"/>
              <a:gd name="textAreaBottom" fmla="*/ 1290960 h 167004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17 Conector recto"/>
          <p:cNvSpPr/>
          <p:nvPr/>
        </p:nvSpPr>
        <p:spPr>
          <a:xfrm flipH="1">
            <a:off x="2743200" y="2819520"/>
            <a:ext cx="1440" cy="15238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18 CuadroTexto"/>
          <p:cNvSpPr/>
          <p:nvPr/>
        </p:nvSpPr>
        <p:spPr>
          <a:xfrm>
            <a:off x="68580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∏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19 CuadroTexto"/>
          <p:cNvSpPr/>
          <p:nvPr/>
        </p:nvSpPr>
        <p:spPr>
          <a:xfrm>
            <a:off x="6019920" y="1523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M( P, ∏(P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  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20 CuadroTexto"/>
          <p:cNvSpPr/>
          <p:nvPr/>
        </p:nvSpPr>
        <p:spPr>
          <a:xfrm>
            <a:off x="6095880" y="2590920"/>
            <a:ext cx="26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tar qu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S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~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es poco probable que se reg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4 Conector recto"/>
          <p:cNvSpPr/>
          <p:nvPr/>
        </p:nvSpPr>
        <p:spPr>
          <a:xfrm flipH="1">
            <a:off x="1523520" y="1828800"/>
            <a:ext cx="1800" cy="2514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6 Conector recto"/>
          <p:cNvSpPr/>
          <p:nvPr/>
        </p:nvSpPr>
        <p:spPr>
          <a:xfrm>
            <a:off x="1523880" y="4343400"/>
            <a:ext cx="411480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7 Arco"/>
          <p:cNvSpPr/>
          <p:nvPr/>
        </p:nvSpPr>
        <p:spPr>
          <a:xfrm>
            <a:off x="1905120" y="2590920"/>
            <a:ext cx="3200400" cy="3657600"/>
          </a:xfrm>
          <a:custGeom>
            <a:avLst/>
            <a:gdLst>
              <a:gd name="textAreaLeft" fmla="*/ 360 w 3200400"/>
              <a:gd name="textAreaRight" fmla="*/ 3199680 w 3200400"/>
              <a:gd name="textAreaTop" fmla="*/ 0 h 3657600"/>
              <a:gd name="textAreaBottom" fmla="*/ 1777680 h 3657600"/>
            </a:gdLst>
            <a:ahLst/>
            <a:rect l="textAreaLeft" t="textAreaTop" r="textAreaRight" b="textAreaBottom"/>
            <a:pathLst>
              <a:path stroke="0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  <a:lnTo>
                  <a:pt x="1600200" y="1828800"/>
                </a:lnTo>
                <a:close/>
              </a:path>
              <a:path fill="none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9 CuadroTexto"/>
          <p:cNvSpPr/>
          <p:nvPr/>
        </p:nvSpPr>
        <p:spPr>
          <a:xfrm>
            <a:off x="1676520" y="4419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14 Arco"/>
          <p:cNvSpPr/>
          <p:nvPr/>
        </p:nvSpPr>
        <p:spPr>
          <a:xfrm rot="6783600">
            <a:off x="1558800" y="1590480"/>
            <a:ext cx="1911600" cy="1670400"/>
          </a:xfrm>
          <a:custGeom>
            <a:avLst/>
            <a:gdLst>
              <a:gd name="textAreaLeft" fmla="*/ 470880 w 1911600"/>
              <a:gd name="textAreaRight" fmla="*/ 1911960 w 1911600"/>
              <a:gd name="textAreaTop" fmla="*/ 0 h 1670400"/>
              <a:gd name="textAreaBottom" fmla="*/ 1290960 h 167040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15 Arco"/>
          <p:cNvSpPr/>
          <p:nvPr/>
        </p:nvSpPr>
        <p:spPr>
          <a:xfrm rot="6783600">
            <a:off x="1405800" y="1209240"/>
            <a:ext cx="1911240" cy="1670040"/>
          </a:xfrm>
          <a:custGeom>
            <a:avLst/>
            <a:gdLst>
              <a:gd name="textAreaLeft" fmla="*/ 470520 w 1911240"/>
              <a:gd name="textAreaRight" fmla="*/ 1911600 w 1911240"/>
              <a:gd name="textAreaTop" fmla="*/ 0 h 1670040"/>
              <a:gd name="textAreaBottom" fmla="*/ 1290960 h 167004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17 Conector recto"/>
          <p:cNvSpPr/>
          <p:nvPr/>
        </p:nvSpPr>
        <p:spPr>
          <a:xfrm flipH="1">
            <a:off x="2743200" y="2819520"/>
            <a:ext cx="1440" cy="15238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18 CuadroTexto"/>
          <p:cNvSpPr/>
          <p:nvPr/>
        </p:nvSpPr>
        <p:spPr>
          <a:xfrm>
            <a:off x="68580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∏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19 CuadroTexto"/>
          <p:cNvSpPr/>
          <p:nvPr/>
        </p:nvSpPr>
        <p:spPr>
          <a:xfrm>
            <a:off x="6019920" y="1523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M( P, ∏(P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  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20 CuadroTexto"/>
          <p:cNvSpPr/>
          <p:nvPr/>
        </p:nvSpPr>
        <p:spPr>
          <a:xfrm>
            <a:off x="6095880" y="2590920"/>
            <a:ext cx="26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tar qu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S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~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es poco probable que se reg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21 CuadroTexto"/>
          <p:cNvSpPr/>
          <p:nvPr/>
        </p:nvSpPr>
        <p:spPr>
          <a:xfrm>
            <a:off x="990720" y="502920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Industrias que mas ganan con R s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- Relativamente competitivas (gana product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- Relativamente monopólicas (gana consumid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Otros Enfoques: Becker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91400" indent="-4914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mpetencia entre grupos de interés es lo que determina el resultado de la 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o relevante es la presión relativa que ejercen los grup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ransferencia de Riqueza = Influencia (Presión 1, Presión 2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sión ejercida depende de P-i , costo de ejercer y beneficio esperad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sión ejercida: Juego con Complementos estratégico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91400" indent="-4914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o considera función objetivo del regulad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1400" indent="-4914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sultado importante: Políticas que aumentan bienestar tienen mayor probabilidad de ser implementad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a justificación teórica a NPT (pero Becker NO plantea que R solo responde a fallas de mercad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Otros Enfoques: Posner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emis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44560" indent="-5716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obierno quiere redistribuir riquez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44560" indent="-5716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 permite al gobierno lograr objetivos redistributiv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119240" indent="-5716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ubsidios cruzado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119240" indent="-5716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sistente con Becker (subsidios cruzados pueden ser explicados como el resultado de la competencia entre grupos de intere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incipales Resultad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ndencia a regular a favor de grupos pequeños con fuertes preferenci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os consumidores de algún modo restringen a la autoridad (P &lt; P</a:t>
            </a:r>
            <a:r>
              <a:rPr b="0" lang="es-CL" sz="26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 mas frecuente en industrias muy competitivas o con muchos problemas de poder de mercad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alla de mercad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R mas probab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Motiv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Discusión actual en torno a competencia / regulació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Programas presidencial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emandas de grupos de interés de más / menos regulació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Medio ambientalistas, profesores, sindicatos, empresarios, agricultores, grupos indígenas, 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Qué sectores esperar que se regule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 </a:t>
            </a: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A qué peticiones acceder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A quién favorecerá la regulació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incipales Resultad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ndencia a regular a favor de grupos pequeños con fuertes preferenci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os consumidores de algún modo restringen a la autoridad (P &lt; P</a:t>
            </a:r>
            <a:r>
              <a:rPr b="0" lang="es-CL" sz="26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 mas frecuente en industrias muy competitivas o con muchos problemas de poder de mercad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alla de mercad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R mas probab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3 CuadroTexto"/>
          <p:cNvSpPr/>
          <p:nvPr/>
        </p:nvSpPr>
        <p:spPr>
          <a:xfrm>
            <a:off x="1066680" y="510552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b2d1f"/>
                </a:solidFill>
                <a:latin typeface="Perpetua"/>
              </a:rPr>
              <a:t>TER es una contribución importante a la comprensión de la intervención del Gobierno pero aun existe evidencia empírica inconsistente con 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4 CuadroTexto"/>
          <p:cNvSpPr/>
          <p:nvPr/>
        </p:nvSpPr>
        <p:spPr>
          <a:xfrm>
            <a:off x="3276720" y="365760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gislador hace lo que quiere el grupo de in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7 Flecha arriba"/>
          <p:cNvSpPr/>
          <p:nvPr/>
        </p:nvSpPr>
        <p:spPr>
          <a:xfrm>
            <a:off x="434340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4 CuadroTexto"/>
          <p:cNvSpPr/>
          <p:nvPr/>
        </p:nvSpPr>
        <p:spPr>
          <a:xfrm>
            <a:off x="3276720" y="365760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gislador hace lo que quiere el grupo de in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5 CuadroTexto"/>
          <p:cNvSpPr/>
          <p:nvPr/>
        </p:nvSpPr>
        <p:spPr>
          <a:xfrm>
            <a:off x="6248520" y="3809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gulador hace lo que dice la 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7 Flecha arriba"/>
          <p:cNvSpPr/>
          <p:nvPr/>
        </p:nvSpPr>
        <p:spPr>
          <a:xfrm>
            <a:off x="434340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8 Flecha arriba"/>
          <p:cNvSpPr/>
          <p:nvPr/>
        </p:nvSpPr>
        <p:spPr>
          <a:xfrm>
            <a:off x="701028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4 CuadroTexto"/>
          <p:cNvSpPr/>
          <p:nvPr/>
        </p:nvSpPr>
        <p:spPr>
          <a:xfrm>
            <a:off x="3276720" y="365760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gislador hace lo que quiere el grupo de in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5 CuadroTexto"/>
          <p:cNvSpPr/>
          <p:nvPr/>
        </p:nvSpPr>
        <p:spPr>
          <a:xfrm>
            <a:off x="6248520" y="3809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gulador hace lo que dice la 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7 Flecha arriba"/>
          <p:cNvSpPr/>
          <p:nvPr/>
        </p:nvSpPr>
        <p:spPr>
          <a:xfrm>
            <a:off x="434340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8 Flecha arriba"/>
          <p:cNvSpPr/>
          <p:nvPr/>
        </p:nvSpPr>
        <p:spPr>
          <a:xfrm>
            <a:off x="701028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9 CuadroTexto"/>
          <p:cNvSpPr/>
          <p:nvPr/>
        </p:nvSpPr>
        <p:spPr>
          <a:xfrm>
            <a:off x="762120" y="5029200"/>
            <a:ext cx="7772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n embarg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egislador tiene multiples objetivos (ideologi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nitoreo imperfecto de lo que hace el legisl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mplementacion de la R a veces difiere de lo que dice la 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Grupos de interes no controlan totalmente al regulador / legisl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Comentarios Final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n estas elecciones, a quienes deberían beneficiar las propuestas electoral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ducación: Estudiantes / Profesores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edio ambientalistas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rupos indígen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Que propuestas presidenciales son mas “importantes”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s este un buen momento para hacer reforma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Agend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n que consiste la Regulación?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gularidades empíricas en Regula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or que existe la regulació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Que le pedimos  a la teoría de la regulación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osibles explicacion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eoría del Interés Public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eoría de la Captur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eoría Económica de la Regulació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Que esperamos que pase con la regulación entonc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96464"/>
                </a:solidFill>
                <a:latin typeface="Franklin Gothic Book"/>
              </a:rPr>
              <a:t>Que es Regulación?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44560" indent="-571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96464"/>
                </a:solidFill>
                <a:latin typeface="Franklin Gothic Book"/>
              </a:rPr>
              <a:t>Que es Regulación?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gulación es mucho más que fijar precio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Incluye definición de estándares y en general definición de “reglas del juego” que deben cumplir las empres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FP: reglas de inversión, estándares de entrega de informació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léctrico: definición de estándares de calidad (tensión, voltaj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Bancos: requisitos de capital mínim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ducación: Estatuto doce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gulación económica / Regulación Soc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Evidencia Empírica de Regul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Correlación entre R y fallas de mercado es débil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R no es estable en el tiempo; “Olas Regulatorias”. Ejempl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EUU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Ferrocarriles R 1887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 DR en 198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Aerolíneas: R 1938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 DR 1978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Chi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Transmisión eléctrica: DR 1982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 R 200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Telecomunicaciones (larga distancia / telefonía fija)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Sector financiero!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Evidencia Empírica de Regul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Hay grupos de interés que se benefician de la 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A veces pro-productor ; a veces pro-consumidor ; a veces pequeño productor / gran product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istencia de subsidios cruzad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Cambios en el énfasis de la regulació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- Regulación económica / + Regulación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96464"/>
                </a:solidFill>
                <a:latin typeface="Franklin Gothic Book"/>
              </a:rPr>
              <a:t>Que le pedimos a la Teoría de la Regulación?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Teoría de la Regulación debe cumplir al menos los siguientes requisito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nsistencia con evidencia empír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étodo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upuestos de comportamiento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 Hipótesis testeables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4:00:20Z</dcterms:created>
  <dc:creator>Maria-Soledad Arellano</dc:creator>
  <dc:description/>
  <dc:language>en-US</dc:language>
  <cp:lastModifiedBy>Auditorio</cp:lastModifiedBy>
  <dcterms:modified xsi:type="dcterms:W3CDTF">2009-09-21T17:30:45Z</dcterms:modified>
  <cp:revision>75</cp:revision>
  <dc:subject/>
  <dc:title>FUNDAMENTOS DE ORGANIZACION INDUSTRIAL</dc:title>
</cp:coreProperties>
</file>