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307C-69E7-4AD9-94DF-C2F680D67B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B599-3D18-4671-A0A1-6478F106AE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E7A1-0260-44A3-8A67-C1F80F9143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1BEE-C4A5-4374-813B-3E9376F391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456-7AB1-44FC-AE82-98D8F19E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7B1-818F-46DC-9383-2CAE88C4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F4A-4108-496A-9C92-28747D6E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953-AFD8-4FC9-861F-A3A95A5A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3B3-9F74-4237-A330-7D9B6E63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D27-DBBD-4521-94E9-2D5AA199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03D-F888-42E6-A4E3-2FFFBF03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082-FB61-463D-94A7-9103714A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23F-5394-4EC4-82CF-AF1D55FE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306-B57A-44E2-9C16-2881B32B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964-396C-4192-A2C8-B2305835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67C-920C-4AFD-8A27-97FA83E5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767D-58FF-40B7-9E93-BFCB6A7A59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E00E-6AE2-44AB-863D-3089DE2A28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50800"/>
            <a:ext cx="842472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lan de Acción se estructura en torno a tres grand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. Sistema Político, derechos e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1. Sistema político y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2.  Institucional y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 Desarrollo Integral de los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1. Tierras y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2. Desarrollo económico y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3. Educación, salud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4. Especificidad de los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. Multiculturalidad y di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1. 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2. Multiculturalidad en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3. Gestión del desarrollo integrado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B61F-2C93-484F-B973-173387D85F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una narrativa sobre la política aprob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tactos sistemáticos con actores relevantes para difundir la polít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sociedad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gles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lamen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tid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adé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smo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os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r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res de gobierno ministeriales, de servicios,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A7CB-857E-48AE-8B27-3D9B4AC460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lan de trabajo para aplicar la política definida: identificar acciones, responsables, productos a generar, plazos, condiciones de satisfacción a alcanza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equipo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stitucional a diversos nive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ADI, Programa Orí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terminis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A4CA-A6AF-4F78-AD2F-77CC5398AC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esquema de trabajo de gobernabi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tores, intereses, iniciativas a desarrollar con cada uno, preparación de programas de acción, puesta en marcha de los mis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recursos presupuestarios para equipo de coordinación y para programas que entregarán soluciones a problemas u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E1C3-8F7C-408E-A1EC-30CD1D7971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2987640" y="652464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TORN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7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8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iagram 2"/>
          <p:cNvGrpSpPr/>
          <p:nvPr/>
        </p:nvGrpSpPr>
        <p:grpSpPr>
          <a:xfrm>
            <a:off x="1187280" y="-162000"/>
            <a:ext cx="7305840" cy="6681960"/>
            <a:chOff x="1187280" y="-162000"/>
            <a:chExt cx="7305840" cy="6681960"/>
          </a:xfrm>
        </p:grpSpPr>
        <p:sp>
          <p:nvSpPr>
            <p:cNvPr id="92" name="_s1028"/>
            <p:cNvSpPr/>
            <p:nvPr/>
          </p:nvSpPr>
          <p:spPr>
            <a:xfrm>
              <a:off x="1187280" y="693720"/>
              <a:ext cx="5999400" cy="5826240"/>
            </a:xfrm>
            <a:prstGeom prst="donut">
              <a:avLst>
                <a:gd name="adj" fmla="val 12500"/>
              </a:avLst>
            </a:prstGeom>
            <a:solidFill>
              <a:srgbClr val="ff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7392960" y="2766960"/>
              <a:ext cx="1100160" cy="180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-47880" bIns="-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>
              <a:off x="2536920" y="1859040"/>
              <a:ext cx="3154320" cy="3025800"/>
            </a:xfrm>
            <a:prstGeom prst="donut">
              <a:avLst>
                <a:gd name="adj" fmla="val 2500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7392960" y="569880"/>
              <a:ext cx="1100160" cy="733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3287520" y="2532240"/>
              <a:ext cx="1643040" cy="166500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7392960" y="-162000"/>
              <a:ext cx="1100160" cy="73188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1765080" y="3503520"/>
              <a:ext cx="17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Organizaciones y dirigente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3060720" y="5111640"/>
              <a:ext cx="23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REG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3265560" y="5904000"/>
              <a:ext cx="209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3357360" y="4348080"/>
              <a:ext cx="157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1765080" y="1741680"/>
              <a:ext cx="172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EMPRES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1333440" y="4633920"/>
              <a:ext cx="15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ARL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5449680" y="422280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1338120" y="2160720"/>
              <a:ext cx="240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INSTITUCIONES PRIVA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2255760" y="4118040"/>
              <a:ext cx="18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la CONA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3968640" y="136836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DE COMUN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0"/>
            <p:cNvSpPr/>
            <p:nvPr/>
          </p:nvSpPr>
          <p:spPr>
            <a:xfrm>
              <a:off x="3492360" y="2951280"/>
              <a:ext cx="129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Comisionado Presidencial para Asunto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1"/>
            <p:cNvSpPr/>
            <p:nvPr/>
          </p:nvSpPr>
          <p:spPr>
            <a:xfrm>
              <a:off x="1692360" y="273528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2"/>
            <p:cNvSpPr/>
            <p:nvPr/>
          </p:nvSpPr>
          <p:spPr>
            <a:xfrm>
              <a:off x="1346040" y="23511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entros de pens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2209680" y="246060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NG Indigen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>
              <a:off x="2282760" y="295128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Igles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5"/>
            <p:cNvSpPr/>
            <p:nvPr/>
          </p:nvSpPr>
          <p:spPr>
            <a:xfrm>
              <a:off x="5510160" y="45496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>
              <a:off x="4932360" y="3181320"/>
              <a:ext cx="21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Bell MT"/>
                </a:rPr>
                <a:t>GOBI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7"/>
            <p:cNvSpPr/>
            <p:nvPr/>
          </p:nvSpPr>
          <p:spPr>
            <a:xfrm>
              <a:off x="1622520" y="5067360"/>
              <a:ext cx="17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concer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8"/>
            <p:cNvSpPr/>
            <p:nvPr/>
          </p:nvSpPr>
          <p:spPr>
            <a:xfrm>
              <a:off x="1549440" y="484992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Alian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9"/>
            <p:cNvSpPr/>
            <p:nvPr/>
          </p:nvSpPr>
          <p:spPr>
            <a:xfrm>
              <a:off x="1765080" y="52689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certación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0"/>
            <p:cNvSpPr/>
            <p:nvPr/>
          </p:nvSpPr>
          <p:spPr>
            <a:xfrm>
              <a:off x="2916360" y="949320"/>
              <a:ext cx="17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 Interag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1"/>
            <p:cNvSpPr/>
            <p:nvPr/>
          </p:nvSpPr>
          <p:spPr>
            <a:xfrm>
              <a:off x="3924360" y="115236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2"/>
            <p:cNvSpPr/>
            <p:nvPr/>
          </p:nvSpPr>
          <p:spPr>
            <a:xfrm>
              <a:off x="2484360" y="792000"/>
              <a:ext cx="171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Grupo de trabaj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3"/>
            <p:cNvSpPr/>
            <p:nvPr/>
          </p:nvSpPr>
          <p:spPr>
            <a:xfrm>
              <a:off x="1981080" y="64764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operación 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4"/>
            <p:cNvSpPr/>
            <p:nvPr/>
          </p:nvSpPr>
          <p:spPr>
            <a:xfrm>
              <a:off x="5221080" y="15843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5"/>
            <p:cNvSpPr/>
            <p:nvPr/>
          </p:nvSpPr>
          <p:spPr>
            <a:xfrm>
              <a:off x="4573440" y="172728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6"/>
            <p:cNvSpPr/>
            <p:nvPr/>
          </p:nvSpPr>
          <p:spPr>
            <a:xfrm>
              <a:off x="3938400" y="187164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Lo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7"/>
            <p:cNvSpPr/>
            <p:nvPr/>
          </p:nvSpPr>
          <p:spPr>
            <a:xfrm>
              <a:off x="2844720" y="266400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ASESORÍA ESTRATÉ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8"/>
            <p:cNvSpPr/>
            <p:nvPr/>
          </p:nvSpPr>
          <p:spPr>
            <a:xfrm>
              <a:off x="5724360" y="282096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Minis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9"/>
            <p:cNvSpPr/>
            <p:nvPr/>
          </p:nvSpPr>
          <p:spPr>
            <a:xfrm>
              <a:off x="5508720" y="2664000"/>
              <a:ext cx="180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dades ministe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0"/>
            <p:cNvSpPr/>
            <p:nvPr/>
          </p:nvSpPr>
          <p:spPr>
            <a:xfrm>
              <a:off x="5076720" y="338472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s indígena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1"/>
            <p:cNvSpPr/>
            <p:nvPr/>
          </p:nvSpPr>
          <p:spPr>
            <a:xfrm>
              <a:off x="4645080" y="47512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4860720" y="3168720"/>
              <a:ext cx="2303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3"/>
            <p:cNvSpPr/>
            <p:nvPr/>
          </p:nvSpPr>
          <p:spPr>
            <a:xfrm>
              <a:off x="1908000" y="3902040"/>
              <a:ext cx="164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4"/>
            <p:cNvSpPr/>
            <p:nvPr/>
          </p:nvSpPr>
          <p:spPr>
            <a:xfrm>
              <a:off x="3852720" y="503280"/>
              <a:ext cx="201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RELACIONES 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9"/>
          <p:cNvSpPr/>
          <p:nvPr/>
        </p:nvSpPr>
        <p:spPr>
          <a:xfrm>
            <a:off x="5832360" y="0"/>
            <a:ext cx="331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quema de gobernabilidad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9760-EBDB-497D-A99D-9E427F4D6B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re-establecimiento del diálogo con las organiz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organizaciones y diri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 demandas y establecer mecanismo de res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r mecanismo institucionalizados de 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paración de los primeros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imiento de alianzas cla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con Agencias de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162E-597C-4301-9AA6-03A3A56E45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ácticas recurrentes de coord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ciones que respondan a problemas críticos y los soluc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primeros productos en cada área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político – instituc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venio 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 de ley de Subsecreta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ejo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ctivo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DBFE-80B6-4637-906C-5586EBB572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desarrollo integral de los pueb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 : 115 comunidades prior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s de infraestructura vial, agua, electrificación,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 económicos – productivos. Coordinación con diversos servicios de Minagri, Econo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esión en programa de salud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educacional : Becas y educación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mandas específicas de cada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6BF5-FC6F-4440-8596-C3536744A3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multiculturalidad y 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inversiones en tierra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mensión regional del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de trabajo con diversos 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Marco con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resupuesto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legislativa para agend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EC49-5210-4AAD-A8E5-4890D3C9BD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y promulgación del Convenio 16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difusión del convenio y de su forma de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indígena sobre proyecto de participación política y consejo de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sobre el proceso de consulta y 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isita del Relator Especial de Naciones Unidas para Pueblos Indíge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tecedentes a la vis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e preliminar pos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13A1-F0F2-4321-968C-AFF53AE2A8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700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isis política por demandas no resuel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remento de la confli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uelga de hambre de deten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estudiante  en predio recla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crítica de avances gubernamen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rgencia de enfrentar situación con enfoque de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EC18-3988-4A5C-8040-6EE764D237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negociación de 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vances en compras para las 1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sos especiales y comunidades en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proyectos de inversión en tierr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 de Código de Conducta Respon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pública; decisión de bajar la pro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 de re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en general en el Se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consult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556C-7F26-4D6F-9F8B-26DCE7B810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vilizaciones de comunidades porque no hay solución inmediata a sus deman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ursiones en predios dema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s violentos contra camiones y bus de pasaj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as específicos de conflictos parciales: aeropuerto de Temuco, subsidios 20b declarados ilegales, problemas del trigo, lentitud de programa Orígenes, construcción de nuevos hogares universi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ón gubernamental ante tales manifes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Jaime Mendoza Collio durante la ocupación de un pr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A72C-D109-4A41-B58E-E6B8A7BF6C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entorno político de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pro-activo en implementación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plitud de agenda que permite discusión pública de divers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as expectativas generadas en comunidades producto de promesas de cumplimiento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cial lentitud en implementación de diversas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as puntuales que sumados permiten articulación de grupos des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levancia de los temas de seguridad en la política pública. El conflicto mapuche se debe controlar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6FB0-8A08-4360-8A71-D10E089F53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entorno político de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confianza creciente de dirigencia indígena frente a la posibilidad de concretar propuestas que enfrentan tres problemas bás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frente a 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íodo preelectoral, con poca claridad programática frente a la forma en que se encararán las demandas indíge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obligado a reaccionar de forma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en responsable y en contenidos de enfoque y de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1CC8-E4EE-4188-983A-B318228E81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lgunas 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truir políticas públicas es una tarea compl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basta con definir los contenidos; la política se juega en su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rea central para el éxito es construirle gober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novar en políticas es más complejo que iniciar una política nue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íticas que requieren rediseños institucionales enfrentan dificultades adi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s son fundamen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iabilidad de política depende de relevancia que tenga para el máximo nivel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lemas transversales requieren acciones especiales para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146B-6BF7-4FF1-A913-E8112219D3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iseño de bases para la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os avances en los programas vi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 institucionalidad responsable: MIDEPLAN, CONADI, otros ministe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su relevanci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7784-339A-4B5E-AFB6-946F761E6D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edidas ini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titución de Comité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gociación de temas coyunturales urgentes ( huelga de hamb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amiento de una autoridad polític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cargo político en fase de transi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lticultur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nocimiento de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E2A6-3167-4694-8AD6-E1FE2B0A53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ensaje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calizar el sentido de la interve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eño del plan de trabajo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instituciones y procesos a 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lección de 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, escuchar, escu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DFC9-13AC-4046-8094-999C41C29F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problemas de urgente s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denar actores gubernamentales de nivel ministerial y reg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r proceso para establecer bases de gobernabilidad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r propuesta de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AC12-BFBC-4B4F-982F-6492E77C49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Fase de diseño de la política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r pertinencia, relevancia, eficacia de la política en diseñ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steo preliminar con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y aprob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puesta en escena pública de l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82F2-027D-4B85-96BC-E944E3FE26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política</a:t>
            </a:r>
            <a:br>
              <a:rPr sz="3200"/>
            </a:b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conocer: Pacto social por la multiculturalidad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logros alcan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valuación de la sit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desafíos a enfr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objetivos a alcan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opuesta de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quema de gobern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37D5-4F9C-4947-9E2B-84985F66FA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ambios de enf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840" y="155556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deraba el tema indígena como una cuestión de pobreza y marginalidad; el cambio de enfoque debe llevar a considerarlo un asunto referido a derechos de los pueblos indígen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mucho tiempo se consideró a los indígenas como un asunto exclusivamente concerniente al gobierno; es un tema de toda la soc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se intentaba centralizar en una repartición del gobierno los temas indígenas; actualmente se busca transversalizarlos e institucionalizarlo en toda la estructura esta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lantea la construcción de espacios de diálogo con visiones consensuadas, acuerdos y compromisos para la implementación de la participación de los pueblos indígenas y la adecuación plena de nuestra organización para la aplicación del Convenio 1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usca construir la multiculturalidad entendida como respeto a la diferencia con igualdad de derechos, en el marco de una sociedad democrática en la que varias culturas se dan cita en un espacio físico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5:08:21Z</dcterms:created>
  <dc:creator>regana</dc:creator>
  <dc:description/>
  <dc:language>en-US</dc:language>
  <cp:lastModifiedBy>Auditorio</cp:lastModifiedBy>
  <dcterms:modified xsi:type="dcterms:W3CDTF">2009-10-05T17:38:12Z</dcterms:modified>
  <cp:revision>58</cp:revision>
  <dc:subject/>
  <dc:title>Diapositiva 1</dc:title>
</cp:coreProperties>
</file>