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8.png" ContentType="image/png"/>
  <Override PartName="/ppt/media/image16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5B6C-B90D-40F1-8CE7-1BE7004EF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F986-F3D7-4BA6-9F6C-CA0494E900F1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9C69-37DD-4904-9B1F-7AF138DF2114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5DCF-390D-4EF7-9A79-A0A7A00170E1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DED2-727E-4A62-B926-F13E1881DC6C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4BF6-1AD2-469A-A2A0-AF35E143A6EB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64C9-DA61-4D2A-B954-C16865EDEC8A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rigor indicador beneficios/matrícula es una aproximación muy gruesa a la cobertura de las ayudas estudiantiles, puesto que hay estudiantes con más de un beneficio y hay beneficios de becas que son otorgados a alumnos matriculados en otras instituciones de educación sup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31B6-1E25-4C59-B876-7A60E5E6E1F8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DACD-9DC4-4099-A39C-81836D599629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B314-E557-4CCC-97CF-D16B569E3B37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8D1B-DACB-449C-99DE-03A8CC02948C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5CFC-32E9-4CE3-ABB8-2041C4227651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0F3D-A771-410E-828F-46F8D6FA5C57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E378-3B39-4DC1-9161-4A9E2B82EF12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E141-5C17-4CBA-B427-218ED8455454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8107-D588-4276-9F29-9E1469900745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F72A-33CB-4833-A7F0-F16B96EDF41A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3957-3884-4284-8713-1603498E8C49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BC3F-B8F3-40B9-8C57-50B4407E0A84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093A-F6D4-4E69-91A9-39B5D8A36F53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271B-702B-4329-A057-F7C3411BFA95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7D65-E52D-4D8B-B2F0-863F09E44BC5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5D37-8985-4445-99AC-E1015D1CF4B4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AC8B-AAE4-401F-A44A-0A8607B09FAD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9984-020C-4F06-8640-2DBD5FC9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3B84-99BA-4030-9F67-0E635995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E3A0-3571-4AEB-BD27-C922102A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936E-F842-4F66-8D2D-FBB1D9BD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9486-8F59-4088-BE26-264C8AAF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61B1-09EF-478F-A802-4ADA1597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BE45-3E9F-428E-8F94-6AEEB49B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01F8-7D22-49B7-B3E7-AC82A406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4F25-CE5C-45C4-9D77-57E0BB08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B797-E064-4D9B-AA3F-B4A4EA80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2038-5554-4DA8-8022-DEEBCFB2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98CF-DC0B-4F7A-B300-C467C9F7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2730-24B7-4F66-9327-90D43377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64F9-EF32-4137-AA6D-28F5A524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0421-A840-4A1E-9779-35A9BED8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EAE8-696E-4213-B329-D560977C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B853-7C67-444D-9007-8D3890B8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16E0-7219-451F-9962-AB6C5AF1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4855-4543-46BF-AAD7-0748BEEA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9C23-7CE5-478E-8F84-E00C00A9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C73A-FD7B-4495-BB57-E329EBAD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1A2-2582-441F-972E-46E52045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25A3-34F3-419D-940D-000FEE3C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3451-AEDB-4C05-A133-09307538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0099-7C17-4587-B9C3-A445F93FE106}" type="slidenum">
              <a:rPr b="0" lang="en-US" sz="1000" spc="-1" strike="noStrike">
                <a:solidFill>
                  <a:srgbClr val="fbfff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4E81-CA39-4850-9547-B1BDB1DC6848}" type="slidenum">
              <a:rPr b="0" lang="en-US" sz="10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FINANCIAMIENTO Y REGULACIÓN DEL SISTEMA DE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Santiago, 9 de noviembre 2009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12" name="Rectangle 3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113" name="Rectangle 4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1" name="Rectangle 22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2" name="Rectangle 23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1" name="Line 42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2" name="Line 43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3" name="Line 44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4" name="Line 45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5" name="Line 46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9" name="Line 50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0" name="Line 51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1" name="Line 52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2" name="Line 53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3" name="Line 54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4" name="Line 55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5" name="Line 56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</p:grpSp>
      <p:sp>
        <p:nvSpPr>
          <p:cNvPr id="166" name="Text Box 57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9900"/>
                </a:solidFill>
                <a:latin typeface="Arial Black"/>
              </a:rPr>
              <a:t>Población 20-24 años con al menos educación media completa según deciles de ingreso de los hogares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1 Gráfico" descr=""/>
          <p:cNvPicPr/>
          <p:nvPr/>
        </p:nvPicPr>
        <p:blipFill>
          <a:blip r:embed="rId1"/>
          <a:stretch/>
        </p:blipFill>
        <p:spPr>
          <a:xfrm>
            <a:off x="-6480" y="774720"/>
            <a:ext cx="9279000" cy="6089760"/>
          </a:xfrm>
          <a:prstGeom prst="rect">
            <a:avLst/>
          </a:prstGeom>
          <a:ln w="0">
            <a:noFill/>
          </a:ln>
        </p:spPr>
      </p:pic>
      <p:sp>
        <p:nvSpPr>
          <p:cNvPr id="170" name="3 CuadroTexto"/>
          <p:cNvSpPr/>
          <p:nvPr/>
        </p:nvSpPr>
        <p:spPr>
          <a:xfrm>
            <a:off x="304920" y="45720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Tasa de graduación de educación secundari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Ingresos según años de escolaridad         </a:t>
            </a:r>
            <a:r>
              <a:rPr b="0" lang="es-CL" sz="1800" spc="-1" strike="noStrike">
                <a:solidFill>
                  <a:srgbClr val="cc9900"/>
                </a:solidFill>
                <a:latin typeface="Arial Black"/>
              </a:rPr>
              <a:t>($ Nov 2006)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8607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Sólo el 20% de los hogares puede pagar arancel promedi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1886040"/>
          <a:ext cx="8178840" cy="4421160"/>
        </p:xfrm>
        <a:graphic>
          <a:graphicData uri="http://schemas.openxmlformats.org/drawingml/2006/table">
            <a:tbl>
              <a:tblPr/>
              <a:tblGrid>
                <a:gridCol w="4089240"/>
                <a:gridCol w="4089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Quintil de ingreso autónomo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ensualidad respecto a ingreso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4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87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4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29"/>
          <p:cNvSpPr/>
          <p:nvPr/>
        </p:nvSpPr>
        <p:spPr>
          <a:xfrm>
            <a:off x="609480" y="6248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, sobre la base de Aranda y Salas (2004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4"/>
          <p:cNvGraphicFramePr/>
          <p:nvPr/>
        </p:nvGraphicFramePr>
        <p:xfrm>
          <a:off x="0" y="0"/>
          <a:ext cx="8844120" cy="56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4412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2"/>
          <p:cNvGraphicFramePr/>
          <p:nvPr/>
        </p:nvGraphicFramePr>
        <p:xfrm>
          <a:off x="0" y="609480"/>
          <a:ext cx="9258480" cy="577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25848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9900"/>
                </a:solidFill>
                <a:latin typeface="Arial Black"/>
              </a:rPr>
              <a:t>GASTO PÚBLICO Y PRIVADO EN EDUCACIÓN COMO % DEL PGB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cxnSp>
        <p:nvCxnSpPr>
          <p:cNvPr id="181" name="6 Conector recto de flecha"/>
          <p:cNvCxnSpPr/>
          <p:nvPr/>
        </p:nvCxnSpPr>
        <p:spPr>
          <a:xfrm flipH="1">
            <a:off x="3962160" y="3429000"/>
            <a:ext cx="838800" cy="457920"/>
          </a:xfrm>
          <a:prstGeom prst="straightConnector1">
            <a:avLst/>
          </a:prstGeom>
          <a:ln cap="sq" w="12600">
            <a:solidFill>
              <a:srgbClr val="cc66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84" name="3 Conector recto de flecha"/>
          <p:cNvCxnSpPr/>
          <p:nvPr/>
        </p:nvCxnSpPr>
        <p:spPr>
          <a:xfrm flipH="1">
            <a:off x="1980360" y="1599120"/>
            <a:ext cx="762840" cy="686520"/>
          </a:xfrm>
          <a:prstGeom prst="straightConnector1">
            <a:avLst/>
          </a:prstGeom>
          <a:ln cap="sq" w="126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Chart 3" descr=""/>
          <p:cNvPicPr/>
          <p:nvPr/>
        </p:nvPicPr>
        <p:blipFill>
          <a:blip r:embed="rId1"/>
          <a:stretch/>
        </p:blipFill>
        <p:spPr>
          <a:xfrm>
            <a:off x="225360" y="1316160"/>
            <a:ext cx="8925120" cy="5316480"/>
          </a:xfrm>
          <a:prstGeom prst="rect">
            <a:avLst/>
          </a:prstGeom>
          <a:ln w="0">
            <a:noFill/>
          </a:ln>
        </p:spPr>
      </p:pic>
      <p:sp>
        <p:nvSpPr>
          <p:cNvPr id="186" name="2 CuadroTexto"/>
          <p:cNvSpPr/>
          <p:nvPr/>
        </p:nvSpPr>
        <p:spPr>
          <a:xfrm>
            <a:off x="68580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ASTO POR ESTUDIANTE EN EDUCACIÓN TERCIARIA RESPECTO A PIB PER CAPITA EN PPC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Chart 2" descr=""/>
          <p:cNvPicPr/>
          <p:nvPr/>
        </p:nvPicPr>
        <p:blipFill>
          <a:blip r:embed="rId1"/>
          <a:stretch/>
        </p:blipFill>
        <p:spPr>
          <a:xfrm>
            <a:off x="298440" y="1139760"/>
            <a:ext cx="8547120" cy="5724720"/>
          </a:xfrm>
          <a:prstGeom prst="rect">
            <a:avLst/>
          </a:prstGeom>
          <a:ln w="0">
            <a:noFill/>
          </a:ln>
        </p:spPr>
      </p:pic>
      <p:sp>
        <p:nvSpPr>
          <p:cNvPr id="188" name="2 Rectángulo"/>
          <p:cNvSpPr/>
          <p:nvPr/>
        </p:nvSpPr>
        <p:spPr>
          <a:xfrm>
            <a:off x="533520" y="2286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GASTO POR ESTUDIANTE EN EDUCACIÓN SECUNDARIA RESPECTO A PIB PER CAPITA EN PPC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PRESENTACIÓ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volución reciente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Temas central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docencia pregrad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Un sistema caro e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Producción de bienes públicos y propie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0" y="838080"/>
            <a:ext cx="8915400" cy="5410440"/>
          </a:xfrm>
          <a:prstGeom prst="rect">
            <a:avLst/>
          </a:prstGeom>
          <a:ln w="0">
            <a:noFill/>
          </a:ln>
        </p:spPr>
      </p:pic>
      <p:sp>
        <p:nvSpPr>
          <p:cNvPr id="190" name="Oval 7"/>
          <p:cNvSpPr/>
          <p:nvPr/>
        </p:nvSpPr>
        <p:spPr>
          <a:xfrm>
            <a:off x="228600" y="3962520"/>
            <a:ext cx="2590920" cy="990360"/>
          </a:xfrm>
          <a:prstGeom prst="ellipse">
            <a:avLst/>
          </a:prstGeom>
          <a:noFill/>
          <a:ln cap="sq"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92" name="Object 12"/>
          <p:cNvGraphicFramePr/>
          <p:nvPr/>
        </p:nvGraphicFramePr>
        <p:xfrm>
          <a:off x="0" y="228600"/>
          <a:ext cx="914400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144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ELEMENTOS CENTRAL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Masificación acces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cceso desigu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raduación secundaria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Calidad educación escolar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lto gasto total y aporte privad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ado alto costo requieren apoyo el 80% de los hoga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Sobre educando en años y baja eficiencia y calida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ROL DEL ESTADO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Fallas de coordinación e incentiv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Alineación incentivos de actor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Mercado de capitales y liquidez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uración, calidad y contenidos carrer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Investigación y extens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Fallas de información respecto a instituciones, carreras y mercado labor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quidad, igualdad de oportunidades, integración soci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LO PÚBLICO Y LO PRIVADO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“objetivos públicos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autonomía o impunidad: importancia de accountability), cohesión social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niversidades estat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portes públicos a universidades privadas relacionados con investigación y desarroll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Tahoma"/>
              </a:rPr>
              <a:t>POLÍTICA DE LAS POLÍTICA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xistencia de poderosos grupos de interé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Estudiantes, académicos, Iglesias, etc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ntrada de actores causada por políticas crea “path dependence” y modifica posibilidades de acción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Ejemplos: privados, ban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Respaldo para discus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no excluible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ecesidad de integrar sistemas de inform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9900"/>
                </a:solidFill>
                <a:latin typeface="Arial Black"/>
              </a:rPr>
              <a:t>ROL DEL ESTADO RESPECTO A EQUIDAD E IGUALDAD DE OPORTUNIDADE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oportunidades de término y mejorar distribución calidad educación escola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+ recursos en los más pobres (ej. subvención diferenciada)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Otros programas pro-retención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EQUIDAD EN ACCESO Y RETENCIÓN EN EDUCACIÓN SUPERIO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Acción afirmativa en acces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Necesidad de cursos de nivelación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Garantizar créditos y extensión a carreras cort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Incluir costo mantención en ayudas o favorecer horarios que permitan trabajo part-time, ej. Brasil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CRÉDITO CONTINGENTE A INGRES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s alternativa más eficiente (dependiendo del costo de administración) y just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Estudiantes tienen financiamiento para una actividad que se espera sea privadamente rentable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Futuros profesionales devuelven en función de su capacidad de pago (si les va mal no devuelven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Reduce “sobre educación” y demora en terminar carrera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6600"/>
                </a:solidFill>
                <a:latin typeface="Tahoma"/>
              </a:rPr>
              <a:t>Además, mejora el ajuste de la oferta de graduados a necesidades del mercado laboral, especialmente si acompañado por sistemas de información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Los subsidios a educación superior benefician a los grupos de mayores ingresos (ex-ante y ex-post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Problem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Financiamiento incierto: ¿me atrevo a arriesgarme si no tengo certeza que voy a contar con el 100% de los recursos que necesito?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Patrones culturales: más probable aspirar a educación superior si padres profesionales, aspiraciones del entorno, resistencia a endeudamiento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008000" y="1601640"/>
          <a:ext cx="8301240" cy="539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601640"/>
                    <a:ext cx="830124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6"/>
          <p:cNvSpPr/>
          <p:nvPr/>
        </p:nvSpPr>
        <p:spPr>
          <a:xfrm>
            <a:off x="5867280" y="1219320"/>
            <a:ext cx="2971800" cy="6426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+ de 70% es primera generación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ás difícil controlar ingreso actual que ingreso futur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“</a:t>
            </a: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Sobre-educación”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universidades sin arancel diferenciad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uesto a graduad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No se discrimina diferencias de costo de las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Menos recursos a educación (se requieren ahora y el costo de oportunidad de recursos públicos es alto):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Recaudación probablemente entraría a rentas generales, no incrementaría disponibilidad recursos en instituciones más exitos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OS MALESTARES SOCI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Sociedad chilena no es meritocrátic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Pretende serlo con prueba de selección universitaria pero desigual calidad educación escolar, familia origen pesa y pre-Universitari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En el mercado laboral no hay igualdad de tra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sigual calidad educación escola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Desesperanza aprendida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Fracaso del sistema escolar para responder a las expectativa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Mala calidad de la educación entregada por algunas instituciones y falta de información adecuad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Tahoma"/>
              </a:rPr>
              <a:t>TASAS DE ENTRADA A EDUCACIÓN SUPERIOR TIPO 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0" name="1 Gráfico" descr=""/>
          <p:cNvPicPr/>
          <p:nvPr/>
        </p:nvPicPr>
        <p:blipFill>
          <a:blip r:embed="rId1"/>
          <a:stretch/>
        </p:blipFill>
        <p:spPr>
          <a:xfrm>
            <a:off x="-55440" y="1365120"/>
            <a:ext cx="92548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Tahoma"/>
              </a:rPr>
              <a:t>TASAS DE ENTRADA A EDUCACIÓN SUPERIOR TIPO B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2" name="1 Gráfico" descr=""/>
          <p:cNvPicPr/>
          <p:nvPr/>
        </p:nvPicPr>
        <p:blipFill>
          <a:blip r:embed="rId1"/>
          <a:stretch/>
        </p:blipFill>
        <p:spPr>
          <a:xfrm>
            <a:off x="-60480" y="1365120"/>
            <a:ext cx="926496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Tahoma"/>
              </a:rPr>
              <a:t>Matrícula bruta educación superior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447920"/>
          <a:ext cx="8077320" cy="512424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5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7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-0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5,3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8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Brasil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1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1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0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Chile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4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6,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48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éxico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3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2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anamá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9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7,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48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Uruguay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2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9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5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enezuela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9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1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4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ne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6" name="Picture 1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bru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8" name="Picture 1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ímites quintiles de ingreso autónomo de los hogares 2006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886040"/>
          <a:ext cx="8305920" cy="4209840"/>
        </p:xfrm>
        <a:graphic>
          <a:graphicData uri="http://schemas.openxmlformats.org/drawingml/2006/table">
            <a:tbl>
              <a:tblPr/>
              <a:tblGrid>
                <a:gridCol w="1255680"/>
                <a:gridCol w="1687680"/>
                <a:gridCol w="1611000"/>
                <a:gridCol w="1327320"/>
                <a:gridCol w="1211400"/>
                <a:gridCol w="1212840"/>
              </a:tblGrid>
              <a:tr h="670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Quintil Autónomo Regional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romedio de personas en el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romedio Ingreso Autónomo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ngreso autónomo per-cápita del hogar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romedi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Mín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Máx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27.66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29.12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9.40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268.693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65.85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9.40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83.658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87.722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04.44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83.66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0.656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607.34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73.74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0.66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36.50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.674.721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593.10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36.52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Sala Auditorio</cp:lastModifiedBy>
  <dcterms:modified xsi:type="dcterms:W3CDTF">2009-11-09T16:34:05Z</dcterms:modified>
  <cp:revision>61</cp:revision>
  <dc:subject/>
  <dc:title>ANÁLISIS ECONÓMICO DE LA EDUCACIÓN SUPERIOR</dc:title>
</cp:coreProperties>
</file>