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7DF-1FA1-4C0E-BEC1-8AF083A787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4B8-B069-4F99-BBDD-10FBD0EAF7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602-174A-4C09-831F-76AB13F6F7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784-996E-4D42-96C8-8402A2876F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9576-AB5C-47A3-BAB9-CDA4B6CB78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DC3A-BA63-45CC-9F00-0BBB145B42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50F5-1D3C-4FC8-B0EE-B149E8F4CE1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41E5-557E-4E4C-BCCC-6552FD2C1D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D6D9-408F-44CD-8BB6-FB7A16778C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B95C-BAA5-4341-89AB-BB559EE645D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FF1-FD9A-4EAB-BF04-209E779446C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A44B-161B-482E-AACB-3E5E05DDB2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51E4-2543-46A2-B1AD-45041CCB77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E194-C790-4094-AF4D-D7B70B8824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45B-F249-4478-B2E3-A41AC89922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F95A-5F3D-46E6-82C7-290E11DC451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54F-8227-4BBE-A6C3-0F07DF7E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0AA-B207-43DE-BE91-C43DA940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C3D-5275-4494-AB1F-DDFF4493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8F7-513E-463E-A517-3A734902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3D6-B93A-4B6D-9091-470B64CE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11A0-57E0-42A1-A1DA-773EED3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E75-FA89-47DA-81EA-3078F704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308-ADA1-4664-B5AD-CFDF956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6F2-AB39-4E46-86A9-BF9F4D58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70B-237F-4E9C-8ADC-5CED3A3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022-5284-4EFB-B1DE-F99139EE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13E-D46E-4201-AB4E-2BAC964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0F8-5988-409E-8094-C5726FC8E1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Line 6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MCj03560210000[1]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9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MCj02391850000[1]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10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Line 9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7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7" name="Line 5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7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Line 7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9-10-06T23:49:14Z</dcterms:modified>
  <cp:revision>17</cp:revision>
  <dc:subject/>
  <dc:title>Diapositiva 1</dc:title>
</cp:coreProperties>
</file>