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A71A-6357-4725-934B-040D7AA977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B547-035B-4769-B5F8-4CCA182007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B118-3D74-4C73-84BB-9F1BC1E064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054-3B2A-47E5-85E9-F799B15523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9A2-11E4-4C6C-AE96-109E2E2257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0614-D171-4C9D-A6C6-FBD4065FF9B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61B8-18AB-4DDC-8E6B-1675CF9BDB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B73F-FE1F-4D89-A25B-1F50D0AA0E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B101-E724-462E-8DA5-AED1DCD698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F7F4-F5D7-4AB5-957B-252C3BDAEA2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E4C6-906B-47DD-A265-85CE6C8EE5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C001-8FE6-46D7-B582-770F5BD2B36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1F55-9D53-4BB7-8DF3-3BF9683AA1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2115-B10E-4455-BB91-1FA8835641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DFA3-31C1-45DF-855F-1483716157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FBC0-F556-4159-AED5-D6658CD98E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8676-2C46-444C-9469-07AA7A93703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A681-6D77-4D4F-90D1-B9F51ED1FC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17FB-69E4-4A98-AC74-5128AF5160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9A85-0218-4E2E-A37F-64CBF8A67F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7885-2F7C-47D0-8B02-385BE52492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37B1-A8A1-44E4-ACDB-A3E35A74AAE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0AF9-EFC9-40F6-B4C0-33BC03FDFB1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C013-29DE-42C7-9BAF-2E6642BA31D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B953-28AD-425A-94F2-B1467C65E2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7F79-6107-4D5E-8B84-40ACA32461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1103-441C-442F-AB4A-472FC77860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9C82-D967-4099-A18B-2D7AE84D0E1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D6E2-53A9-4709-AF4C-F76A6E063A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ADB6-2067-4E66-AE88-0C8FDC86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15FA-A8FF-45FA-9D77-5937DC80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6515-6553-4B64-A0E9-1D8D82E1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AF93-5ADF-43A1-83F6-B101B8DC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35C2-CD53-4D99-A126-361B1B49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91E2-AEBB-4689-A123-3CC9D0F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F90C-1D4F-4E5F-8ED9-A7C8A979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5D43-FB3A-44A4-92AD-E7FA9A55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642E-65F4-4918-A917-E66BCA4B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51E4-105E-422C-AB1B-C6025DAF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FBF5-8335-4F64-9853-33E270B5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3C53-5977-4FA5-B5BC-51DA5EF9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7DDD-C1C7-4B86-BD0B-67D506F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ABBB-6C19-4C39-A51E-81889FE6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1CB2-299D-4820-A4D1-41CE4996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8E35-EB8D-4127-8B93-3F452E2E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3582-A0CE-4AC0-8C71-DF7C84AB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7B23-0861-4B05-959B-912E96ED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5326-BA18-4DFD-8ED4-FDF89598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ED543-AE44-4442-BA9D-D4AC282C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C0F9-70F9-400F-8128-6D7F1E07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A184-0199-4BB0-931E-9352F47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BC22-BB81-4E2C-8A54-212E389A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CC4E-7B1C-4967-91C0-F7A7A363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040A-5DFA-4A2F-8138-A82C79B4E93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6A70-1AC2-4C6F-9D2B-DBF96BC603C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35592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99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CF28-2072-48A1-937B-D78142C2A40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Vacas Leche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 más efectivo del que necesitan para su crecimiento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usarse para crear o desarrollar otros negoci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rgenes de utilidad alt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Per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generar pocas utilidades o a veces pérdid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mente deben ser reestructuradas o eliminad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22FC-7092-4DEC-B8D9-EB2D2BAF85D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“Ley”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ston Consult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A80D-3C1D-4E78-A5AF-61B8B964386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ey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=volumen acumulado de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experiencia =  costos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en valor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periencia es mas importante en el arra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A11F-5E29-4EE8-873B-59C1704689C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usas del efecto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cedimientos de 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 en recursos ut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eño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EF58-67E8-4E42-97D9-C3793B490C3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ormula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**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p= Costo unitario prev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b = Costo unitari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 = Volumen acumulad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elasticidad de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7B4B-F499-4386-82BD-544771D60F5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FBEC-1CCD-44F8-973D-1E1226B262D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mpresa que acumula la mayor producción tendrá los costos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tienen interés en desarrollarse para descender lo más rápidamente posible por la curva de expe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es crecer más rápido que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mente al prin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Pene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FFB3-9B63-4F6F-B2C9-C360C665873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predictibilidad en Productos de poco valor agre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onsidera la 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07840" y="4332240"/>
            <a:ext cx="7986960" cy="423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confundir experiencia con economía de escal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oría de la difusión de productos nuev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E044-397E-4651-A935-C25EAC14613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ía de la difusión de productos nue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ómo un producto nuevo es asimilado en la sociedad en el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de adopción de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atro “proposicion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cerca del proceso de ado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5692-5B22-4899-825D-692213E5032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UN PRODU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LO QUE VENDE LA EMPRE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N QUÉ NEGOCIO EST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3957-1331-43AF-A35F-613BC25467F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1-  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TAPAS EN EL PROCESO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309-0E82-4F47-BC14-92B676ED5A5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Las personas difieren en su tendencia a probar producto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nco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PTADORES TEMPRAN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EMP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ZA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686A-EDCF-4BEB-B02D-A1773A64A86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363600" y="853920"/>
            <a:ext cx="8170920" cy="2803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99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2,5%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34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empran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3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daptadores tempraner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ard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6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retrasa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B031-CC5E-4CA3-BFD5-CAE1D6B71DE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77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627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LGUNAS CARACTERISTICAS LO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ISTIC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ducación, ingreso, nivel de vida están correlacionados posi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existe correlación con la 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tud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itiva al camb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piraciones educ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tivación por los lo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ida social a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a exposición a los medios de comun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viación de las norma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ticipación en actividades sociales de gru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28600" y="34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7CEA-B404-48F8-B411-E3B2CC017F4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3-Influencia de otras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íderes de opinión: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importantes en la etapa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-Características del producto que pueden modificar la tasa de velocidad  a la que se desarrolla el proceso de ado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entajas re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eneficios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sibilidad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912E-B66D-45B6-A854-D2E599FFFB0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S DE VENTAS DE NUEVOS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DIFUSIÓN O DE PRIMERA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COMPRA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2BF2-CAB0-40AD-9B4E-285335BB671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S DE DIFUS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o de los modelos de difusión más cono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el de B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ADOP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POTENCIA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AutoShape 8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10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EF5A-4047-4EA3-860D-A572FA051B8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76280" y="2060280"/>
            <a:ext cx="812808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ma de efectos de “innovadores” e “imitadores” los expresa Bass con la siguiente ec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5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de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5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acumuladas previas a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 : Mercado potenc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 : Coeficiente de innov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 : Coeficiente de imit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33EC-86B6-4AA2-AE29-070BB8BB08C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5680" y="545760"/>
            <a:ext cx="762984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(t) = p (O - Vt ) + q Vt (O - Vt ) / 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 0.04  q = 0.6  O = 5000   O: Mercado Potencial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: Coeficiente de innovación q:  Coeficiente de i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4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968B-D61A-4F7F-9B9C-CADA9F08599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Charles Revson , presidente de la empresa de cosmética Revl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FÁBRICA HACEMOS COSMÉTICOS; EN LA TIENDA, VENDEMOS ESPERANZ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NSUMIDORES NO COMPRAN PRODUCTOS; ADQUIEREN LA ESPERANZA DE CONSEGUIR BENEFI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FEB4-1BAA-4BC5-9700-F5C8B2013FB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 AU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ASPECTOS AÑADI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Producto “aumentado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1" lang="es-ES_tradnl" sz="1400" spc="-1" strike="noStrike">
                <a:solidFill>
                  <a:srgbClr val="00007d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899720" y="5127480"/>
            <a:ext cx="465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Servicio posventa                          Financiació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2"/>
          <p:cNvSpPr/>
          <p:nvPr/>
        </p:nvSpPr>
        <p:spPr>
          <a:xfrm rot="5400000">
            <a:off x="-254160" y="3785760"/>
            <a:ext cx="3307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Entrega                         Garant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3"/>
          <p:cNvSpPr/>
          <p:nvPr/>
        </p:nvSpPr>
        <p:spPr>
          <a:xfrm rot="16200000">
            <a:off x="6226560" y="3001680"/>
            <a:ext cx="363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Times New Roman"/>
              </a:rPr>
              <a:t>Instalación</a:t>
            </a: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             Mantenimient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167800" y="5772240"/>
            <a:ext cx="288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A339-460A-4D9B-AF81-737DA052BCE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E618-F44B-41E7-97B3-9C9A140CDB6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A50F-D028-4C59-BA84-36C8D41385A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idores (Benchma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resentante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(consultores, agencias, laboratorios universi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ente de Generación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7FA8-948A-4F86-B3A2-A939E855670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3"/>
          <p:cNvSpPr/>
          <p:nvPr/>
        </p:nvSpPr>
        <p:spPr>
          <a:xfrm>
            <a:off x="497160" y="4111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58CA-20B0-49CB-9C87-7ABC5C27667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relativa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 de alto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ndes cantidades de efectivo para financiar el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dades significativ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creciendo rápidamen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n grandes cantidades de efectivo para financiar su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dores débiles de efectiv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mpresa debe evaluar si sigue invirtiendo en éste negoci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9-04-27T19:54:12Z</dcterms:modified>
  <cp:revision>409</cp:revision>
  <dc:subject/>
  <dc:title>77n</dc:title>
</cp:coreProperties>
</file>