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069C-EE8B-4821-9DAA-92CBA52F8B6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6FB5-A9F6-48B7-98ED-C15B8738CA5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CA74-6FD3-4098-A149-AFDE6C788DD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BDCD-1D5D-45EB-9B50-656C97D8C2C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6A90-57D8-42EB-B2FA-390E44F8645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44C8-ECFA-4A9F-AD69-4E0A930220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8900-DDA3-4AB5-B658-DF363D447AB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D2D2-EE32-4EE5-9C25-7CBEDA131CA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C45F-E029-479E-8337-8DD0DA0BCF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BF46-7AAB-456B-B804-572F32A2AB1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4546-A69D-411D-A18B-50C70265377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456C-D94C-488B-85F1-C5656483E6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BF55-2E6F-48C1-8F6C-AE2C31A6343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F695-08D0-4633-BD60-900F90B3BCD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05EA-CB41-4876-9FDA-9DA28BF8291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036F-15DC-48A8-AC50-3563F0A2A2F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A089-8F07-4C02-A1C2-16B4175FAF7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D202-DC1E-4F76-B24F-8F7167ABD2E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BA57-4F40-425C-828A-5287436CF11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DCF9-74D8-46F3-A00A-844DE783A85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82A3-A340-4F8C-8446-D27C4FEBD66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F89B-7589-48AF-87E1-7FFD5794997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6B67-95BF-4689-B23C-2EE8307AB75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561B-847C-4D76-A3FE-3EF4783893A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7576-B2D2-437B-8373-2903F61B1D9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E213-C36D-428E-B8CC-29AB22B60AD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D31B9-CCD1-4131-9500-513EB9F7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7AFCC-133D-4189-BCCD-6E7A18B5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60AA-F6B5-44E8-B8B7-3E79B6F4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E8641-5A7D-4C18-A1F3-59A99DB1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6EB1-AD67-4707-8091-FBA6FFC6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4C98-462B-40B6-85F6-653AB47C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FF0B-60B8-42E9-805F-03952027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7276-E4EA-4387-B457-70A51DF7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B38F-97BC-4FC6-91CE-C39DC2C9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C4C5-4186-48CD-B74E-C6463BF9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A7A9-4F9F-4F34-8216-F2C1C53B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5C722-2EDA-4419-B14F-BFC16B09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7647-BA37-4990-8647-DDDB8BC2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FFB4-147B-4FCD-A9CE-64623879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73ABE-E675-4605-97FA-4DFE5D47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6F3F-F333-47F4-9510-50C1FA40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B4AC-0E12-497D-89BD-766844CF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F1471-1293-45BA-A433-290ED4F8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A2194-3820-429A-8046-E928CA421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E5FC5-BCB7-4FC2-BCAB-2886D1CC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F615E-A652-461C-9A34-71A01898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F761-4E70-4EEB-9DB6-E8AA8EFB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D007A-B942-4E79-BA96-E76982B7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87E4-C50D-4489-B552-0D59CB5C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9870-94B5-4482-8C83-9BC195464CA5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E361-4F2B-48E6-AA70-90AEC59D578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ffff"/>
                </a:solidFill>
                <a:latin typeface="Arial"/>
              </a:rPr>
              <a:t>MARC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LA CREACIÓN DE 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 existir Calidad de ver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errores se p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ad en  dimensión importante para los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importante entender que los consumidores usan pequeños trucos para evaluar la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algunos casos se puede “capacitar” a los 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EAL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ealtad es Re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aumentar la “Lealtad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gramas de Frec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tabase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 a las distintas asociaciones que hace el consumidor al oir o ver el nombre de la mar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junto de esas Asociaciones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AG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asociaciones pueden incluir entre o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ributos del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celeb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ímb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DENT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dentidad gobierna las Asoci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IDENTIDAD DE MARCA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26"/>
          <p:cNvSpPr/>
          <p:nvPr/>
        </p:nvSpPr>
        <p:spPr>
          <a:xfrm>
            <a:off x="1028880" y="609480"/>
            <a:ext cx="7086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26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Trampa de la Imagen de Mar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26"/>
          <p:cNvSpPr/>
          <p:nvPr/>
        </p:nvSpPr>
        <p:spPr>
          <a:xfrm>
            <a:off x="268200" y="304920"/>
            <a:ext cx="860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B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UATRO PERSPECTIVAS DE LA IDENTIDAD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/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 o Reg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Ó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fican la elección rut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si todas las semanas compro jabón, no tengo que tomar una decisión cada vez, simplemente “echo” Le Sancy en el car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ucen el riesgo en decisiones más complej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Cuando compro un equipo de audio la marca Sony me indica que ciertas cosas estoy seguro que NO me van a pas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marca me puede producir beneficios emocion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or algo la gente compra Gucci, o anda mostrando la Marca de algunos de sus compr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eran algún sentido de “pertene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”. (La gente que tiene un computador Apple siente cierto grado de identificación con otros que usan la misma marca, y eso les hace sentirse bi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24000" y="549360"/>
            <a:ext cx="85309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ers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Símbo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LITICA DE</a:t>
            </a: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ún la mezcla de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ara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Líne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oble (o Tri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cada producto la empresa le asigna una marca y un posicionamiento espe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: Detergentes OMO, DRIVE, SK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la política tradicional de empresas como Procter &amp; Gamble y L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TAJA:  La empresa no “juega” su reputación en el resultado de un producto en 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143000" y="16477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AR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arca Paraguas acoge a varias Categorías de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as empresas usan su nombre como marca Paraguas. Daewoo, Sony, IB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09480" y="1793880"/>
            <a:ext cx="7925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LÍNEA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066680" y="16477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JERARQUÍAS DE MA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haber varios niveles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ha Asada....  Producto espec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marcas pueden ser un activo tan valioso, ¿por qué no se contabiliz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DIB2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incipales atributos de la Marc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Young&amp;Rubic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EREN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s diferentes, claramente diferenciadas por la gente, con identidad propia, ú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EV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esten de acuerdo con las expectativas, necesidades, anhelos y fantasías  de las perso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haya generado en el respeto y la confianza de la población general. Proceso lento que requiere conocimiento y una cierta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sean conocidas y estén presentes en el mundo cotidiano de las persona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38040" y="212760"/>
            <a:ext cx="846792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Aak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Valor de Marc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ALTAD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26"/>
          <p:cNvSpPr/>
          <p:nvPr/>
        </p:nvSpPr>
        <p:spPr>
          <a:xfrm>
            <a:off x="915840" y="611280"/>
            <a:ext cx="7921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noce usted esta mar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R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Marcas de esta clase Producto conoce u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Top of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54080" y="382680"/>
            <a:ext cx="8683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09480" y="17002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CONOCIMIENTO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914400" y="22860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DIB4"/>
          <p:cNvPicPr/>
          <p:nvPr/>
        </p:nvPicPr>
        <p:blipFill>
          <a:blip r:embed="rId1"/>
          <a:stretch/>
        </p:blipFill>
        <p:spPr>
          <a:xfrm>
            <a:off x="914400" y="1557360"/>
            <a:ext cx="7315200" cy="4673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RECONOCIMIENTO Vs. RECORD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 Young</cp:lastModifiedBy>
  <dcterms:modified xsi:type="dcterms:W3CDTF">2009-04-27T03:42:49Z</dcterms:modified>
  <cp:revision>49</cp:revision>
  <dc:subject/>
  <dc:title>Sin título de diapositiva</dc:title>
</cp:coreProperties>
</file>