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08BC-1E94-4A7A-94C8-FA6D90F0A4A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593F-E751-4291-8A3D-9BED710C2A3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BE9D-29DB-448C-872D-C924C125FAA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F48A-0B89-453D-B835-A42045CB3CA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6D0C-C738-4CC1-BC75-BAF5EFF8FB4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7A60-D98D-498C-8614-BEA679A62FD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E57B-F3BC-47A1-B0C8-5D7013A443C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4757-416F-46AD-9127-4CBAF6E166B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3497-51E7-4DE9-9DDD-819B5B57611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5FD0-E79E-4496-B033-212E6B3628E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0D44-ECBA-43FC-95DE-67151FB6F69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9717-C242-4BED-BF67-AE854F492B5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CF3D-946F-4542-9492-F1819213C34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3042-E2F5-4DAB-8E98-9167DB83AFE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159-794B-4B38-A7C0-86B188FD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7AD-F769-47B7-B9BA-16D0CA76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46F-C125-4CE6-9922-87EA5348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F29-605B-4669-8200-36A655CC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ECA-5172-4921-A10A-28BBF715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72F-2467-4A25-A40A-CFC32558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A40-970C-4229-9208-5EDF196D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98F-6A6B-45C8-BF04-28B1C97E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A47-8060-4B1F-8EC9-B8C16A6C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285-4BDF-4B09-A3A7-0E92B6FF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81D-9EF0-4E23-89FA-0848B732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1C71-F815-4185-AF23-C839F17B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0F46-64E0-478F-A065-25912A96500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uxiliar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92392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ntroles Ciné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293640" y="580536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mestre Primavera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273760" y="4869000"/>
            <a:ext cx="46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51G  Procesos Hidro-Electrometalúr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eficientes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 + e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C   Paso limita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D + e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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 E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+ 2e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708360" y="2133720"/>
                <a:ext cx="2087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r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4"/>
          <p:cNvSpPr/>
          <p:nvPr/>
        </p:nvSpPr>
        <p:spPr>
          <a:xfrm>
            <a:off x="395280" y="414972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Nº de electrones en la reacción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Nº de electrones transferidos antes del paso limitante de la velocidad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cció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Nº de veces que debe ocurrir el paso limitante para que la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cción global ocurra un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Factor de reacción;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 = 1 (reacción electroquím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 = 0 (reacción químic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Factor de simetrí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 Special G2"/>
                <a:ea typeface="Times New Roman Special G2"/>
              </a:rPr>
              <a:t>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6372360" y="2060640"/>
          <a:ext cx="1944720" cy="93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2060640"/>
                    <a:ext cx="19447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roxim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 l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. Butler y Volm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mpo Al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álido para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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100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Campo baj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Válido para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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&lt;  20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1187280" y="3068640"/>
                <a:ext cx="19447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exp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 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4788000" y="3068640"/>
                <a:ext cx="2160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- 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 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8" name="Object 10"/>
          <p:cNvGraphicFramePr/>
          <p:nvPr/>
        </p:nvGraphicFramePr>
        <p:xfrm>
          <a:off x="2484360" y="5084640"/>
          <a:ext cx="3168720" cy="102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5084640"/>
                    <a:ext cx="316872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2771640" y="2133720"/>
                <a:ext cx="309564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D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Rectangle 6"/>
          <p:cNvSpPr/>
          <p:nvPr/>
        </p:nvSpPr>
        <p:spPr>
          <a:xfrm>
            <a:off x="395280" y="4149720"/>
            <a:ext cx="8353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Densidad de corriente, A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z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Nº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nstante de Faraday, 9.65 1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/k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eficiente de difusión, 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ncentración del reactante en el seno de la solución, kmol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ncentración  del reactante en el sitio de reacción, kmol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Espesor de la capa de difusión  (m)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 Special G2"/>
                <a:ea typeface="Times New Roman Special G2"/>
              </a:rPr>
              <a:t>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0.1 mm (acuosa, 25º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 lími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uando la concentración del reactante en el sitio de la reacción se hace cero (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0), es decir, la velocidad de transferencia de carga es mucho mayor a la de transferencia de masa, se habla de densidad de corriente lí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fecto de propiedades del flu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 Más agitación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en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yor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3203640" y="2625840"/>
                <a:ext cx="230508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D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6" name="Object 6"/>
          <p:cNvGraphicFramePr/>
          <p:nvPr/>
        </p:nvGraphicFramePr>
        <p:xfrm>
          <a:off x="1979640" y="5305320"/>
          <a:ext cx="583236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5305320"/>
                    <a:ext cx="583236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rol Mi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bas velocidades (Transferencia de carga y masa) son igualmente lentas y no se puede despreciar ninguna. Es el medio armónico entre las velocidades bajo CTC y CT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tilizando aproximación campo alto e i lím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900000" y="5157720"/>
                <a:ext cx="29527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4788000" y="5157720"/>
                <a:ext cx="2808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sub>
                            </m:sSub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8"/>
              <p:cNvSpPr txBox="1"/>
              <p:nvPr/>
            </p:nvSpPr>
            <p:spPr>
              <a:xfrm>
                <a:off x="2700360" y="2852640"/>
                <a:ext cx="309564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I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M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DIAG FLUJO EO GRIS"/>
          <p:cNvPicPr/>
          <p:nvPr/>
        </p:nvPicPr>
        <p:blipFill>
          <a:blip r:embed="rId1"/>
          <a:stretch/>
        </p:blipFill>
        <p:spPr>
          <a:xfrm>
            <a:off x="1332000" y="392040"/>
            <a:ext cx="66960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nética Electro-Quí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+ ze    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+ ze          D                           D          A + 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cción Catódica                    Reacción Anó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se reduce a D                         D se oxida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4427640" y="2349360"/>
            <a:ext cx="790560" cy="287640"/>
          </a:xfrm>
          <a:prstGeom prst="leftRightArrow">
            <a:avLst>
              <a:gd name="adj1" fmla="val 50000"/>
              <a:gd name="adj2" fmla="val 547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3059280" y="2781360"/>
            <a:ext cx="12254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4572000" y="2781360"/>
            <a:ext cx="1152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2987640" y="4292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5651640" y="429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Far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3203640" y="1844640"/>
                <a:ext cx="244944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·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Rectangle 6"/>
          <p:cNvSpPr/>
          <p:nvPr/>
        </p:nvSpPr>
        <p:spPr>
          <a:xfrm>
            <a:off x="1042920" y="4365720"/>
            <a:ext cx="763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 Masa que reacciona electro químicamente (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=    Peso Equivalente   (kg/kmol de carg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=    Intensidad de corriente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=    Tiempo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=    Constante de Faraday (9.65 x 107 C/km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Far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cular masa de cobre depositada en un cátodo con: I=300[A], t=2 horas. Para las siguientes reac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+2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+ 2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+ 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7"/>
              <p:cNvSpPr txBox="1"/>
              <p:nvPr/>
            </p:nvSpPr>
            <p:spPr>
              <a:xfrm>
                <a:off x="3851280" y="3213000"/>
                <a:ext cx="2449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Rectangle 9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3708360" y="4941720"/>
                <a:ext cx="230364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12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3"/>
              <p:cNvSpPr txBox="1"/>
              <p:nvPr/>
            </p:nvSpPr>
            <p:spPr>
              <a:xfrm>
                <a:off x="3492360" y="4005360"/>
                <a:ext cx="2735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,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,7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Rectangle 15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6"/>
              <p:cNvSpPr txBox="1"/>
              <p:nvPr/>
            </p:nvSpPr>
            <p:spPr>
              <a:xfrm>
                <a:off x="3564000" y="5734080"/>
                <a:ext cx="273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,4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Rectangle 18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roles Ciné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que ocurra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acción elect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ím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º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nsferencia d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 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 debe moverse hacia la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º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tre 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 y electr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"/>
          <p:cNvGrpSpPr/>
          <p:nvPr/>
        </p:nvGrpSpPr>
        <p:grpSpPr>
          <a:xfrm>
            <a:off x="2700360" y="1844640"/>
            <a:ext cx="3352320" cy="2057400"/>
            <a:chOff x="2700360" y="1844640"/>
            <a:chExt cx="3352320" cy="2057400"/>
          </a:xfrm>
        </p:grpSpPr>
        <mc:AlternateContent>
          <mc:Choice xmlns:a14="http://schemas.microsoft.com/office/drawing/2010/main" Requires="a14">
            <p:sp>
              <p:nvSpPr>
                <p:cNvPr id="82" name="Object 5"/>
                <p:cNvSpPr txBox="1"/>
                <p:nvPr/>
              </p:nvSpPr>
              <p:spPr>
                <a:xfrm>
                  <a:off x="3156120" y="1844640"/>
                  <a:ext cx="371160" cy="54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83" name="Group 6"/>
            <p:cNvGrpSpPr/>
            <p:nvPr/>
          </p:nvGrpSpPr>
          <p:grpSpPr>
            <a:xfrm>
              <a:off x="2700360" y="1981080"/>
              <a:ext cx="3352320" cy="1920960"/>
              <a:chOff x="2700360" y="1981080"/>
              <a:chExt cx="3352320" cy="1920960"/>
            </a:xfrm>
          </p:grpSpPr>
          <p:grpSp>
            <p:nvGrpSpPr>
              <p:cNvPr id="84" name="Group 7"/>
              <p:cNvGrpSpPr/>
              <p:nvPr/>
            </p:nvGrpSpPr>
            <p:grpSpPr>
              <a:xfrm>
                <a:off x="2700360" y="1981080"/>
                <a:ext cx="3200760" cy="1920960"/>
                <a:chOff x="2700360" y="1981080"/>
                <a:chExt cx="3200760" cy="1920960"/>
              </a:xfrm>
            </p:grpSpPr>
            <p:sp>
              <p:nvSpPr>
                <p:cNvPr id="85" name="Line 8"/>
                <p:cNvSpPr/>
                <p:nvPr/>
              </p:nvSpPr>
              <p:spPr>
                <a:xfrm>
                  <a:off x="2978640" y="1981080"/>
                  <a:ext cx="0" cy="19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9"/>
                <p:cNvSpPr/>
                <p:nvPr/>
              </p:nvSpPr>
              <p:spPr>
                <a:xfrm flipV="1">
                  <a:off x="2700360" y="211788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0"/>
                <p:cNvSpPr/>
                <p:nvPr/>
              </p:nvSpPr>
              <p:spPr>
                <a:xfrm flipV="1">
                  <a:off x="2700360" y="225504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1"/>
                <p:cNvSpPr/>
                <p:nvPr/>
              </p:nvSpPr>
              <p:spPr>
                <a:xfrm flipV="1">
                  <a:off x="2700360" y="239220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12"/>
                <p:cNvSpPr/>
                <p:nvPr/>
              </p:nvSpPr>
              <p:spPr>
                <a:xfrm flipV="1">
                  <a:off x="2700360" y="252936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13"/>
                <p:cNvSpPr/>
                <p:nvPr/>
              </p:nvSpPr>
              <p:spPr>
                <a:xfrm flipV="1">
                  <a:off x="2700360" y="266652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14"/>
                <p:cNvSpPr/>
                <p:nvPr/>
              </p:nvSpPr>
              <p:spPr>
                <a:xfrm flipV="1">
                  <a:off x="2700360" y="280404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15"/>
                <p:cNvSpPr/>
                <p:nvPr/>
              </p:nvSpPr>
              <p:spPr>
                <a:xfrm flipV="1">
                  <a:off x="2700360" y="294120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16"/>
                <p:cNvSpPr/>
                <p:nvPr/>
              </p:nvSpPr>
              <p:spPr>
                <a:xfrm flipV="1">
                  <a:off x="2700360" y="307836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17"/>
                <p:cNvSpPr/>
                <p:nvPr/>
              </p:nvSpPr>
              <p:spPr>
                <a:xfrm flipV="1">
                  <a:off x="2700360" y="321552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18"/>
                <p:cNvSpPr/>
                <p:nvPr/>
              </p:nvSpPr>
              <p:spPr>
                <a:xfrm flipV="1">
                  <a:off x="2700360" y="335268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19"/>
                <p:cNvSpPr/>
                <p:nvPr/>
              </p:nvSpPr>
              <p:spPr>
                <a:xfrm flipV="1">
                  <a:off x="2700360" y="348984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0"/>
                <p:cNvSpPr/>
                <p:nvPr/>
              </p:nvSpPr>
              <p:spPr>
                <a:xfrm flipV="1">
                  <a:off x="2700360" y="362736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1"/>
                <p:cNvSpPr/>
                <p:nvPr/>
              </p:nvSpPr>
              <p:spPr>
                <a:xfrm flipV="1">
                  <a:off x="2700360" y="376452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Oval 22"/>
                <p:cNvSpPr/>
                <p:nvPr/>
              </p:nvSpPr>
              <p:spPr>
                <a:xfrm>
                  <a:off x="2978640" y="2529720"/>
                  <a:ext cx="417240" cy="411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3"/>
                <p:cNvSpPr/>
                <p:nvPr/>
              </p:nvSpPr>
              <p:spPr>
                <a:xfrm>
                  <a:off x="2839320" y="2741400"/>
                  <a:ext cx="278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24"/>
                <p:cNvSpPr/>
                <p:nvPr/>
              </p:nvSpPr>
              <p:spPr>
                <a:xfrm flipH="1">
                  <a:off x="3381120" y="2738520"/>
                  <a:ext cx="2087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Dot"/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25"/>
                <p:cNvSpPr/>
                <p:nvPr/>
              </p:nvSpPr>
              <p:spPr>
                <a:xfrm>
                  <a:off x="5483880" y="2529720"/>
                  <a:ext cx="417240" cy="411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Text Box 26"/>
              <p:cNvSpPr/>
              <p:nvPr/>
            </p:nvSpPr>
            <p:spPr>
              <a:xfrm>
                <a:off x="5496120" y="2551680"/>
                <a:ext cx="55656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27"/>
              <p:cNvSpPr/>
              <p:nvPr/>
            </p:nvSpPr>
            <p:spPr>
              <a:xfrm>
                <a:off x="2990880" y="2552760"/>
                <a:ext cx="55656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Rectangle 28"/>
            <p:cNvSpPr/>
            <p:nvPr/>
          </p:nvSpPr>
          <p:spPr>
            <a:xfrm>
              <a:off x="4562640" y="24350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3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9"/>
            <p:cNvSpPr/>
            <p:nvPr/>
          </p:nvSpPr>
          <p:spPr>
            <a:xfrm>
              <a:off x="4456080" y="216504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30"/>
                <p:cNvSpPr txBox="1"/>
                <p:nvPr/>
              </p:nvSpPr>
              <p:spPr>
                <a:xfrm>
                  <a:off x="4307040" y="2977920"/>
                  <a:ext cx="10429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ransport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Text Box 31"/>
          <p:cNvSpPr/>
          <p:nvPr/>
        </p:nvSpPr>
        <p:spPr>
          <a:xfrm>
            <a:off x="1550520" y="2349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ectr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roles Ciné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velocidad de la reacción esta controlada por el PASO MÁS LENTO. Hay 3 casos posi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&gt; &gt; 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Control por transferencia de 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&lt; &lt; 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Control por transferencia de 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Control mi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619280" y="1425600"/>
                <a:ext cx="14400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2916360" y="3860640"/>
                <a:ext cx="259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kC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Rectangle 6"/>
          <p:cNvSpPr/>
          <p:nvPr/>
        </p:nvSpPr>
        <p:spPr>
          <a:xfrm>
            <a:off x="4788000" y="1484280"/>
            <a:ext cx="3744720" cy="25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&gt; |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|          i &gt; 0 anó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&lt; |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|          i &lt; 0 cató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| 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|=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i = 0 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386720" y="33764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pírica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1547640" y="2349360"/>
                <a:ext cx="1800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m>
                      <m:mr>
                        <m:e>
                          <m:limUpp>
                            <m:e>
                              <m:r>
                                <m:t xml:space="preserve">→</m:t>
                              </m:r>
                            </m:e>
                            <m:lim>
                              <m:r>
                                <m:t xml:space="preserve">i</m:t>
                              </m:r>
                              <m:r>
                                <m:t xml:space="preserve">a</m:t>
                              </m:r>
                            </m:lim>
                          </m:limUpp>
                        </m:e>
                      </m:mr>
                      <m:mr>
                        <m:e>
                          <m:limLow>
                            <m:e>
                              <m:r>
                                <m:t xml:space="preserve">←</m:t>
                              </m:r>
                            </m:e>
                            <m:lim>
                              <m:r>
                                <m:t xml:space="preserve">i</m:t>
                              </m:r>
                              <m:r>
                                <m:t xml:space="preserve">c</m:t>
                              </m:r>
                            </m:lim>
                          </m:limLow>
                        </m:e>
                      </m:mr>
                    </m:m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2"/>
              <p:cNvSpPr txBox="1"/>
              <p:nvPr/>
            </p:nvSpPr>
            <p:spPr>
              <a:xfrm>
                <a:off x="1547640" y="5445000"/>
                <a:ext cx="2087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Rectangle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4"/>
              <p:cNvSpPr txBox="1"/>
              <p:nvPr/>
            </p:nvSpPr>
            <p:spPr>
              <a:xfrm>
                <a:off x="4788000" y="5445000"/>
                <a:ext cx="23763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Line 16"/>
          <p:cNvSpPr/>
          <p:nvPr/>
        </p:nvSpPr>
        <p:spPr>
          <a:xfrm flipH="1">
            <a:off x="2556000" y="4508640"/>
            <a:ext cx="151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4284720" y="4508640"/>
            <a:ext cx="15825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961600" y="4076640"/>
            <a:ext cx="22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E=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=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162840" y="4508640"/>
            <a:ext cx="102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E-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. de Butler y Vol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Densidad de corriente (A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Densidad de corriente de intercambio (A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Coeficientes de transferencia de carga anódico y cató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Sobre potencial (V)  = E -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Constante de los gases (8.314 J/mol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Temperatura 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1692360" y="2421000"/>
                <a:ext cx="5184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  <m:r>
                              <m:t xml:space="preserve">η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  <m:r>
                              <m:t xml:space="preserve">η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2:26:39Z</dcterms:created>
  <dc:creator>Carlos Francisco</dc:creator>
  <dc:description/>
  <dc:language>en-US</dc:language>
  <cp:lastModifiedBy>Carlos Francisco</cp:lastModifiedBy>
  <dcterms:modified xsi:type="dcterms:W3CDTF">2009-10-08T15:13:58Z</dcterms:modified>
  <cp:revision>36</cp:revision>
  <dc:subject/>
  <dc:title>Auxiliar 1</dc:title>
</cp:coreProperties>
</file>