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26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14.wmf" ContentType="image/x-wmf"/>
  <Override PartName="/ppt/media/image32.wmf" ContentType="image/x-wmf"/>
  <Override PartName="/ppt/media/image29.png" ContentType="image/png"/>
  <Override PartName="/ppt/media/image11.png" ContentType="image/png"/>
  <Override PartName="/ppt/media/image34.wmf" ContentType="image/x-wmf"/>
  <Override PartName="/ppt/media/image38.wmf" ContentType="image/x-wmf"/>
  <Override PartName="/ppt/media/image10.png" ContentType="image/png"/>
  <Override PartName="/ppt/media/image5.png" ContentType="image/png"/>
  <Override PartName="/ppt/media/image35.png" ContentType="image/png"/>
  <Override PartName="/ppt/media/image4.png" ContentType="image/png"/>
  <Override PartName="/ppt/media/image27.png" ContentType="image/png"/>
  <Override PartName="/ppt/media/image33.wmf" ContentType="image/x-wmf"/>
  <Override PartName="/ppt/media/image3.wmf" ContentType="image/x-wmf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8C969-3139-4A83-BD55-698DA3EE0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34497-5504-457A-9B51-674FBBC1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3D5EA-C012-4159-A4D8-68048F8AC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145EB-4A63-45BF-A5BF-D1670BAE8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74FB6-5913-42EC-934D-60C47192D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80BE-B602-49D4-AB47-01B8CD07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C220-9FFC-4A91-9E8D-7F9EB273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A79D-AFBD-4E2A-8E81-A20FD58F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DFC69-468D-4160-81F1-3109519A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B08E-AD98-49A1-AE69-34441399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4CAE-B7A3-4CBE-B942-2B354054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B1272-8BA7-4860-B60D-2344B9F7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7CF3-5DBE-474E-BAC8-DCD31D0A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5109-35FA-4A76-A7AD-AF2EA322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0E18-9B12-4300-94D2-3C606625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8390-8181-4C29-B2CB-E344B1F67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A95B-8FA1-4DDB-8987-F882EC18C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DB4D4-4B20-44C5-8483-CE493DDE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6024E-516D-4FB9-8F14-9C3A8135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CE0B3-643A-403D-8207-32346D38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01167-BF77-4D18-9EA4-BBFA0713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A2229-AB68-46D6-9701-C961D83E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EEE4F-31C8-42F9-B57E-DAF3985F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B8950-11BD-4B01-BCEE-9D9B0E0F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FA9E-B327-44A0-B20A-81A0936FB303}" type="slidenum">
              <a:rPr b="0" lang="es-C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D064-F3D7-421D-91DC-FF0D74CE2859}" type="slidenum">
              <a:rPr b="0" lang="es-C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Circuitos de ventilació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652640"/>
            <a:ext cx="601992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MI57G Ventilación de min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Prof Raúl Castr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Ejemplo calc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12620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tienen 4 galerías de ventilación en paralelo con un total de 100,000 cfm (47.19 m3/s). Calcule la caída de presión y la cantidad de aire en cada una de las galer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4"/>
          <p:cNvGraphicFramePr/>
          <p:nvPr/>
        </p:nvGraphicFramePr>
        <p:xfrm>
          <a:off x="2665440" y="3960720"/>
          <a:ext cx="3440160" cy="16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5440" y="3960720"/>
                    <a:ext cx="3440160" cy="16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 Box 6"/>
          <p:cNvSpPr/>
          <p:nvPr/>
        </p:nvSpPr>
        <p:spPr>
          <a:xfrm>
            <a:off x="539640" y="6093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solver en cl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Cantidad de aire por galería sin regul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4"/>
          <p:cNvGraphicFramePr/>
          <p:nvPr/>
        </p:nvGraphicFramePr>
        <p:xfrm>
          <a:off x="2133720" y="3484440"/>
          <a:ext cx="4192560" cy="6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484440"/>
                    <a:ext cx="419256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6"/>
          <p:cNvGraphicFramePr/>
          <p:nvPr/>
        </p:nvGraphicFramePr>
        <p:xfrm>
          <a:off x="1903320" y="4505400"/>
          <a:ext cx="4802400" cy="8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3320" y="4505400"/>
                    <a:ext cx="480240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8"/>
          <p:cNvGraphicFramePr/>
          <p:nvPr/>
        </p:nvGraphicFramePr>
        <p:xfrm>
          <a:off x="2055960" y="2328840"/>
          <a:ext cx="4422600" cy="74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5960" y="2328840"/>
                    <a:ext cx="442260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"/>
              </a:rPr>
              <a:t>Diag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5003640" y="1197000"/>
            <a:ext cx="3781440" cy="24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pieda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) Igualdad de depresiones de las corrientes principales entre los puntos de bifur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H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H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2) Sentido de flujo en 2 es 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16"/>
          <p:cNvGrpSpPr/>
          <p:nvPr/>
        </p:nvGrpSpPr>
        <p:grpSpPr>
          <a:xfrm>
            <a:off x="684360" y="2060640"/>
            <a:ext cx="4031640" cy="1612800"/>
            <a:chOff x="684360" y="2060640"/>
            <a:chExt cx="4031640" cy="1612800"/>
          </a:xfrm>
        </p:grpSpPr>
        <p:sp>
          <p:nvSpPr>
            <p:cNvPr id="165" name="Rectangle 4"/>
            <p:cNvSpPr/>
            <p:nvPr/>
          </p:nvSpPr>
          <p:spPr>
            <a:xfrm>
              <a:off x="1277640" y="2388600"/>
              <a:ext cx="1422000" cy="808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5"/>
            <p:cNvSpPr/>
            <p:nvPr/>
          </p:nvSpPr>
          <p:spPr>
            <a:xfrm>
              <a:off x="2699640" y="2388600"/>
              <a:ext cx="1422000" cy="808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6"/>
            <p:cNvSpPr/>
            <p:nvPr/>
          </p:nvSpPr>
          <p:spPr>
            <a:xfrm>
              <a:off x="684360" y="2819160"/>
              <a:ext cx="5932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7"/>
            <p:cNvSpPr/>
            <p:nvPr/>
          </p:nvSpPr>
          <p:spPr>
            <a:xfrm>
              <a:off x="4122720" y="2819160"/>
              <a:ext cx="5932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8"/>
            <p:cNvSpPr/>
            <p:nvPr/>
          </p:nvSpPr>
          <p:spPr>
            <a:xfrm>
              <a:off x="1751040" y="206064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9"/>
            <p:cNvSpPr/>
            <p:nvPr/>
          </p:nvSpPr>
          <p:spPr>
            <a:xfrm>
              <a:off x="2405520" y="2657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0"/>
            <p:cNvSpPr/>
            <p:nvPr/>
          </p:nvSpPr>
          <p:spPr>
            <a:xfrm>
              <a:off x="3350520" y="3305160"/>
              <a:ext cx="29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11"/>
            <p:cNvSpPr/>
            <p:nvPr/>
          </p:nvSpPr>
          <p:spPr>
            <a:xfrm>
              <a:off x="1810800" y="330516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2"/>
            <p:cNvSpPr/>
            <p:nvPr/>
          </p:nvSpPr>
          <p:spPr>
            <a:xfrm>
              <a:off x="684360" y="2442960"/>
              <a:ext cx="35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13"/>
            <p:cNvSpPr/>
            <p:nvPr/>
          </p:nvSpPr>
          <p:spPr>
            <a:xfrm>
              <a:off x="4241880" y="2497680"/>
              <a:ext cx="35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15"/>
            <p:cNvSpPr/>
            <p:nvPr/>
          </p:nvSpPr>
          <p:spPr>
            <a:xfrm>
              <a:off x="3172680" y="206532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Text Box 17"/>
          <p:cNvSpPr/>
          <p:nvPr/>
        </p:nvSpPr>
        <p:spPr>
          <a:xfrm>
            <a:off x="755640" y="4365720"/>
            <a:ext cx="5688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stemas con diagonales se resuelv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étodo de igualación de depre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lta estre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ardy cross (circuitos complej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1. Método igualación de depre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16"/>
          <p:cNvGraphicFramePr/>
          <p:nvPr/>
        </p:nvGraphicFramePr>
        <p:xfrm>
          <a:off x="5651640" y="2208240"/>
          <a:ext cx="2368440" cy="202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2208240"/>
                    <a:ext cx="2368440" cy="20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0" name="Group 4"/>
          <p:cNvGrpSpPr/>
          <p:nvPr/>
        </p:nvGrpSpPr>
        <p:grpSpPr>
          <a:xfrm>
            <a:off x="755640" y="1700280"/>
            <a:ext cx="4032000" cy="1612800"/>
            <a:chOff x="755640" y="1700280"/>
            <a:chExt cx="4032000" cy="1612800"/>
          </a:xfrm>
        </p:grpSpPr>
        <p:sp>
          <p:nvSpPr>
            <p:cNvPr id="181" name="Rectangle 5"/>
            <p:cNvSpPr/>
            <p:nvPr/>
          </p:nvSpPr>
          <p:spPr>
            <a:xfrm>
              <a:off x="1348920" y="2028240"/>
              <a:ext cx="1422000" cy="808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6"/>
            <p:cNvSpPr/>
            <p:nvPr/>
          </p:nvSpPr>
          <p:spPr>
            <a:xfrm>
              <a:off x="2770920" y="2028240"/>
              <a:ext cx="1422000" cy="808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7"/>
            <p:cNvSpPr/>
            <p:nvPr/>
          </p:nvSpPr>
          <p:spPr>
            <a:xfrm>
              <a:off x="755640" y="2458800"/>
              <a:ext cx="5932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8"/>
            <p:cNvSpPr/>
            <p:nvPr/>
          </p:nvSpPr>
          <p:spPr>
            <a:xfrm>
              <a:off x="4194360" y="2458800"/>
              <a:ext cx="5932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9"/>
            <p:cNvSpPr/>
            <p:nvPr/>
          </p:nvSpPr>
          <p:spPr>
            <a:xfrm>
              <a:off x="1822320" y="170028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0"/>
            <p:cNvSpPr/>
            <p:nvPr/>
          </p:nvSpPr>
          <p:spPr>
            <a:xfrm>
              <a:off x="2477160" y="229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1"/>
            <p:cNvSpPr/>
            <p:nvPr/>
          </p:nvSpPr>
          <p:spPr>
            <a:xfrm>
              <a:off x="3422160" y="2944800"/>
              <a:ext cx="29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2"/>
            <p:cNvSpPr/>
            <p:nvPr/>
          </p:nvSpPr>
          <p:spPr>
            <a:xfrm>
              <a:off x="1882080" y="294480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3"/>
            <p:cNvSpPr/>
            <p:nvPr/>
          </p:nvSpPr>
          <p:spPr>
            <a:xfrm>
              <a:off x="755640" y="208260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4"/>
            <p:cNvSpPr/>
            <p:nvPr/>
          </p:nvSpPr>
          <p:spPr>
            <a:xfrm>
              <a:off x="4313160" y="213732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5"/>
            <p:cNvSpPr/>
            <p:nvPr/>
          </p:nvSpPr>
          <p:spPr>
            <a:xfrm>
              <a:off x="3244320" y="170496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 Box 18"/>
          <p:cNvSpPr/>
          <p:nvPr/>
        </p:nvSpPr>
        <p:spPr>
          <a:xfrm>
            <a:off x="5292720" y="1628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tiene q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9"/>
          <p:cNvSpPr/>
          <p:nvPr/>
        </p:nvSpPr>
        <p:spPr>
          <a:xfrm flipV="1">
            <a:off x="2916360" y="22762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0"/>
          <p:cNvSpPr/>
          <p:nvPr/>
        </p:nvSpPr>
        <p:spPr>
          <a:xfrm>
            <a:off x="1619280" y="2852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1"/>
          <p:cNvSpPr/>
          <p:nvPr/>
        </p:nvSpPr>
        <p:spPr>
          <a:xfrm>
            <a:off x="539640" y="3789360"/>
            <a:ext cx="45370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dan valores iniciales a Q1, Q3 dado Q en el 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 estos valores no se cumplen las ecuaciones de depr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calcula H para la rama Q1, Q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calculan los caudales en iteración i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converge cuando los caudales convergen (2do decim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Object 22"/>
          <p:cNvGraphicFramePr/>
          <p:nvPr/>
        </p:nvGraphicFramePr>
        <p:xfrm>
          <a:off x="5724360" y="4508640"/>
          <a:ext cx="2521080" cy="178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4360" y="4508640"/>
                    <a:ext cx="2521080" cy="17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613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280360" cy="30272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615"/>
          <p:cNvSpPr/>
          <p:nvPr/>
        </p:nvSpPr>
        <p:spPr>
          <a:xfrm>
            <a:off x="611280" y="10526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teración Método igualación de pres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16" descr=""/>
          <p:cNvPicPr/>
          <p:nvPr/>
        </p:nvPicPr>
        <p:blipFill>
          <a:blip r:embed="rId2"/>
          <a:stretch/>
        </p:blipFill>
        <p:spPr>
          <a:xfrm>
            <a:off x="3564000" y="5229360"/>
            <a:ext cx="1638360" cy="98712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619"/>
          <p:cNvSpPr/>
          <p:nvPr/>
        </p:nvSpPr>
        <p:spPr>
          <a:xfrm>
            <a:off x="1116000" y="5300640"/>
            <a:ext cx="216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isten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ircu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2. Método Delta-estr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Object 11"/>
          <p:cNvGraphicFramePr/>
          <p:nvPr/>
        </p:nvGraphicFramePr>
        <p:xfrm>
          <a:off x="4524480" y="1628640"/>
          <a:ext cx="302724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4480" y="1628640"/>
                    <a:ext cx="302724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5" name="Group 16"/>
          <p:cNvGrpSpPr/>
          <p:nvPr/>
        </p:nvGrpSpPr>
        <p:grpSpPr>
          <a:xfrm>
            <a:off x="1258920" y="2133720"/>
            <a:ext cx="2593800" cy="2455560"/>
            <a:chOff x="1258920" y="2133720"/>
            <a:chExt cx="2593800" cy="2455560"/>
          </a:xfrm>
        </p:grpSpPr>
        <p:sp>
          <p:nvSpPr>
            <p:cNvPr id="206" name="AutoShape 4"/>
            <p:cNvSpPr/>
            <p:nvPr/>
          </p:nvSpPr>
          <p:spPr>
            <a:xfrm>
              <a:off x="1476360" y="2133720"/>
              <a:ext cx="2160720" cy="1871640"/>
            </a:xfrm>
            <a:prstGeom prst="triangle">
              <a:avLst>
                <a:gd name="adj" fmla="val 50000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5"/>
            <p:cNvSpPr/>
            <p:nvPr/>
          </p:nvSpPr>
          <p:spPr>
            <a:xfrm>
              <a:off x="2556000" y="2133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6"/>
            <p:cNvSpPr/>
            <p:nvPr/>
          </p:nvSpPr>
          <p:spPr>
            <a:xfrm flipH="1">
              <a:off x="1476000" y="3429000"/>
              <a:ext cx="107964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7"/>
            <p:cNvSpPr/>
            <p:nvPr/>
          </p:nvSpPr>
          <p:spPr>
            <a:xfrm>
              <a:off x="2556000" y="3429000"/>
              <a:ext cx="107928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8"/>
            <p:cNvSpPr/>
            <p:nvPr/>
          </p:nvSpPr>
          <p:spPr>
            <a:xfrm>
              <a:off x="1258920" y="2565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9"/>
            <p:cNvSpPr/>
            <p:nvPr/>
          </p:nvSpPr>
          <p:spPr>
            <a:xfrm>
              <a:off x="3276720" y="263700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0"/>
            <p:cNvSpPr/>
            <p:nvPr/>
          </p:nvSpPr>
          <p:spPr>
            <a:xfrm>
              <a:off x="2411280" y="4221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R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3"/>
            <p:cNvSpPr/>
            <p:nvPr/>
          </p:nvSpPr>
          <p:spPr>
            <a:xfrm>
              <a:off x="2484360" y="2708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1,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4"/>
            <p:cNvSpPr/>
            <p:nvPr/>
          </p:nvSpPr>
          <p:spPr>
            <a:xfrm>
              <a:off x="1835280" y="328464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1,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5"/>
            <p:cNvSpPr/>
            <p:nvPr/>
          </p:nvSpPr>
          <p:spPr>
            <a:xfrm>
              <a:off x="2771640" y="3213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2,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Hardy Cross – sin ventil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4"/>
              <p:cNvSpPr txBox="1"/>
              <p:nvPr/>
            </p:nvSpPr>
            <p:spPr>
              <a:xfrm>
                <a:off x="4427640" y="2060640"/>
                <a:ext cx="14223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H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6"/>
              <p:cNvSpPr txBox="1"/>
              <p:nvPr/>
            </p:nvSpPr>
            <p:spPr>
              <a:xfrm>
                <a:off x="3203640" y="2997360"/>
                <a:ext cx="4321080" cy="23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+</m:t>
                        </m:r>
                        <m:r>
                          <m:t xml:space="preserve">δH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δQ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δH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RQ</m:t>
                        </m:r>
                        <m:r>
                          <m:t xml:space="preserve">δQ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δ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δH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⋅</m:t>
                        </m:r>
                        <m:r>
                          <m:t xml:space="preserve">δQ</m:t>
                        </m:r>
                      </m:e>
                      <m:e>
                        <m:r>
                          <m:t xml:space="preserve">δH</m:t>
                        </m:r>
                        <m:r>
                          <m:t xml:space="preserve">=</m:t>
                        </m:r>
                        <m:r>
                          <m:t xml:space="preserve">δQ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9" name="Text Box 8"/>
          <p:cNvSpPr/>
          <p:nvPr/>
        </p:nvSpPr>
        <p:spPr>
          <a:xfrm>
            <a:off x="611280" y="1844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étodo de iteraciones sucesiv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Método iter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4"/>
              <p:cNvSpPr txBox="1"/>
              <p:nvPr/>
            </p:nvSpPr>
            <p:spPr>
              <a:xfrm>
                <a:off x="2050920" y="1916280"/>
                <a:ext cx="3961080" cy="28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H</m:t>
                            </m:r>
                            <m:r>
                              <m:t xml:space="preserve">+</m:t>
                            </m:r>
                            <m:r>
                              <m:t xml:space="preserve">δH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H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δH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δH</m:t>
                            </m:r>
                          </m:e>
                        </m:nary>
                      </m:e>
                      <m:e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δQ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H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den>
                            </m:f>
                          </m:e>
                        </m:nary>
                      </m:e>
                      <m:e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δQ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H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den>
                            </m:f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∴</m:t>
                        </m:r>
                        <m:r>
                          <m:t xml:space="preserve">δ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H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Q</m:t>
                                    </m:r>
                                  </m:den>
                                </m:f>
                              </m:e>
                            </m:nary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2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Q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"/>
              </a:rPr>
              <a:t>Control de flujo usando regul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s flujos resultantes de circuitos sin regulación rara vez da lo que uno requiere entregar por dise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flujo controlado de aire se realiza por medio de regul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n regulador es un orificio regulable que causa perdida por choque al provocar que el aire se contraiga y expanda cuando pasa a través de 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étodo H-caminos para regular circui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539640" y="1989000"/>
            <a:ext cx="80647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considera que la caida de presión de los caminos de aire tienen que ser igu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determinan los requerimi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calcula la caída de presión de cada cam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determina el valor máximo de caída de pr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regula el circuito hasta alcanzar para cada camino la caída de presión ma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cuación de resistencia en mi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eyes de Kirchh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ircuitos en mi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ircuitos simples sin flujo control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ircuitos simples con reguladores de flu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ircuitos comple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egul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calculan las caídas de presión requer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calcula el tamaño del orificio para causar la perdida por cho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 en cl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5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alculo tamaño de orificio en un regul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Object 4"/>
          <p:cNvGraphicFramePr/>
          <p:nvPr/>
        </p:nvGraphicFramePr>
        <p:xfrm>
          <a:off x="684360" y="3960720"/>
          <a:ext cx="2490480" cy="8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960720"/>
                    <a:ext cx="24904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7"/>
          <p:cNvGraphicFramePr/>
          <p:nvPr/>
        </p:nvGraphicFramePr>
        <p:xfrm>
          <a:off x="4876920" y="3211560"/>
          <a:ext cx="275256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3211560"/>
                    <a:ext cx="275256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9"/>
          <p:cNvGraphicFramePr/>
          <p:nvPr/>
        </p:nvGraphicFramePr>
        <p:xfrm>
          <a:off x="4952880" y="2125800"/>
          <a:ext cx="2733840" cy="836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4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2125800"/>
                    <a:ext cx="273384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11"/>
          <p:cNvGraphicFramePr/>
          <p:nvPr/>
        </p:nvGraphicFramePr>
        <p:xfrm>
          <a:off x="826920" y="1916280"/>
          <a:ext cx="1944720" cy="947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6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26920" y="1916280"/>
                    <a:ext cx="1944720" cy="9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Text Box 13"/>
          <p:cNvSpPr/>
          <p:nvPr/>
        </p:nvSpPr>
        <p:spPr>
          <a:xfrm>
            <a:off x="1332000" y="5445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Z = 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4"/>
          <p:cNvSpPr/>
          <p:nvPr/>
        </p:nvSpPr>
        <p:spPr>
          <a:xfrm>
            <a:off x="468360" y="609300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jemplos en cl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5"/>
          <p:cNvSpPr/>
          <p:nvPr/>
        </p:nvSpPr>
        <p:spPr>
          <a:xfrm>
            <a:off x="900000" y="2781360"/>
            <a:ext cx="22320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= área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= % á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Object 16"/>
          <p:cNvGraphicFramePr/>
          <p:nvPr/>
        </p:nvGraphicFramePr>
        <p:xfrm>
          <a:off x="5076720" y="4437000"/>
          <a:ext cx="1728720" cy="961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1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76720" y="4437000"/>
                    <a:ext cx="172872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ircuitos de ventil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 circuito de ventilación consta de múltiples arreglos de galerías, ventiladores, reguladores, puer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os elementos están interconectados para cumplir con los requerimientos de calidad y cantidad de aire requeri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ipos de circu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ct 4"/>
          <p:cNvGraphicFramePr/>
          <p:nvPr/>
        </p:nvGraphicFramePr>
        <p:xfrm>
          <a:off x="760320" y="2192400"/>
          <a:ext cx="7016760" cy="27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0320" y="2192400"/>
                    <a:ext cx="7016760" cy="27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Text Box 7"/>
          <p:cNvSpPr/>
          <p:nvPr/>
        </p:nvSpPr>
        <p:spPr>
          <a:xfrm>
            <a:off x="971640" y="530064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ircuitos si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4427640" y="530064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ircuitos comple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Terminología en circuitos de ventilación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Object 4"/>
          <p:cNvGraphicFramePr/>
          <p:nvPr/>
        </p:nvGraphicFramePr>
        <p:xfrm>
          <a:off x="826920" y="1700280"/>
          <a:ext cx="261000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700280"/>
                    <a:ext cx="261000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Text Box 7"/>
          <p:cNvSpPr/>
          <p:nvPr/>
        </p:nvSpPr>
        <p:spPr>
          <a:xfrm>
            <a:off x="4427640" y="2133720"/>
            <a:ext cx="417672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punto de intersección entre dos o mas seg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Ram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una linea que conecta dos no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afo conectad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un set de nodos con algunos nodos conectados por r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ircuit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un grafo con un tipo de flujo asoc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erminología en circuitos de ventil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rado de un nodo: el numero de ramas que tiene el no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alla: un grafo conectado en el que cada nodo tiene un grado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Árbol: un grafo conectado que tiene ramas que conectan todos los nodos pero que no crean mal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uerda: una rama en el circuito pero no en árb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alla básica: malla con solo una cuerda cuyo camino esta dado por la dirección del flujo que tiene la cuer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xisten Nm=Nb-Nn+1 mallas basicas en circui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alla base: conjunto que contiene todas la mallas básicas para un árb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rado de un circuito: numero de cuer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olución de circuitos si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Object 4"/>
          <p:cNvGraphicFramePr/>
          <p:nvPr/>
        </p:nvGraphicFramePr>
        <p:xfrm>
          <a:off x="826920" y="1484280"/>
          <a:ext cx="35290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484280"/>
                    <a:ext cx="35290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6"/>
          <p:cNvGraphicFramePr/>
          <p:nvPr/>
        </p:nvGraphicFramePr>
        <p:xfrm>
          <a:off x="4500720" y="1773360"/>
          <a:ext cx="4174920" cy="347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1773360"/>
                    <a:ext cx="4174920" cy="34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Text Box 8"/>
          <p:cNvSpPr/>
          <p:nvPr/>
        </p:nvSpPr>
        <p:spPr>
          <a:xfrm>
            <a:off x="684360" y="57340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jercicio en clases: calcular Req y Q para cada ra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ffff"/>
                </a:solidFill>
                <a:latin typeface="Arial"/>
              </a:rPr>
              <a:t>Resolución de circuitos complejos de ventilació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Algoritmo generalizado Hardy Cr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4"/>
              <p:cNvSpPr txBox="1"/>
              <p:nvPr/>
            </p:nvSpPr>
            <p:spPr>
              <a:xfrm>
                <a:off x="5940360" y="4149720"/>
                <a:ext cx="23749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aphicFrame>
        <p:nvGraphicFramePr>
          <p:cNvPr id="265" name="Object 7"/>
          <p:cNvGraphicFramePr/>
          <p:nvPr/>
        </p:nvGraphicFramePr>
        <p:xfrm>
          <a:off x="3780000" y="1989000"/>
          <a:ext cx="4975200" cy="10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1989000"/>
                    <a:ext cx="497520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Text Box 10"/>
          <p:cNvSpPr/>
          <p:nvPr/>
        </p:nvSpPr>
        <p:spPr>
          <a:xfrm>
            <a:off x="684360" y="1844640"/>
            <a:ext cx="3024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q ramas con caudal fi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f ramas con ventil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b ram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826920" y="3573360"/>
            <a:ext cx="77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) Se asignan valores iniciales a Qi para i=Nq+1…Nm (Nm=Nb-Nn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755640" y="407664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) Para j = Nm..Nb, se calculan valores de Q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Object 13"/>
          <p:cNvGraphicFramePr/>
          <p:nvPr/>
        </p:nvGraphicFramePr>
        <p:xfrm>
          <a:off x="2268360" y="5025960"/>
          <a:ext cx="2232360" cy="87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1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5025960"/>
                    <a:ext cx="223236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atriz fundamen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4"/>
              <p:cNvSpPr txBox="1"/>
              <p:nvPr/>
            </p:nvSpPr>
            <p:spPr>
              <a:xfrm>
                <a:off x="900000" y="1700280"/>
                <a:ext cx="3170520" cy="38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1,1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b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/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4" name="Text Box 7"/>
          <p:cNvSpPr/>
          <p:nvPr/>
        </p:nvSpPr>
        <p:spPr>
          <a:xfrm>
            <a:off x="3059280" y="3789360"/>
            <a:ext cx="431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i rama bk,j esta en malla k &amp; dirección flujo = dirección flujo malla bási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3060720" y="4437000"/>
            <a:ext cx="431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i rama bk,j no esta en malla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3060720" y="4916520"/>
            <a:ext cx="431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i rama bk,j esta en malla k y dirección de flujo contrario a malla bás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imera Ley de Kirchho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1143000" y="2692440"/>
          <a:ext cx="2662200" cy="24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692440"/>
                    <a:ext cx="2662200" cy="24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6"/>
          <p:cNvGraphicFramePr/>
          <p:nvPr/>
        </p:nvGraphicFramePr>
        <p:xfrm>
          <a:off x="5486400" y="2192400"/>
          <a:ext cx="2131920" cy="90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2192400"/>
                    <a:ext cx="213192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8"/>
          <p:cNvGraphicFramePr/>
          <p:nvPr/>
        </p:nvGraphicFramePr>
        <p:xfrm>
          <a:off x="5106960" y="3484440"/>
          <a:ext cx="3146400" cy="594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6960" y="3484440"/>
                    <a:ext cx="314640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468360" y="1844640"/>
            <a:ext cx="770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) Sea Nx el numero de itera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4) Para i=Nq+1,…,Nm se calculan fi, fi´, Xi y Q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Object 5"/>
          <p:cNvGraphicFramePr/>
          <p:nvPr/>
        </p:nvGraphicFramePr>
        <p:xfrm>
          <a:off x="3592440" y="2852640"/>
          <a:ext cx="3527640" cy="367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92440" y="2852640"/>
                    <a:ext cx="3527640" cy="36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Text Box 8"/>
          <p:cNvSpPr/>
          <p:nvPr/>
        </p:nvSpPr>
        <p:spPr>
          <a:xfrm>
            <a:off x="611280" y="364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esta en ventil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jercicio en clases- Ejemplo Hardy Cro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ct 4"/>
          <p:cNvGraphicFramePr/>
          <p:nvPr/>
        </p:nvGraphicFramePr>
        <p:xfrm>
          <a:off x="457200" y="2394000"/>
          <a:ext cx="4038480" cy="30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94000"/>
                    <a:ext cx="4038480" cy="30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6"/>
          <p:cNvGraphicFramePr/>
          <p:nvPr/>
        </p:nvGraphicFramePr>
        <p:xfrm>
          <a:off x="4648320" y="2303640"/>
          <a:ext cx="4038480" cy="324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303640"/>
                    <a:ext cx="4038480" cy="32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olución de ma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Object 4"/>
          <p:cNvGraphicFramePr/>
          <p:nvPr/>
        </p:nvGraphicFramePr>
        <p:xfrm>
          <a:off x="4572000" y="2276640"/>
          <a:ext cx="4038480" cy="288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276640"/>
                    <a:ext cx="4038480" cy="28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Object 6"/>
          <p:cNvGraphicFramePr/>
          <p:nvPr/>
        </p:nvGraphicFramePr>
        <p:xfrm>
          <a:off x="395280" y="2133720"/>
          <a:ext cx="4038480" cy="324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2133720"/>
                    <a:ext cx="4038480" cy="32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olución- caud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8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8107200" cy="33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olución caídas de pre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476360" y="2205000"/>
          <a:ext cx="4619520" cy="2712960"/>
        </p:xfrm>
        <a:graphic>
          <a:graphicData uri="http://schemas.openxmlformats.org/drawingml/2006/table">
            <a:tbl>
              <a:tblPr/>
              <a:tblGrid>
                <a:gridCol w="1155600"/>
                <a:gridCol w="1154160"/>
                <a:gridCol w="1155600"/>
                <a:gridCol w="115416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stenc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ud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-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.8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-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.7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-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9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-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-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-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-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-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.8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-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2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Text Box 97"/>
          <p:cNvSpPr/>
          <p:nvPr/>
        </p:nvSpPr>
        <p:spPr>
          <a:xfrm>
            <a:off x="971640" y="5445000"/>
            <a:ext cx="201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= 1990 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= 46,9 m3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bserv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algoritmo de H&amp;C puede ser utilizado en circuitos con cantidades fijas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e asignan las cantidades conocidas a las cuerdas del circui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árbol se elije con las ramas no fi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ando se elijen las mallas fundamentales , solo se ajustan aquellas que no contienen una rama fija, ya que no se pueden hacer cambios en una malla fundamental que contenga caudales fij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número de ramas con caudal fijo esta limitado al numero de mallas fundamentales que existen en un circuito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i no el sistema se resuelve con medios algebraicos, sin necesidad del algoritmo de H&amp;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rcicio – Próximo Lu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lcular el circuito anterior utilizando un ventilador principal extractor, cuya presión al circuito en función del caudal esta dada por la siguiente rel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f= -0.22344Q2 – 10.545Q + 2986 (P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caudal en la rama (F-C) es igual a  10.000 cfm con la ayuda de un ventilador reforz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egunda ley de Kirchho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2208240" y="1989000"/>
          <a:ext cx="2771640" cy="18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8240" y="1989000"/>
                    <a:ext cx="2771640" cy="18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7"/>
          <p:cNvGraphicFramePr/>
          <p:nvPr/>
        </p:nvGraphicFramePr>
        <p:xfrm>
          <a:off x="5638680" y="2463840"/>
          <a:ext cx="2273400" cy="102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2463840"/>
                    <a:ext cx="227340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10"/>
          <p:cNvGraphicFramePr/>
          <p:nvPr/>
        </p:nvGraphicFramePr>
        <p:xfrm>
          <a:off x="1446120" y="4164120"/>
          <a:ext cx="6286680" cy="930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6120" y="4164120"/>
                    <a:ext cx="628668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13"/>
          <p:cNvGraphicFramePr/>
          <p:nvPr/>
        </p:nvGraphicFramePr>
        <p:xfrm>
          <a:off x="1476360" y="5445000"/>
          <a:ext cx="6408720" cy="676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5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76360" y="5445000"/>
                    <a:ext cx="640872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ircuitos en mi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4"/>
          <p:cNvGraphicFramePr/>
          <p:nvPr/>
        </p:nvGraphicFramePr>
        <p:xfrm>
          <a:off x="468360" y="1989000"/>
          <a:ext cx="8209080" cy="32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989000"/>
                    <a:ext cx="8209080" cy="32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ircuitos en 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1692360" y="1628640"/>
          <a:ext cx="5315040" cy="24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628640"/>
                    <a:ext cx="5315040" cy="24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Text Box 6"/>
          <p:cNvSpPr/>
          <p:nvPr/>
        </p:nvSpPr>
        <p:spPr>
          <a:xfrm>
            <a:off x="900000" y="4365720"/>
            <a:ext cx="748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 circuito en serie es aquel en que las galerías de ventilación  se pueden disponer una tras otra desde el principio a fin y el flujo Q es el m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ircuitos en parale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4"/>
          <p:cNvGraphicFramePr/>
          <p:nvPr/>
        </p:nvGraphicFramePr>
        <p:xfrm>
          <a:off x="912960" y="1989000"/>
          <a:ext cx="5946480" cy="14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2960" y="1989000"/>
                    <a:ext cx="5946480" cy="14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6"/>
          <p:cNvGraphicFramePr/>
          <p:nvPr/>
        </p:nvGraphicFramePr>
        <p:xfrm>
          <a:off x="2513160" y="3960720"/>
          <a:ext cx="3025800" cy="54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3160" y="3960720"/>
                    <a:ext cx="3025800" cy="5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8"/>
          <p:cNvGraphicFramePr/>
          <p:nvPr/>
        </p:nvGraphicFramePr>
        <p:xfrm>
          <a:off x="1979640" y="4505400"/>
          <a:ext cx="5186160" cy="87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9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79640" y="4505400"/>
                    <a:ext cx="518616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10"/>
          <p:cNvSpPr/>
          <p:nvPr/>
        </p:nvSpPr>
        <p:spPr>
          <a:xfrm>
            <a:off x="1116000" y="55166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s circuitos paralelos son los que bifurcan el flujo hacia otras galer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ircuito Parale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7"/>
          <p:cNvGraphicFramePr/>
          <p:nvPr/>
        </p:nvGraphicFramePr>
        <p:xfrm>
          <a:off x="1071720" y="4071960"/>
          <a:ext cx="7286400" cy="11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4071960"/>
                    <a:ext cx="728640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10"/>
          <p:cNvGraphicFramePr/>
          <p:nvPr/>
        </p:nvGraphicFramePr>
        <p:xfrm>
          <a:off x="1619280" y="1643040"/>
          <a:ext cx="349740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1643040"/>
                    <a:ext cx="349740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13"/>
          <p:cNvGraphicFramePr/>
          <p:nvPr/>
        </p:nvGraphicFramePr>
        <p:xfrm>
          <a:off x="1522440" y="2463840"/>
          <a:ext cx="1371600" cy="1144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440" y="2463840"/>
                    <a:ext cx="1371600" cy="11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ircuitos en paralel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circuitos en paralelo se usan en minas por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ingresa aire fresco a los lugares de trabajo, es decir se evita recircu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costo de energía es menor para una cantidad de aire que un circuito en ser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or eso se trata de usar circuitos paralelos tan cerca del ventilador como sea po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22:51:18Z</dcterms:created>
  <dc:creator>Gustavo Reyes B.</dc:creator>
  <dc:description/>
  <dc:language>en-US</dc:language>
  <cp:lastModifiedBy>Raúl</cp:lastModifiedBy>
  <dcterms:modified xsi:type="dcterms:W3CDTF">2009-11-06T19:06:51Z</dcterms:modified>
  <cp:revision>71</cp:revision>
  <dc:subject/>
  <dc:title>CIRCUITOS DE VENTILACION</dc:title>
</cp:coreProperties>
</file>