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5EA8-DD8F-4A7E-BAF7-D423FC6950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1AD9-A6DE-4F96-A3E0-AFDA2EB7F5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CBD5-AA0A-403A-88E7-864720F176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5E5-9813-4647-811D-1AABB045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58D-B76C-444B-8F81-C5882212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FDC-3FC9-448B-B791-920AE1B6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F52-2FC7-4FE9-83F3-70A3AC0C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118-0095-458A-A52D-35010268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927-FBA5-45FD-9AE3-B24E079A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A6F-0BB9-4457-B761-B0F633F9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D3E-A05F-4D86-9201-476AE174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30A-92B4-49B4-BF02-C2DA222D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AD1-0016-4E18-8313-D4C6530B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D11-53B4-42AF-BCA8-4EE33D5B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201-9E06-46A1-BEB1-42C0E756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07C0-5770-4920-8750-F2383BA40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9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Alberto P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pino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lanco 2120, of. 302; martes 16-17: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pino</dc:creator>
  <dc:description/>
  <dc:language>en-US</dc:language>
  <cp:lastModifiedBy>jpino</cp:lastModifiedBy>
  <cp:lastPrinted>2006-03-02T13:33:10Z</cp:lastPrinted>
  <dcterms:modified xsi:type="dcterms:W3CDTF">2010-03-24T12:13:44Z</dcterms:modified>
  <cp:revision>30</cp:revision>
  <dc:subject/>
  <dc:title>datos generales curso</dc:title>
</cp:coreProperties>
</file>