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0CD-2DE2-48EA-8FA7-2E6C3E6B52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A867-028F-423C-9646-3B6FC354ED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3375-A1FC-415F-89A3-8BA3436DB9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967-9B60-4A25-ACE4-7381F121EB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6E0A-6D74-44D4-BB59-FBDEF498B7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433-2150-4562-B721-260BBCEF69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DFE-275A-4B59-AE0D-BBEA4864B8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9589-512C-45C6-A37E-6BC21F92C0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049-9ECA-4CB8-82DC-8F3C31B012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7AAD-05EE-4963-A37E-059481C240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9D44-9620-4C64-B7A0-711A3F1EE8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4C1-FE22-45C7-919E-ED00CA176F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BA4-F797-42A8-B290-03AE32503F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F941-1CCC-4C65-BAE4-8CA21B5F31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869-5438-41BC-B079-6A689406F2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66D-97DE-4FCE-8B5A-6E14E67CD3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DCF2-D092-4663-81A8-039EFDF70B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B8BE-81A7-4338-B540-30A32665C5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9E6-2D01-4F25-B73A-CCA0BF602F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BA0-74A0-46BC-9EE0-4E67A69E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B57-7C11-45DD-A880-BE2DCF2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661-1518-40C1-BF55-CCF9DB27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436-3E12-4089-A371-91638D48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DCD-2142-477C-B0F3-A9C6CC3B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44E-2875-4F8E-B5DE-7ED38C8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CAD-0BF4-47EA-B63A-0F98F30D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AA8-FB63-4437-B1F9-FA6A064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B22-2D83-4335-8588-EF728E11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D23-85AF-4A6C-8D9D-2617297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437-4A77-452A-BE6D-F86C3374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04C-7F59-4071-A2E9-99D4621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E5F-BDBB-4658-8417-0B94E0CD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pino</dc:creator>
  <dc:description/>
  <dc:language>en-US</dc:language>
  <cp:lastModifiedBy>jpino</cp:lastModifiedBy>
  <cp:lastPrinted>2006-03-17T17:08:51Z</cp:lastPrinted>
  <dcterms:modified xsi:type="dcterms:W3CDTF">2010-03-29T13:55:13Z</dcterms:modified>
  <cp:revision>40</cp:revision>
  <dc:subject/>
  <dc:title>Sin título de diapositiva</dc:title>
</cp:coreProperties>
</file>