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577E-9CE1-4295-958D-CAEEE94576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BDDB-CB40-4D07-9083-0BDE7A23FB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600-7CD6-4AF5-B4AF-84B2D459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24E-1BF2-4792-A6EA-0BA8361C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668-E93D-42D4-89E6-98120F40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3AA-E5D4-4FC6-A966-49F3B76F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659-DC6C-493C-B9E1-19397E20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0D1-E0E9-4C7E-A030-AC3C2B14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8C7-B602-4354-91D3-091FDD41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9EE-1FDC-4F38-B776-2895397C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861-B22A-43AD-A9CA-5294AE82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7C70-F20F-42DB-8937-3B53234A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DFC-18B2-4693-A9B0-599D1BD8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565-01EC-4527-A460-7A29CBF5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B428-195F-4FDD-911C-C4B129DD4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3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30200" y="457200"/>
          <a:ext cx="8659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57200"/>
                    <a:ext cx="8659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96800" y="646200"/>
          <a:ext cx="84726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46200"/>
                    <a:ext cx="84726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8200" y="484200"/>
          <a:ext cx="8458200" cy="720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84200"/>
                    <a:ext cx="8458200" cy="72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5"/>
          <p:cNvGraphicFramePr/>
          <p:nvPr/>
        </p:nvGraphicFramePr>
        <p:xfrm>
          <a:off x="550800" y="511200"/>
          <a:ext cx="833760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33760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50800" y="511200"/>
          <a:ext cx="8096400" cy="661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96400" cy="66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permutaciones(int x,int y) //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combinaciones(int x,int y) //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fibonacci(int i)//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inverso(int x)//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pino</dc:creator>
  <dc:description/>
  <dc:language>en-US</dc:language>
  <cp:lastModifiedBy>jpino</cp:lastModifiedBy>
  <cp:lastPrinted>2006-03-22T18:37:38Z</cp:lastPrinted>
  <dcterms:modified xsi:type="dcterms:W3CDTF">2010-04-06T14:33:57Z</dcterms:modified>
  <cp:revision>32</cp:revision>
  <dc:subject/>
  <dc:title>recursion</dc:title>
</cp:coreProperties>
</file>