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176-8B48-474C-AE20-F6343688C7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encabezado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6E3-7DC5-4365-9A81-E0363E063B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8C4-FC84-4C96-8069-07B02085CA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C7A-DAB8-4C48-8DE6-8A95C3FB8D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287-D8A1-44E9-89DE-2FF65FFA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019-237F-45C3-9542-AC70D10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21F-2D8D-4A01-9175-E72F7F50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8D4-AC41-4FBA-B9A8-5F774522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96A-EEAB-49D5-BB9C-EA6530D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4FA-1B4E-4823-88C2-790470F9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5EF-CFF3-4AFD-8747-0B98966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B2F-2FB7-4A87-B9F5-E2BE80E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375-E3A3-421C-ABE5-CAC7DAA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E44-0476-4BFC-BF76-A8F0615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28A-75FC-4CB9-B742-AF392DF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524-5356-410D-8ADB-B1E1F71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A2A-A1F9-4C43-95F1-21B596E49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5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5-03-29T16:14:14Z</cp:lastPrinted>
  <dcterms:modified xsi:type="dcterms:W3CDTF">2010-04-08T14:40:57Z</dcterms:modified>
  <cp:revision>44</cp:revision>
  <dc:subject/>
  <dc:title>clase 6</dc:title>
</cp:coreProperties>
</file>