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(operadores/insts especi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-agosto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0BBD-3D1A-4B6D-9AF7-99C4EA5BAE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(operadores/insts especi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-agosto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92C1-850E-4701-87BB-9DFF144F34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(operadores/insts especi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-agosto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8373-BBB5-4E4F-84F6-AEC67DD363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6CA-4A29-4FDE-A9F6-3133717E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85E-CE2A-4F27-B29E-29AADE82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428-0B2B-4504-B9BB-2AAD486F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6A5-E510-4A11-AB63-B4B24D9A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38AB-053F-49D2-AA88-1F84C021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F616-1113-4699-8019-0C111721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860-102A-4556-B411-FE4A354F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36D3-E328-4E35-BEA3-856917FF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A654-C9E5-4FB0-82D2-2A1008F2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8471-07F4-4608-92D9-E2BA0312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982C-0C6C-4B16-9DB9-F47ADB68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E8B-902B-441B-88C0-BF98D1ED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9D10-234D-4156-9FE5-A864BFAA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C2AF-E2ED-4528-B7A2-E2E11F6A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994E-4409-40AF-B6AD-B89538E1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EA84-40CF-4A20-AD45-13DDAF11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1ED6-8CCF-4B7F-B308-DA039934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D747A-B61A-4624-9AD8-E19373A1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B15B1-1E4D-4D4D-95CB-EB7C5269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44920-99CD-44F5-A41C-17D6F357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5E9E1-58AA-4BB7-A54B-5A50456A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A2B02-72B4-4F28-9BBD-3ECD96A0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87E-596A-4950-8838-DE93E65A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58829-D740-4241-88FE-7346EC54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4A9F6-C502-4639-87CB-13B68FD7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2721F-0F82-4D22-A497-F1438022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54D7F-1CC8-45EC-834B-C35D0FE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39494-7557-4F2E-A46C-AA5B93EF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21435-B9D8-4001-91A5-9A60FEA2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754CF-5AA5-48EE-88D5-014FC9FE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DFB67-3ADE-4A76-966B-5CF31F1A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26EB-1AE0-41AA-AD77-7F52AE8B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3F004-D127-451C-BA1F-81CAAFB3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D95-1908-4040-8B2C-52680378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FCC2E-46BA-433B-B995-F1AD495A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446B-14A5-436A-BFA7-0A6D5FEC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1B09B-5939-4CA4-913E-597AB805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1845B-50DD-4B3E-A5F4-B047176C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C4C69-487E-4B47-9DAA-D5EEE386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E876F-3298-4CF5-AB12-A67B43CD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C225-209E-4D35-8257-9C95B9ED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556B-BE53-4649-B267-AB1C7B22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F432A-1E01-4687-9CEB-A706D0BF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DDFC1-322F-467A-AF3E-22251C63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97F-4DE8-4249-8F36-1C88E50B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95296-543C-46E1-AF0E-D19536A4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9490D-066A-4DF9-AC14-1E128232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0A918-3D35-41FA-8CC3-7DA0A2F7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7711D-ED62-41DE-A70B-29FF0005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5523F-B807-4309-9F6D-32AFA987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6F8E0-E34A-4461-BB5B-729DECC2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F7F52-D13C-467B-B0EF-DA94CC98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1A130-E40F-4D92-933F-9351B94E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D46DA-3BF0-4F25-8529-5D252BC6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F2587-E9E1-447A-A156-26A4E4F8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9AF-7875-42E5-BDF9-FC4F69F7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9C736-1448-40D8-A29D-5E5299A3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3CAE4-03F0-4A9E-80C9-7962058C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7EDE00-AF22-4808-ABDF-270DA2AA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20BB4-3A7E-4A11-A139-5395DA11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063D3-27A5-46CB-8A2D-10FC6593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31603-B6F0-44E1-B655-507956B6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4BE62-7744-4311-9953-EB2E5C24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5D1E2-71D7-4876-9421-BE22C0DB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A1888-87D9-42AD-BE65-D67B85EE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37578-A191-4B82-87C9-273DA9C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86C-9C9D-4C72-94A2-873DE2BC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4220C-AC63-4D2A-A8A7-89C8F936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D7A40-F8D5-4619-A03F-1DEF3C3F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D7A07-A8AF-405D-BC7E-00AB65CB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905E2-309E-4EA9-A857-D288A3AB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30970-0429-4F7E-8C6C-D9F45F14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2D42FF-9C89-4FB7-B0BE-01FEAD90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01B6C-5B74-4231-A59B-32A10486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FD304-4EAB-4A51-B45C-C4BC1C36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AACC4-70CD-457D-9EB1-87325E02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B94A0-8ACE-4FF7-BE76-6C3FE598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D19-ED0F-4802-8A10-9EBDF9A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A95FC-90CE-4EFC-82F7-86475920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F4E88-1C50-4C12-92EB-19A34242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BD5E0-75A7-4484-BC47-2534CDB0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96530-ECF9-4B79-9D21-BEB7752E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A2A8C-B810-453A-A0D8-5B7224B3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CEE-FD70-4B78-B4E6-724A0750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976D-9854-4D21-AC1D-E8E4FBF375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19E2-B5AF-41EF-974F-A953D40D39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E637-A71B-4282-8C03-8646D69E6E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916E-6A6A-4811-B8F9-5B13D75453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2CC0-3E0C-4633-B05A-4C7C5F0E2C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E821-FE53-4238-B0DD-E8C63B6C61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C186-8747-4FD4-865A-505CDDCF70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Victor Ramiro</cp:lastModifiedBy>
  <cp:lastPrinted>2005-03-29T16:14:14Z</cp:lastPrinted>
  <dcterms:modified xsi:type="dcterms:W3CDTF">2010-04-14T05:46:51Z</dcterms:modified>
  <cp:revision>44</cp:revision>
  <dc:subject/>
  <dc:title>Sin título de diapositiva</dc:title>
</cp:coreProperties>
</file>