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F9C-DA47-44CE-A109-81FC1CB2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8EF-BC85-498B-9F81-8055B44A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861-0008-4992-84E2-545FE947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716-889E-461D-8FA3-67BC66FB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1A8-5141-4F7E-9FC1-8FC7E05B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3E6-1000-42D3-A7B9-D8D5C846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CBD-F9CA-46FE-AC37-3E7E74CA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E37-F171-4AA0-B6F6-348EBCA1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D13-D941-4411-9D4F-2BD1B6DE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18E-006B-45AE-A076-9A3B257E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B73-F6D9-4F4D-BEB2-A47F91D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C36-1BD2-4265-9879-456ADE46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9A4E-3BAC-47E1-893D-BA5EF920A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R kb=new BR(new InputStreamReader(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tring linea=kb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28T13:28:01Z</dcterms:modified>
  <cp:revision>40</cp:revision>
  <dc:subject/>
  <dc:title>Sin título de diapositiva</dc:title>
</cp:coreProperties>
</file>