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7FF1-8E4F-4C84-9052-46F0C95FB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2550-22C0-4C6B-86F4-DA15C6E6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9D52-5A4A-44ED-96C2-8A3972C9E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00F2-32E5-44A4-A928-A728E9B83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5A97-2958-4339-9662-BBD690E37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60BA8-785B-4E0C-A9B4-FEE4B1A5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46F1-A656-4DD7-9638-DED3D6B1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EAC4-764F-45BD-BD14-E9F6C7CB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772C-2A90-43EF-970E-D1F1B0C5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6074-D4F5-4E30-8352-24B89C54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53D3E-20E0-41F2-B813-3A5CF783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5E21-7E6F-46E3-BFCD-CD57860D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3078-A650-4C89-9D7A-21866386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9F68-C834-4A22-8134-2B1DC4B5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B5823-25C8-41C1-82F9-D779B862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DB5B-6FCD-4575-9D36-E2E922231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62EE-E0A7-4CA3-B4C9-F36114F02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0FF7-6E23-45B0-AEB1-21FF7653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5912-71DF-47B3-8776-9AE6EE1B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3BAA-18A6-4C6A-84B2-97D42642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ADB2-2BEA-4074-9006-80DA210F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9EE2-C18D-4B46-9D3C-11D4ACC9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9C3C-48F6-4E86-B294-1C51075A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3F2F-E308-4EE8-AC0E-B63764F8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EC62-A1D5-46CE-BE24-604EF1A2E9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4CAC-15A6-4AD2-BDA2-82897B4574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55640" y="2421000"/>
            <a:ext cx="770256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ecff"/>
                </a:solidFill>
                <a:latin typeface="Arial"/>
              </a:rPr>
              <a:t>Ecología de comunidades</a:t>
            </a:r>
            <a:br>
              <a:rPr sz="3600"/>
            </a:br>
            <a:r>
              <a:rPr b="0" lang="es-ES_tradnl" sz="3600" spc="-1" strike="noStrike">
                <a:solidFill>
                  <a:srgbClr val="ccecff"/>
                </a:solidFill>
                <a:latin typeface="Arial"/>
              </a:rPr>
              <a:t>Cadenas Trófica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71640" y="5229360"/>
            <a:ext cx="67816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fesora titular: Matilde López 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fesora auxiliar: Maria Fernanda Hurtado Ro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189000"/>
            <a:ext cx="460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Universidad de Ch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Facultad de Cs. Físicas y Matemát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CI-56 C. Seminario Fundamentos de Ecologí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adenas trófica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ffffff"/>
                </a:solidFill>
                <a:latin typeface="Arial"/>
              </a:rPr>
              <a:t>3er nivel  trófico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ffffff"/>
                </a:solidFill>
                <a:latin typeface="Arial"/>
              </a:rPr>
              <a:t>Descomponed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ffffff"/>
                </a:solidFill>
                <a:latin typeface="Arial"/>
              </a:rPr>
              <a:t>Son organismos que aprovechan la materia y la energía que aún contienen los restos de seres vivos, descomponiendo la materia orgánica en materia inorgánic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ffffff"/>
                </a:solidFill>
                <a:latin typeface="Arial"/>
              </a:rPr>
              <a:t>A este grupo pertenecen los hongos, bacterias y otros microorganismos, quienes segregan enzimas digestivas sobre el material muerto o de desecho y luego absorben los productos de la digestión.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adenas trófica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ffffff"/>
                </a:solidFill>
                <a:latin typeface="Arial"/>
              </a:rPr>
              <a:t>Dado que el flujo de energía en un ecosistema ocurre cuando los organismos se comen unos a otros es necesario agruparlos teniendo en cuenta su fuente de energí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ffffff"/>
                </a:solidFill>
                <a:latin typeface="Arial"/>
              </a:rPr>
              <a:t>Dentro de un ecosistema los organismos que obtienen energía de una fuente común constituyen un nivel trófico o alimentar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23880" y="12193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iveles tróf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adenas trófica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PR" sz="1800" spc="-1" strike="noStrike">
                <a:solidFill>
                  <a:srgbClr val="ffffff"/>
                </a:solidFill>
                <a:latin typeface="Arial"/>
              </a:rPr>
              <a:t>1er nivel tró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R" sz="1800" spc="-1" strike="noStrike">
                <a:solidFill>
                  <a:srgbClr val="ffffff"/>
                </a:solidFill>
                <a:latin typeface="Arial"/>
              </a:rPr>
              <a:t>Productor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ffffff"/>
                </a:solidFill>
                <a:latin typeface="Arial"/>
              </a:rPr>
              <a:t>En ecosistemas terrestres está representado por plantas, en tanto que en ecosistemas acuáticos los productores son las alga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ffffff"/>
                </a:solidFill>
                <a:latin typeface="Arial"/>
              </a:rPr>
              <a:t>Se caracterizan por usar la </a:t>
            </a:r>
            <a:r>
              <a:rPr b="0" i="1" lang="es-PR" sz="1800" spc="-1" strike="noStrike">
                <a:solidFill>
                  <a:srgbClr val="ffffff"/>
                </a:solidFill>
                <a:latin typeface="Arial"/>
              </a:rPr>
              <a:t>energía solar</a:t>
            </a:r>
            <a:r>
              <a:rPr b="0" lang="es-PR" sz="1800" spc="-1" strike="noStrike">
                <a:solidFill>
                  <a:srgbClr val="ffffff"/>
                </a:solidFill>
                <a:latin typeface="Arial"/>
              </a:rPr>
              <a:t> para producir  moléculas orgánicas (por ejemplo hidratos de carbono) y otros compuestos que luego serán transformados en </a:t>
            </a:r>
            <a:r>
              <a:rPr b="0" i="1" lang="es-PR" sz="1800" spc="-1" strike="noStrike">
                <a:solidFill>
                  <a:srgbClr val="ffffff"/>
                </a:solidFill>
                <a:latin typeface="Arial"/>
              </a:rPr>
              <a:t>energía química.</a:t>
            </a:r>
            <a:r>
              <a:rPr b="0" lang="es-P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ffffff"/>
                </a:solidFill>
                <a:latin typeface="Arial"/>
              </a:rPr>
              <a:t>Son organismos capaces de captar y aprovechar la energía solar o lumínic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adenas trófica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ffffff"/>
                </a:solidFill>
                <a:latin typeface="Arial"/>
              </a:rPr>
              <a:t>Los mayores productores primarios de los ecosistemas acuáticos son las algas que a menudo forman el fitoplancton en las capas superficiales de los océanos y lago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ffffff"/>
                </a:solidFill>
                <a:latin typeface="Arial"/>
              </a:rPr>
              <a:t>En los ecosistemas terrestres, los principales productores primarios son las plantas superiores, las angiospermas y gimnosperma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adenas trófica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ndo nivel tró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umid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s consumidores primar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ffffff"/>
                </a:solidFill>
                <a:latin typeface="Arial"/>
              </a:rPr>
              <a:t>Son los que se alimentan de los productores primarios y son denominados herbívoros. En la tierra, los herbívoros típicos incluyen insectos, reptiles, pájaros y mamífer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ffffff"/>
                </a:solidFill>
                <a:latin typeface="Arial"/>
              </a:rPr>
              <a:t>Dos grupos importantes de mamíferos herbívoros son los roedores y los ungulados. Estos últimos son los animales con pezuñas, que pastan, como los caballos, las ovejas o el ganado vacun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ffffff"/>
                </a:solidFill>
                <a:latin typeface="Arial"/>
              </a:rPr>
              <a:t>Los consumidores primarios también incluyen algunos parásitos de plantas, como por ejemplo: hongos, otras plantas y otros animales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adenas trófica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ffffff"/>
                </a:solidFill>
                <a:latin typeface="Arial"/>
              </a:rPr>
              <a:t>En los ecosistemas acuáticos (de agua dulce y salada) los herbívoros son típicamente pequeños crustáceos y moluscos. Son ejemplos: las pulgas de agua, los copépodos, las larvas de cangrejo y bivalvos (mejillones y almeja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adenas trófica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PR" sz="1800" spc="-1" strike="noStrike">
                <a:solidFill>
                  <a:srgbClr val="ffffff"/>
                </a:solidFill>
                <a:latin typeface="Arial"/>
              </a:rPr>
              <a:t>Consumidores secundario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ffffff"/>
                </a:solidFill>
                <a:latin typeface="Arial"/>
              </a:rPr>
              <a:t>Este grupo está constituido por animales que se comen a los animales herbívoros y por lo tanto son carnívoros, por ejemplo: halcón, orca, carpa, etc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mbién son </a:t>
            </a:r>
            <a:r>
              <a:rPr b="0" lang="es-PR" sz="1800" spc="-1" strike="noStrike">
                <a:solidFill>
                  <a:srgbClr val="ffffff"/>
                </a:solidFill>
                <a:latin typeface="Arial"/>
              </a:rPr>
              <a:t>consumidores secundarios el lagarto, la lechuza, el boquerón y el chimpancé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adenas trófica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ffffff"/>
                </a:solidFill>
                <a:latin typeface="Arial"/>
              </a:rPr>
              <a:t>Consumidores terciar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ffffff"/>
                </a:solidFill>
                <a:latin typeface="Arial"/>
              </a:rPr>
              <a:t>Se alimentan de los consumidores secundarios, y por lo tanto también son carnívoros, por ejemplo: león, cocodrilo, las águilas, los buitres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estos animales también se les llama grandes depredador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440240" y="41443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adenas trófica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ffffff"/>
                </a:solidFill>
                <a:latin typeface="Arial"/>
              </a:rPr>
              <a:t>Los consumidores secundarios y terciarios pueden ser de tres tipos: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ffffff"/>
                </a:solidFill>
                <a:latin typeface="Arial"/>
              </a:rPr>
              <a:t>predadores (cazan, capturan y matan a su presa),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ffffff"/>
                </a:solidFill>
                <a:latin typeface="Arial"/>
              </a:rPr>
              <a:t>carroñeros (que se alimentan de cadáveres) y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ffffff"/>
                </a:solidFill>
                <a:latin typeface="Arial"/>
              </a:rPr>
              <a:t>parásitos    (que suelen ser más pequeños que su huésp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9:13:10Z</dcterms:created>
  <dc:creator>MARIFE</dc:creator>
  <dc:description/>
  <dc:language>en-US</dc:language>
  <cp:lastModifiedBy>User</cp:lastModifiedBy>
  <dcterms:modified xsi:type="dcterms:W3CDTF">2010-06-03T21:01:43Z</dcterms:modified>
  <cp:revision>6</cp:revision>
  <dc:subject/>
  <dc:title>Diapositiva 1</dc:title>
</cp:coreProperties>
</file>