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31050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45040" y="0"/>
            <a:ext cx="31050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61800" y="720720"/>
            <a:ext cx="4717800" cy="3525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ctr">
            <a:noAutofit/>
          </a:bodyPr>
          <a:p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74520" y="4560840"/>
            <a:ext cx="5290920" cy="4246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3"/>
          </p:nvPr>
        </p:nvSpPr>
        <p:spPr>
          <a:xfrm>
            <a:off x="4144680" y="9120240"/>
            <a:ext cx="3095640" cy="404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0F2CA-C9C3-4D2C-BA31-366C30BA17BF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2A2BD-993D-48BA-A7DA-635DE1ACF022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62160" y="720720"/>
            <a:ext cx="4767120" cy="357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5DA5D-894E-425C-BC39-5308C1F448BC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387EA-629A-418F-A7D3-CC937042CE9B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06D7B-F5D5-4887-8A2A-8B99796C84B1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913F4-A8B5-4AD0-809A-D52D181F1F44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CA20A-FDE5-400C-950F-4CDF4F1AFBCA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6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DD264-4C0C-434D-B75E-343212221E0F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508AA-1D80-4238-AB28-2D032B2FBF3E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4AD99-2C10-4019-867F-1C2461CD0AF8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6E055-85AA-4C28-AB02-13F49FAADD2E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A29FC-FC67-4A65-A531-B93DBCEBE722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182EA-2E97-4F41-98BC-110B29F89748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05176-CA06-4C0D-A1A6-DB5991108C76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08B57-6664-4636-B555-0AB990FCF87F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DCF2E-A8DB-49EE-8C29-2887DC11B249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7B2EF-5900-47F7-B8DE-043F40C4F90B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C3B26-34B4-4431-BDC6-2AAB3600F2B7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18761-A031-4CB8-9912-A1A0BFF97601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77409-4185-4CC4-9B15-DF9CEC15CFB3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C229B-DFC2-4B20-AB1C-0CC2B3ADD290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DD4D3-4EE8-4E76-8A05-D1C2BD458A77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6C6F7-416F-4C06-9EF7-D3F2FC9ABC0B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1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BB392-6D97-40E1-8E11-85625410CA0D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FD9C2-FC87-47A7-B44A-4C7F68C10008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D539C-F3AE-4A4D-9331-2B9D7D1E3424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C734D-C687-428A-B90B-4C8B36423D79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07D1B-4964-4A55-8DFD-1F6D4EF0BD7A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D664F-693E-4F21-B015-42B4A3A24F8C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96324-8A6E-4BC0-834F-470BE7F5DA64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69634-9361-4F0C-A054-585CA16E3FAD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37DC4-BC5A-4A67-9FD2-4C39383A26AC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6BC90-95EE-46A0-9454-3231B658C822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7DD51-5145-4762-908E-DA7E0B10195F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3D470-9A42-4E3A-ACD1-6FFD8FA4C4F0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145040" y="9120240"/>
            <a:ext cx="3105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E246A-D4F0-4664-8ACD-99D8FBE9D1F5}" type="slidenum">
              <a:rPr b="0" lang="es-CL" sz="13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50920" y="692280"/>
            <a:ext cx="455616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292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394092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832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272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8860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272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8860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8A4C4-DAA7-4843-920F-F75654C6E8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9C820-DF3C-4A62-9FF3-6FF24BBE8A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AC0E8-B0A4-4AF7-B588-BF7991ED2F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11FF3-184D-435E-8470-26560639DC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EDEE5-1628-4606-A1D6-D87EFF26E7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8028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988D1-A909-4831-906E-BC7C7B6F12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37E18-4D5E-4EBD-B1FB-E039F9C66F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4832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E6C45-9BD8-4EA6-8EDF-70C3959E87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C5C8F-89AB-43EE-B840-ECE30DB152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394092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751D5-3659-469E-8AEC-2098243134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4832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FF4CA-50C9-4403-A98D-723DF63F31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2272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88600" y="159984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2272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88600" y="3940920"/>
            <a:ext cx="26337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DAB8D-5FE0-411F-9E69-BA396A519A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8028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8320" y="394092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39916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818028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440" y="-468720"/>
            <a:ext cx="7970760" cy="14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719000"/>
            <a:ext cx="7383600" cy="440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1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2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3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4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5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6" marL="298440" indent="-29844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49200" y="1047600"/>
            <a:ext cx="8358120" cy="180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19120" y="1206360"/>
            <a:ext cx="8356680" cy="180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820800" y="6440040"/>
            <a:ext cx="40989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C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ítulo 7: El coste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49200" y="6281640"/>
            <a:ext cx="8358120" cy="180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19120" y="6440400"/>
            <a:ext cx="8356680" cy="180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19040" y="4629240"/>
            <a:ext cx="711360" cy="1554120"/>
            <a:chOff x="419040" y="4629240"/>
            <a:chExt cx="711360" cy="1554120"/>
          </a:xfrm>
        </p:grpSpPr>
        <p:sp>
          <p:nvSpPr>
            <p:cNvPr id="8" name=""/>
            <p:cNvSpPr/>
            <p:nvPr/>
          </p:nvSpPr>
          <p:spPr>
            <a:xfrm>
              <a:off x="492120" y="4629240"/>
              <a:ext cx="507960" cy="1554120"/>
            </a:xfrm>
            <a:prstGeom prst="rtTriangle">
              <a:avLst/>
            </a:prstGeom>
            <a:gradFill rotWithShape="0">
              <a:gsLst>
                <a:gs pos="0">
                  <a:srgbClr val="1c4e35"/>
                </a:gs>
                <a:gs pos="100000">
                  <a:srgbClr val="48845c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19040" y="5024520"/>
              <a:ext cx="1800" cy="1085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768240" y="5043240"/>
              <a:ext cx="362160" cy="866520"/>
            </a:xfrm>
            <a:prstGeom prst="line">
              <a:avLst/>
            </a:prstGeom>
            <a:ln w="28440">
              <a:solidFill>
                <a:srgbClr val="ff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76360" y="6084720"/>
              <a:ext cx="3492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071720" y="304920"/>
            <a:ext cx="7610040" cy="1104840"/>
            <a:chOff x="1071720" y="304920"/>
            <a:chExt cx="7610040" cy="1104840"/>
          </a:xfrm>
        </p:grpSpPr>
        <p:sp>
          <p:nvSpPr>
            <p:cNvPr id="49" name=""/>
            <p:cNvSpPr/>
            <p:nvPr/>
          </p:nvSpPr>
          <p:spPr>
            <a:xfrm flipH="1">
              <a:off x="4865040" y="304920"/>
              <a:ext cx="1104840" cy="11030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7578000" y="304920"/>
              <a:ext cx="1103400" cy="11030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071720" y="306360"/>
              <a:ext cx="110304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6321600" y="304920"/>
              <a:ext cx="1103040" cy="11030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358360" y="304920"/>
              <a:ext cx="1103400" cy="11030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802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6248520"/>
            <a:ext cx="20937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55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0844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000" spc="-1" strike="noStrike">
                <a:solidFill>
                  <a:srgbClr val="000000"/>
                </a:solidFill>
                <a:latin typeface="Arial"/>
                <a:ea typeface="MS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DCF5F-C47A-4604-B90C-AA36C057F311}" type="slidenum">
              <a:rPr b="0" lang="es-ES" sz="1000" spc="-1" strike="noStrike">
                <a:solidFill>
                  <a:srgbClr val="000000"/>
                </a:solidFill>
                <a:latin typeface="Arial"/>
                <a:ea typeface="MS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02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12640" y="330120"/>
            <a:ext cx="8118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IN3202-2 Microeconomía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2971800"/>
            <a:ext cx="6172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s d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roducció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n el óptimo, la pendiente de la recta de isocoste tiene que ser la misma de la pendiente de la isocuan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        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ST = - PM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M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- (w/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9592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7696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55840" y="4245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1719360"/>
            <a:ext cx="739620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 otra for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w =  PM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ínimo para una determinada producción aparece cuando cada Peso gastado en cualquier factor incorporado al proceso de producción genere la misma cantidad de producción adi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9592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7696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55840" y="4245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1719360"/>
            <a:ext cx="73962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mostrar que el resultado se puede obtener de forma rigurosa con el método de los multiplicadores de Lagrange. Considerar el problem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(Q) = Min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MS Gothic"/>
              </a:rPr>
              <a:t>F(K,L)=Q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rK + w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9592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7696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55840" y="4245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195560"/>
            <a:ext cx="739620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empresas que disponen de métodos para deshacerse de los subproductos del proceso de producción, llamados 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verti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Una tasa sobre los vertidos es una tasa por unidad que debe pagar la empresa por los vertidos que arroja al rí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Cómo debe responder el gerente de una empresa a la imposición de esta tasa sobre los vertidos para minimizar los costes de producció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Tasas y Vertidos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09800" y="1147680"/>
            <a:ext cx="7395840" cy="54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acerías se construyen cerca de cursos de agua. Los ríos son medios de transporte accesibles, permiten deshacerse de los vertidos y proveen agua para resfriar las maquin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Muchos estados imponen una tasa sobre los vertidos para reducir la cantidad de residuos perjudiciales para el medio ambiente.  De costumbre se configura como una tasa sobre  el agua residu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(i) ¿Cómo debería responder la acería a la imposición de la tasa para minimizar los costes de producció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(ii) Algunos argumentan que las tasas son un instrumento equivocado. ¿Tiene a que ver con est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Tasas y Vertidos: Un ejercicio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1757520"/>
            <a:ext cx="1800" cy="423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3560" y="6006960"/>
            <a:ext cx="54291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19360" y="5711760"/>
            <a:ext cx="1767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gua resid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(galones al m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360" y="1157400"/>
            <a:ext cx="16444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pital (hora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máqui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l m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193480" y="2441520"/>
            <a:ext cx="6724080" cy="3565440"/>
            <a:chOff x="2193480" y="2441520"/>
            <a:chExt cx="6724080" cy="3565440"/>
          </a:xfrm>
        </p:grpSpPr>
        <p:sp>
          <p:nvSpPr>
            <p:cNvPr id="258" name=""/>
            <p:cNvSpPr/>
            <p:nvPr/>
          </p:nvSpPr>
          <p:spPr>
            <a:xfrm>
              <a:off x="2743200" y="2441520"/>
              <a:ext cx="3584520" cy="304812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2520" y="5103720"/>
              <a:ext cx="27950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Producción de 2.000 tonelad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de ac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193480" y="4495680"/>
              <a:ext cx="186372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38480" y="4511520"/>
              <a:ext cx="1800" cy="1495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62520" y="4419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40280" y="40402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599640" y="5992920"/>
            <a:ext cx="72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160" y="5992920"/>
            <a:ext cx="72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8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14280" y="5992920"/>
            <a:ext cx="72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2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95400" y="59943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66360" y="5992920"/>
            <a:ext cx="72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2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251080" y="1601640"/>
            <a:ext cx="3265560" cy="4380120"/>
            <a:chOff x="2251080" y="1601640"/>
            <a:chExt cx="3265560" cy="4380120"/>
          </a:xfrm>
        </p:grpSpPr>
        <p:sp>
          <p:nvSpPr>
            <p:cNvPr id="270" name=""/>
            <p:cNvSpPr/>
            <p:nvPr/>
          </p:nvSpPr>
          <p:spPr>
            <a:xfrm>
              <a:off x="2251080" y="2771640"/>
              <a:ext cx="3209760" cy="32101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35560" y="5452920"/>
              <a:ext cx="1810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46160" y="1601640"/>
              <a:ext cx="158040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Pendiente d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la recta isoco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= -10/40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= -0,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790360" y="2390760"/>
              <a:ext cx="365400" cy="86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1525680" y="428472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5680" y="503064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5680" y="279072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4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5680" y="353700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5680" y="204480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2840" y="5992920"/>
            <a:ext cx="627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5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roducción sin tasa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 fill="hold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 fill="hold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09680" y="1731960"/>
            <a:ext cx="1800" cy="427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17600" y="6006960"/>
            <a:ext cx="5465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755800" y="2467080"/>
            <a:ext cx="5977080" cy="3177360"/>
            <a:chOff x="2755800" y="2467080"/>
            <a:chExt cx="5977080" cy="3177360"/>
          </a:xfrm>
        </p:grpSpPr>
        <p:sp>
          <p:nvSpPr>
            <p:cNvPr id="289" name=""/>
            <p:cNvSpPr/>
            <p:nvPr/>
          </p:nvSpPr>
          <p:spPr>
            <a:xfrm>
              <a:off x="2755800" y="2467080"/>
              <a:ext cx="3584520" cy="304776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30960" y="5129280"/>
              <a:ext cx="24019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Producción de 2.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toneladas de acero al m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1525680" y="428472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5680" y="503064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5680" y="279072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4.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25680" y="353700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.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25680" y="2044800"/>
            <a:ext cx="68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.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99640" y="6018120"/>
            <a:ext cx="72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52520" y="6018120"/>
            <a:ext cx="72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8.00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14280" y="6018120"/>
            <a:ext cx="72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20.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84240" y="59310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6720" y="6018120"/>
            <a:ext cx="72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12.00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6280" y="1157400"/>
            <a:ext cx="16635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pital (hora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máquin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al m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525680" y="1525680"/>
            <a:ext cx="7289640" cy="4794480"/>
            <a:chOff x="1525680" y="1525680"/>
            <a:chExt cx="7289640" cy="4794480"/>
          </a:xfrm>
        </p:grpSpPr>
        <p:sp>
          <p:nvSpPr>
            <p:cNvPr id="303" name=""/>
            <p:cNvSpPr/>
            <p:nvPr/>
          </p:nvSpPr>
          <p:spPr>
            <a:xfrm>
              <a:off x="4344840" y="545292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42840" y="6018120"/>
              <a:ext cx="627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ff3300"/>
                  </a:solidFill>
                  <a:latin typeface="Arial"/>
                </a:rPr>
                <a:t>5.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51080" y="1857240"/>
              <a:ext cx="2219400" cy="4137120"/>
            </a:xfrm>
            <a:prstGeom prst="line">
              <a:avLst/>
            </a:prstGeom>
            <a:ln w="5076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193480" y="3429000"/>
              <a:ext cx="94932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48120" y="33526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25680" y="320184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ff3300"/>
                  </a:solidFill>
                  <a:latin typeface="Arial"/>
                </a:rPr>
                <a:t>3.5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24080" y="3521160"/>
              <a:ext cx="1800" cy="2485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76120" y="1525680"/>
              <a:ext cx="158040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Pendiente d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la recta isoco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= -20/4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= -0,5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409480" y="2009880"/>
              <a:ext cx="593640" cy="98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5880" y="297324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20040" y="2968560"/>
              <a:ext cx="3095280" cy="13676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iguiendo la imposición de la ta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obre los vertidos de 10$/gal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la pendiente del isocoste camb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l alto coste de agua 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apital; así, ahora se prefier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la combinación </a:t>
              </a: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180880" y="1452600"/>
            <a:ext cx="5747760" cy="4554360"/>
            <a:chOff x="2180880" y="1452600"/>
            <a:chExt cx="5747760" cy="4554360"/>
          </a:xfrm>
        </p:grpSpPr>
        <p:sp>
          <p:nvSpPr>
            <p:cNvPr id="315" name=""/>
            <p:cNvSpPr/>
            <p:nvPr/>
          </p:nvSpPr>
          <p:spPr>
            <a:xfrm flipH="1">
              <a:off x="2180880" y="4495680"/>
              <a:ext cx="186372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25880" y="4511520"/>
              <a:ext cx="1440" cy="1495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49560" y="4419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027320" y="40402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61720" y="1452600"/>
              <a:ext cx="3166920" cy="9414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Antes de la regulación, la empresa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decide producir utilizando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10.000 galones de agua y 2.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horas-máquina de capital en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2201760" y="2409840"/>
            <a:ext cx="3475080" cy="3571920"/>
            <a:chOff x="2201760" y="2409840"/>
            <a:chExt cx="3475080" cy="3571920"/>
          </a:xfrm>
        </p:grpSpPr>
        <p:sp>
          <p:nvSpPr>
            <p:cNvPr id="321" name=""/>
            <p:cNvSpPr/>
            <p:nvPr/>
          </p:nvSpPr>
          <p:spPr>
            <a:xfrm>
              <a:off x="2201760" y="2759040"/>
              <a:ext cx="3256200" cy="32227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30880" y="54514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29120" y="240984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7373160" y="5692680"/>
            <a:ext cx="1767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gua resid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(galones al m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roducción con tas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 fill="hold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 fill="hold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 fill="hold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 fill="hold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Observacion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Cuanto más fácil es sustituir los factores en el proceso de producción, más eficaz es la tasa para reducir los vertidos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Cuanto mayor es el grado de sustitución, menos tiene que pagar la empres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-1584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Tasas y Vertido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minimización de los costes cuando se altera el nivel de produc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</a:t>
            </a:r>
            <a:r>
              <a:rPr b="0" lang="es-CL" sz="2700" spc="-1" strike="noStrike">
                <a:solidFill>
                  <a:srgbClr val="fc0128"/>
                </a:solidFill>
                <a:latin typeface="Times New Roman"/>
                <a:ea typeface="MS Gothic"/>
              </a:rPr>
              <a:t>senda de expansión </a:t>
            </a: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 una empresa muestra las combinaciones de trabajo y capital de menor coste que pueden utilizarse para obtener cada nivel de producción (fijados los precios de los factores)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Senda de Expansión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09680" y="1757520"/>
            <a:ext cx="1800" cy="423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16160" y="6006960"/>
            <a:ext cx="4425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752520" y="5834160"/>
            <a:ext cx="1554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Trabajo al a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82320" y="1244520"/>
            <a:ext cx="856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l a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2205000" y="3137040"/>
            <a:ext cx="2979720" cy="28699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66360" y="3224160"/>
            <a:ext cx="213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Senda de expan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86800" y="1494000"/>
            <a:ext cx="3002400" cy="1154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 senda de expansión muestr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as combinaciones de trabajo 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apital de menor coste que pued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utilizarse para obtener cada nivel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producción a largo plaz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17560" y="52783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17560" y="47149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17560" y="41497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16040" y="3586320"/>
            <a:ext cx="58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16040" y="2384280"/>
            <a:ext cx="58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06720" y="5967360"/>
            <a:ext cx="633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75000" y="597996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87840" y="5967360"/>
            <a:ext cx="534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24560" y="5967360"/>
            <a:ext cx="571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72120" y="5967360"/>
            <a:ext cx="61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198160" y="4721400"/>
            <a:ext cx="1340280" cy="1260360"/>
            <a:chOff x="2198160" y="4721400"/>
            <a:chExt cx="1340280" cy="1260360"/>
          </a:xfrm>
        </p:grpSpPr>
        <p:sp>
          <p:nvSpPr>
            <p:cNvPr id="357" name=""/>
            <p:cNvSpPr/>
            <p:nvPr/>
          </p:nvSpPr>
          <p:spPr>
            <a:xfrm>
              <a:off x="2201760" y="4900680"/>
              <a:ext cx="1179720" cy="10810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63760" y="4721400"/>
              <a:ext cx="1174680" cy="112212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30600" y="5369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43120" y="5041800"/>
              <a:ext cx="30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198160" y="5435640"/>
              <a:ext cx="57636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89280" y="5418000"/>
              <a:ext cx="1440" cy="563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207160" y="3238560"/>
            <a:ext cx="871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c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socos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 2.000$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56880" y="5462640"/>
            <a:ext cx="772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socuan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de 2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unidad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12920" y="3738600"/>
            <a:ext cx="2367000" cy="225252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43280" y="3878280"/>
            <a:ext cx="1789200" cy="1695600"/>
          </a:xfrm>
          <a:noFill/>
          <a:ln w="507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198160" y="4871880"/>
            <a:ext cx="1265400" cy="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02000" y="4965840"/>
            <a:ext cx="1440" cy="1015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38640" y="477684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06600" y="4390920"/>
            <a:ext cx="30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160720" y="2373480"/>
            <a:ext cx="5659200" cy="3657600"/>
            <a:chOff x="2160720" y="2373480"/>
            <a:chExt cx="5659200" cy="3657600"/>
          </a:xfrm>
        </p:grpSpPr>
        <p:sp>
          <p:nvSpPr>
            <p:cNvPr id="372" name=""/>
            <p:cNvSpPr/>
            <p:nvPr/>
          </p:nvSpPr>
          <p:spPr>
            <a:xfrm>
              <a:off x="2190960" y="2373480"/>
              <a:ext cx="2342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Recta isocoste de 3.000$</a:t>
              </a:r>
              <a:r>
                <a:rPr b="1" lang="es-C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87720" y="2577960"/>
              <a:ext cx="3554280" cy="34531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11560" y="3003480"/>
              <a:ext cx="2117520" cy="209880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87640" y="42386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72280" y="4965840"/>
              <a:ext cx="244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Isocuanta de 300 unidad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160720" y="4308480"/>
              <a:ext cx="17906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8360" y="4338720"/>
              <a:ext cx="1440" cy="1643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832200" y="3865680"/>
              <a:ext cx="30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Senda de Expansión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 fill="hold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 a largo plaz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de Escala y Cos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800" y="304920"/>
            <a:ext cx="79837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vamos a ver hoy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09680" y="1757520"/>
            <a:ext cx="1800" cy="423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16160" y="6006960"/>
            <a:ext cx="4425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52520" y="5834160"/>
            <a:ext cx="1554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Trabajo al a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39480" y="1273320"/>
            <a:ext cx="856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l a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205000" y="3137040"/>
            <a:ext cx="2979720" cy="28699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66360" y="3224160"/>
            <a:ext cx="213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Senda de expan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17560" y="52783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17560" y="47149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17560" y="414972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16040" y="3586320"/>
            <a:ext cx="58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16040" y="2384280"/>
            <a:ext cx="58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06720" y="5967360"/>
            <a:ext cx="633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75000" y="5979960"/>
            <a:ext cx="48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87840" y="5967360"/>
            <a:ext cx="534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24560" y="5967360"/>
            <a:ext cx="571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72120" y="5967360"/>
            <a:ext cx="61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198160" y="4721400"/>
            <a:ext cx="1340280" cy="1260360"/>
            <a:chOff x="2198160" y="4721400"/>
            <a:chExt cx="1340280" cy="1260360"/>
          </a:xfrm>
        </p:grpSpPr>
        <p:sp>
          <p:nvSpPr>
            <p:cNvPr id="403" name=""/>
            <p:cNvSpPr/>
            <p:nvPr/>
          </p:nvSpPr>
          <p:spPr>
            <a:xfrm>
              <a:off x="2201760" y="4900680"/>
              <a:ext cx="1179720" cy="10810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63760" y="4721400"/>
              <a:ext cx="1174680" cy="112212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30600" y="5369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43120" y="5041800"/>
              <a:ext cx="30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2198160" y="5435640"/>
              <a:ext cx="57636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89280" y="5418000"/>
              <a:ext cx="1440" cy="563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2207160" y="3238560"/>
            <a:ext cx="871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c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socos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 2.000$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56880" y="5462640"/>
            <a:ext cx="772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socuan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de 2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unidad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12920" y="3738600"/>
            <a:ext cx="2367000" cy="225252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43280" y="3878280"/>
            <a:ext cx="1789200" cy="1695600"/>
          </a:xfrm>
          <a:noFill/>
          <a:ln w="507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2198160" y="4871880"/>
            <a:ext cx="1265400" cy="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02000" y="4965840"/>
            <a:ext cx="1440" cy="1015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38640" y="477684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06600" y="4390920"/>
            <a:ext cx="30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160720" y="2373480"/>
            <a:ext cx="5659200" cy="3657600"/>
            <a:chOff x="2160720" y="2373480"/>
            <a:chExt cx="5659200" cy="3657600"/>
          </a:xfrm>
        </p:grpSpPr>
        <p:sp>
          <p:nvSpPr>
            <p:cNvPr id="418" name=""/>
            <p:cNvSpPr/>
            <p:nvPr/>
          </p:nvSpPr>
          <p:spPr>
            <a:xfrm>
              <a:off x="2190960" y="2373480"/>
              <a:ext cx="2342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Recta isocoste de 3.000$</a:t>
              </a:r>
              <a:r>
                <a:rPr b="1" lang="es-C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87720" y="2577960"/>
              <a:ext cx="3554280" cy="34531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11560" y="3003480"/>
              <a:ext cx="2117520" cy="209880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87640" y="42386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72280" y="4965840"/>
              <a:ext cx="244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Isocuanta de 300 unidad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2160720" y="4308480"/>
              <a:ext cx="17906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78360" y="4338720"/>
              <a:ext cx="1440" cy="1643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32200" y="3865680"/>
              <a:ext cx="30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rto Plazo: Rigidez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0" y="4800600"/>
            <a:ext cx="434340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629400" y="434340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Senda Expan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orto Plaz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 fill="hold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 fill="hold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</a:t>
            </a:r>
            <a:r>
              <a:rPr b="0" lang="es-CL" sz="27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constantes</a:t>
            </a: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escala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Una duplicación de los factores provoca una duplicación de la producción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 es constante en todos los niveles de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</a:t>
            </a:r>
            <a:r>
              <a:rPr b="0" lang="es-CL" sz="27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crecientes</a:t>
            </a: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escala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Una duplicación de los factores provoca una duplicación de la producción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disminuye en todos los niveles de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</a:t>
            </a:r>
            <a:r>
              <a:rPr b="0" lang="es-ES" sz="27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decrecientes</a:t>
            </a: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escala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Si se duplican los factores, el crecimiento de la producción es menor que el doble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umentará con la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A largo plazo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empresas experimentan rendimientos crecientes y decrecientes de escala. Por lo tanto, el coste medio a largo plazo tiene forma de “U”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arginal a largo plazo hace que el coste medio a largo plaz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Si CML &lt; CMeL, CMeL disminuirá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Si CML &gt; CMeL, CMeL aumentará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Por lo tanto, CML = CMeL cuando CMeL alcanza su punto mínimo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a largo plazo (CMeL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09680" y="1757520"/>
            <a:ext cx="1800" cy="423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16160" y="6006960"/>
            <a:ext cx="4425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634440" y="58514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443320" y="2668680"/>
            <a:ext cx="4452120" cy="1824120"/>
            <a:chOff x="2443320" y="2668680"/>
            <a:chExt cx="4452120" cy="1824120"/>
          </a:xfrm>
        </p:grpSpPr>
        <p:sp>
          <p:nvSpPr>
            <p:cNvPr id="458" name=""/>
            <p:cNvSpPr/>
            <p:nvPr/>
          </p:nvSpPr>
          <p:spPr>
            <a:xfrm>
              <a:off x="2443320" y="3241800"/>
              <a:ext cx="3919320" cy="1251000"/>
            </a:xfr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20640" y="2668680"/>
              <a:ext cx="874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M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670120" y="2023920"/>
            <a:ext cx="3382200" cy="4013280"/>
            <a:chOff x="2670120" y="2023920"/>
            <a:chExt cx="3382200" cy="4013280"/>
          </a:xfrm>
        </p:grpSpPr>
        <p:sp>
          <p:nvSpPr>
            <p:cNvPr id="461" name=""/>
            <p:cNvSpPr/>
            <p:nvPr/>
          </p:nvSpPr>
          <p:spPr>
            <a:xfrm>
              <a:off x="2670120" y="2593800"/>
              <a:ext cx="2895480" cy="221004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19360" y="2023920"/>
              <a:ext cx="732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M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33760" y="4497480"/>
              <a:ext cx="1800" cy="1539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40560" y="40147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46640" y="4384800"/>
              <a:ext cx="189000" cy="188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50800" y="0"/>
            <a:ext cx="7983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s Medios y Marginales a Largo Plazo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71600" y="1600200"/>
            <a:ext cx="685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 fill="hold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 fill="hold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62000" y="160020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fc0128"/>
                </a:solidFill>
                <a:latin typeface="Times New Roman"/>
                <a:ea typeface="MS Gothic"/>
              </a:rPr>
              <a:t>Pregun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Qué relación existe entre el coste medio a largo plazo y el coste marginal a largo plazo cuando el coste medio a largo plazo es constante?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 vs cort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047600" y="145260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de escala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aumento en la producción es mayor que el incremento en los factore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seconomías de escala: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aumento en la producción es menor que el aumento en los factore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47600" y="145260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Medición de escala: </a:t>
            </a:r>
            <a:r>
              <a:rPr b="1" i="1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asticidad cost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3600" spc="-1" strike="noStrike" baseline="-33000">
                <a:solidFill>
                  <a:srgbClr val="000000"/>
                </a:solidFill>
                <a:latin typeface="Times New Roman"/>
                <a:ea typeface="MS Gothic"/>
              </a:rPr>
              <a:t>C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= (ΔC /ΔQ)(Q/C) = CM/C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Quando C es diferenciable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3600" spc="-1" strike="noStrike" baseline="-33000">
                <a:solidFill>
                  <a:srgbClr val="000000"/>
                </a:solidFill>
                <a:latin typeface="Times New Roman"/>
                <a:ea typeface="MS Gothic"/>
              </a:rPr>
              <a:t>C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= (C'(Q))Q/C(Q) = CM(Q)/CMe(Q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Variación porcentual de los costes con respecto a una variación porcentual (infinitesimal) de la cant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27080" y="1338120"/>
            <a:ext cx="739620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spués de unos primeros meses difíciles la “Tostaduría Enriqueta Pérez” tiene cierta holgura financiera que le permite comprar maquinas nuevas si las necesi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Asuman que el coste de una maquina sea r  y que el coste del trabajo sea w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mbiará su elección de factores? Y su función de cos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200240" y="1490760"/>
            <a:ext cx="73962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siguientes afirmaciones son verdader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&lt; 1: CM &lt; C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muestra las economías de escala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= 1: CM = C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muestra las economías de escala consta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C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gt; 1: CM &gt; C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coste medio muestra las deseconomías de esca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relación entre el coste a corto plazo y el coste a largo plaz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Utilizaremos el coste a corto y a largo plazo para determinar el tamaño perfecto de la plant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Noten: si hay retornos de escala constantes la función de coste es una recta entonces la función de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stes medios es una rect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Si hay retornos de escala constantes la función de coste es una recta entonces la curve de costes medios y de coste mmarginales a largo plazo es una rect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curva de costes marginales a corto plazo es estrictamente convexa debido a los rendimientos marginales decrecientes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0800" y="0"/>
            <a:ext cx="7983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76720" y="6045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50440" y="7560"/>
            <a:ext cx="798372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ostes a largo plazo con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rendimientos constantes de esc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76720" y="6045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6032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09680" y="1782720"/>
            <a:ext cx="1800" cy="423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190600" y="6006960"/>
            <a:ext cx="62676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480160" y="5715000"/>
            <a:ext cx="55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03280" y="1600200"/>
            <a:ext cx="4604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051520" y="2454120"/>
            <a:ext cx="3094920" cy="3882240"/>
            <a:chOff x="5051520" y="2454120"/>
            <a:chExt cx="3094920" cy="3882240"/>
          </a:xfrm>
        </p:grpSpPr>
        <p:sp>
          <p:nvSpPr>
            <p:cNvPr id="503" name=""/>
            <p:cNvSpPr/>
            <p:nvPr/>
          </p:nvSpPr>
          <p:spPr>
            <a:xfrm>
              <a:off x="6400800" y="3978360"/>
              <a:ext cx="1440" cy="2028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39160" y="593568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s-CL" sz="1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29320" y="2822400"/>
              <a:ext cx="2070000" cy="1143000"/>
            </a:xfr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45720" y="2454120"/>
              <a:ext cx="900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946840" y="3355920"/>
              <a:ext cx="609480" cy="129528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80480" y="3049560"/>
              <a:ext cx="7088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51520" y="2746440"/>
              <a:ext cx="615960" cy="91440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660840" y="2454120"/>
            <a:ext cx="3190320" cy="3882240"/>
            <a:chOff x="3660840" y="2454120"/>
            <a:chExt cx="3190320" cy="3882240"/>
          </a:xfrm>
        </p:grpSpPr>
        <p:sp>
          <p:nvSpPr>
            <p:cNvPr id="511" name=""/>
            <p:cNvSpPr/>
            <p:nvPr/>
          </p:nvSpPr>
          <p:spPr>
            <a:xfrm>
              <a:off x="5029200" y="3978360"/>
              <a:ext cx="1440" cy="2028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867560" y="593568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208400" y="3635280"/>
              <a:ext cx="1440000" cy="346320"/>
            </a:xfrm>
            <a:custGeom>
              <a:avLst/>
              <a:gdLst/>
              <a:ahLst/>
              <a:rect l="l" t="t" r="r" b="b"/>
              <a:pathLst>
                <a:path w="907" h="218">
                  <a:moveTo>
                    <a:pt x="0" y="0"/>
                  </a:moveTo>
                  <a:cubicBezTo>
                    <a:pt x="161" y="104"/>
                    <a:pt x="322" y="208"/>
                    <a:pt x="473" y="213"/>
                  </a:cubicBezTo>
                  <a:cubicBezTo>
                    <a:pt x="624" y="218"/>
                    <a:pt x="765" y="125"/>
                    <a:pt x="907" y="32"/>
                  </a:cubicBezTo>
                </a:path>
              </a:pathLst>
            </a:custGeo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50440" y="2454120"/>
              <a:ext cx="900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CMeC</a:t>
              </a:r>
              <a:r>
                <a:rPr b="1" lang="es-C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68760" y="3355920"/>
              <a:ext cx="615960" cy="129528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80280" y="3049560"/>
              <a:ext cx="7088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91240" y="2822400"/>
              <a:ext cx="687240" cy="83844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60840" y="2746440"/>
              <a:ext cx="609480" cy="91440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2238480" y="1754280"/>
            <a:ext cx="6788160" cy="2480400"/>
            <a:chOff x="2238480" y="1754280"/>
            <a:chExt cx="6788160" cy="2480400"/>
          </a:xfrm>
        </p:grpSpPr>
        <p:sp>
          <p:nvSpPr>
            <p:cNvPr id="520" name=""/>
            <p:cNvSpPr/>
            <p:nvPr/>
          </p:nvSpPr>
          <p:spPr>
            <a:xfrm>
              <a:off x="2238480" y="3962520"/>
              <a:ext cx="581328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118360" y="3597120"/>
              <a:ext cx="908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Times New Roman"/>
                </a:rPr>
                <a:t>CMeL=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Times New Roman"/>
                </a:rPr>
                <a:t>C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53040" y="1754280"/>
              <a:ext cx="4261320" cy="5756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Times New Roman"/>
                </a:rPr>
                <a:t>Con muchos tamaños de plantas con el CMeC =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Times New Roman"/>
                </a:rPr>
                <a:t>10 $, CMeL = CML y es una línea rect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200680" y="2454120"/>
            <a:ext cx="2679120" cy="3882240"/>
            <a:chOff x="2200680" y="2454120"/>
            <a:chExt cx="2679120" cy="3882240"/>
          </a:xfrm>
        </p:grpSpPr>
        <p:sp>
          <p:nvSpPr>
            <p:cNvPr id="524" name=""/>
            <p:cNvSpPr/>
            <p:nvPr/>
          </p:nvSpPr>
          <p:spPr>
            <a:xfrm>
              <a:off x="3581280" y="3978360"/>
              <a:ext cx="1800" cy="2028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19640" y="593568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00680" y="2454120"/>
              <a:ext cx="900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125880" y="3355920"/>
              <a:ext cx="610920" cy="129528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56400" y="3049560"/>
              <a:ext cx="7088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243160" y="2744640"/>
              <a:ext cx="2028960" cy="1214640"/>
            </a:xfrm>
            <a:custGeom>
              <a:avLst/>
              <a:gdLst/>
              <a:ahLst/>
              <a:rect l="l" t="t" r="r" b="b"/>
              <a:pathLst>
                <a:path w="1278" h="765">
                  <a:moveTo>
                    <a:pt x="0" y="0"/>
                  </a:moveTo>
                  <a:cubicBezTo>
                    <a:pt x="63" y="95"/>
                    <a:pt x="236" y="441"/>
                    <a:pt x="378" y="568"/>
                  </a:cubicBezTo>
                  <a:cubicBezTo>
                    <a:pt x="520" y="695"/>
                    <a:pt x="702" y="765"/>
                    <a:pt x="852" y="765"/>
                  </a:cubicBezTo>
                  <a:cubicBezTo>
                    <a:pt x="1002" y="765"/>
                    <a:pt x="1189" y="608"/>
                    <a:pt x="1278" y="567"/>
                  </a:cubicBezTo>
                </a:path>
              </a:pathLst>
            </a:custGeo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68880" y="2784600"/>
              <a:ext cx="610920" cy="83808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9F3ED-42D7-4BC0-8464-64558BC8F057}" type="slidenum">
              <a:t>33</a:t>
            </a:fld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 fill="hold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 fill="hold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 fill="hold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tamaño perfecto de una planta dependerá de la producción anticipada (por ejemplo,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Q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1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Me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  <a:ea typeface="MS Gothic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,etc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curva de coste medio a largo plazo es l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envolven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las curvas de coste medio a corto plazo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Times New Roman"/>
                <a:ea typeface="MS Gothic"/>
              </a:rPr>
              <a:t>Pregun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Qué le ocurriría al coste medio si se escoge otro nivel de producción difer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52600" y="0"/>
            <a:ext cx="79833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onomías y deseconomía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50440" y="-3600"/>
            <a:ext cx="798372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oste a largo plazo con economías y deseconomías de esc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1744560"/>
            <a:ext cx="1800" cy="423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03560" y="5994360"/>
            <a:ext cx="62672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972560" y="59515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298520" y="1670040"/>
            <a:ext cx="384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2200680" y="1844640"/>
            <a:ext cx="2488680" cy="2526840"/>
            <a:chOff x="2200680" y="1844640"/>
            <a:chExt cx="2488680" cy="2526840"/>
          </a:xfrm>
        </p:grpSpPr>
        <p:sp>
          <p:nvSpPr>
            <p:cNvPr id="544" name=""/>
            <p:cNvSpPr/>
            <p:nvPr/>
          </p:nvSpPr>
          <p:spPr>
            <a:xfrm>
              <a:off x="3125880" y="2741760"/>
              <a:ext cx="610920" cy="1299960"/>
            </a:xfrm>
            <a:noFill/>
            <a:ln w="50760">
              <a:solidFill>
                <a:srgbClr val="99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670840" y="4040280"/>
              <a:ext cx="6433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211480" y="2135160"/>
              <a:ext cx="1735200" cy="1230480"/>
            </a:xfr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00680" y="1844640"/>
              <a:ext cx="8215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929040" y="2330280"/>
              <a:ext cx="760320" cy="90648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3681360" y="2454120"/>
            <a:ext cx="3090600" cy="2526840"/>
            <a:chOff x="3681360" y="2454120"/>
            <a:chExt cx="3090600" cy="2526840"/>
          </a:xfrm>
        </p:grpSpPr>
        <p:sp>
          <p:nvSpPr>
            <p:cNvPr id="550" name=""/>
            <p:cNvSpPr/>
            <p:nvPr/>
          </p:nvSpPr>
          <p:spPr>
            <a:xfrm>
              <a:off x="5950440" y="2454120"/>
              <a:ext cx="8215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68760" y="3355920"/>
              <a:ext cx="615960" cy="1295280"/>
            </a:xfrm>
            <a:noFill/>
            <a:ln w="50760">
              <a:solidFill>
                <a:srgbClr val="99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18400" y="4649760"/>
              <a:ext cx="6433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916440" y="3268800"/>
              <a:ext cx="2122560" cy="701640"/>
            </a:xfr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14880" y="2766960"/>
              <a:ext cx="401760" cy="54144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681360" y="2743200"/>
              <a:ext cx="227160" cy="504720"/>
            </a:xfr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2211840" y="3051000"/>
            <a:ext cx="4573080" cy="1854720"/>
            <a:chOff x="2211840" y="3051000"/>
            <a:chExt cx="4573080" cy="1854720"/>
          </a:xfrm>
        </p:grpSpPr>
        <p:sp>
          <p:nvSpPr>
            <p:cNvPr id="557" name=""/>
            <p:cNvSpPr/>
            <p:nvPr/>
          </p:nvSpPr>
          <p:spPr>
            <a:xfrm>
              <a:off x="2441520" y="3051000"/>
              <a:ext cx="4343400" cy="1524240"/>
            </a:xfrm>
            <a:noFill/>
            <a:ln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211840" y="4573440"/>
              <a:ext cx="67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L</a:t>
              </a: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5900760" y="4402080"/>
            <a:ext cx="3208680" cy="1425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i la producción es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 ger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egiría la planta pequeña de CMeC</a:t>
            </a:r>
            <a:r>
              <a:rPr b="1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y CMeC de 8 dólar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 punto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está en el CMeL porque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s la planta más barata para un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terminada producció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33920" y="3063960"/>
            <a:ext cx="1440" cy="2943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202400" y="2820960"/>
            <a:ext cx="914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$ 1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88120" y="592128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2195280" y="3048120"/>
            <a:ext cx="155556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29718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195280" y="3352680"/>
            <a:ext cx="1430280" cy="1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657600" y="32767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198440" y="312588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$ 8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35000" y="332748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35000" y="266868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2166840" y="1906560"/>
            <a:ext cx="6624000" cy="2076480"/>
            <a:chOff x="2166840" y="1906560"/>
            <a:chExt cx="6624000" cy="2076480"/>
          </a:xfrm>
        </p:grpSpPr>
        <p:sp>
          <p:nvSpPr>
            <p:cNvPr id="571" name=""/>
            <p:cNvSpPr/>
            <p:nvPr/>
          </p:nvSpPr>
          <p:spPr>
            <a:xfrm>
              <a:off x="8001360" y="1906560"/>
              <a:ext cx="78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eL</a:t>
              </a: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166840" y="2266920"/>
              <a:ext cx="5899320" cy="1716120"/>
            </a:xfrm>
            <a:custGeom>
              <a:avLst/>
              <a:gdLst/>
              <a:ahLst/>
              <a:rect l="l" t="t" r="r" b="b"/>
              <a:pathLst>
                <a:path w="3716" h="1081">
                  <a:moveTo>
                    <a:pt x="0" y="134"/>
                  </a:moveTo>
                  <a:cubicBezTo>
                    <a:pt x="84" y="202"/>
                    <a:pt x="209" y="387"/>
                    <a:pt x="505" y="545"/>
                  </a:cubicBezTo>
                  <a:cubicBezTo>
                    <a:pt x="801" y="703"/>
                    <a:pt x="1340" y="1081"/>
                    <a:pt x="1775" y="1081"/>
                  </a:cubicBezTo>
                  <a:cubicBezTo>
                    <a:pt x="2210" y="1081"/>
                    <a:pt x="2794" y="725"/>
                    <a:pt x="3117" y="545"/>
                  </a:cubicBezTo>
                  <a:cubicBezTo>
                    <a:pt x="3440" y="365"/>
                    <a:pt x="3573" y="182"/>
                    <a:pt x="3716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997520" y="1920960"/>
            <a:ext cx="3069720" cy="2526480"/>
            <a:chOff x="4997520" y="1920960"/>
            <a:chExt cx="3069720" cy="2526480"/>
          </a:xfrm>
        </p:grpSpPr>
        <p:sp>
          <p:nvSpPr>
            <p:cNvPr id="574" name=""/>
            <p:cNvSpPr/>
            <p:nvPr/>
          </p:nvSpPr>
          <p:spPr>
            <a:xfrm>
              <a:off x="7245720" y="1920960"/>
              <a:ext cx="8215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r>
                <a:rPr b="1" lang="es-CL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46840" y="2819520"/>
              <a:ext cx="609480" cy="1298520"/>
            </a:xfrm>
            <a:noFill/>
            <a:ln w="50760">
              <a:solidFill>
                <a:srgbClr val="99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490000" y="4116240"/>
              <a:ext cx="6433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r>
                <a:rPr b="1" lang="es-CL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997520" y="2255760"/>
              <a:ext cx="963720" cy="1040040"/>
            </a:xfrm>
            <a:custGeom>
              <a:avLst/>
              <a:gdLst/>
              <a:ahLst/>
              <a:rect l="l" t="t" r="r" b="b"/>
              <a:pathLst>
                <a:path w="607" h="655">
                  <a:moveTo>
                    <a:pt x="607" y="655"/>
                  </a:moveTo>
                  <a:cubicBezTo>
                    <a:pt x="547" y="612"/>
                    <a:pt x="346" y="503"/>
                    <a:pt x="245" y="394"/>
                  </a:cubicBezTo>
                  <a:cubicBezTo>
                    <a:pt x="144" y="285"/>
                    <a:pt x="51" y="82"/>
                    <a:pt x="0" y="0"/>
                  </a:cubicBezTo>
                </a:path>
              </a:pathLst>
            </a:custGeo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89680" y="2281320"/>
              <a:ext cx="1716120" cy="1155600"/>
            </a:xfrm>
            <a:custGeom>
              <a:avLst/>
              <a:gdLst/>
              <a:ahLst/>
              <a:rect l="l" t="t" r="r" b="b"/>
              <a:pathLst>
                <a:path w="1081" h="728">
                  <a:moveTo>
                    <a:pt x="1081" y="0"/>
                  </a:moveTo>
                  <a:cubicBezTo>
                    <a:pt x="916" y="232"/>
                    <a:pt x="752" y="464"/>
                    <a:pt x="615" y="584"/>
                  </a:cubicBezTo>
                  <a:cubicBezTo>
                    <a:pt x="478" y="704"/>
                    <a:pt x="362" y="708"/>
                    <a:pt x="260" y="718"/>
                  </a:cubicBezTo>
                  <a:cubicBezTo>
                    <a:pt x="158" y="728"/>
                    <a:pt x="79" y="687"/>
                    <a:pt x="0" y="647"/>
                  </a:cubicBezTo>
                </a:path>
              </a:pathLst>
            </a:custGeom>
            <a:noFill/>
            <a:ln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7BD0B-3FD7-4DC2-915D-C9D4FC423302}" type="slidenum">
              <a:t>35</a:t>
            </a:fld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 fill="hold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 fill="hold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 fill="hold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 fill="hold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dur="indefinite" fill="hold">
                      <p:stCondLst>
                        <p:cond delay="indefinite"/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 fill="hold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047600" y="1357200"/>
            <a:ext cx="73962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Cuál es la curva de coste a largo plazo de la empres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empresas pueden alterar el tamaño de su planta con el fin de modificar su producción a largo plazo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curva de coste a largo plazo corresponde a la parte azul oscuro de la curva de CMeC, que representa el coste mínimo para cualquier nivel de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50800" y="7920"/>
            <a:ext cx="79837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constante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Por qué el CMeL no incluye los puntos mínimos de las plantas de tamaño grande y pequeñ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Por qué razón el CML no es la envolvente del coste marginal a corto plaz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50800" y="7920"/>
            <a:ext cx="79837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ndimientos constantes de escal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hemos visto en la seman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 objetivo de la empresa: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maximizar beneficio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s empresas se enfrentan con costes variables y fijos a largo plazo y a corto plazo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En las decisiones hay que tener en cuenta los costes variables y fijos pero no los irrecuperabl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43000" y="1719360"/>
            <a:ext cx="7396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Corto plazo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: la presencia de rendimientos decrecientes determina la forma de las curvas de coste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Largo plazo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: todos los factores que intervienen en el proceso de producción son variabl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Maximización de beneficios ⇒ minimización de cost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hemos visto en la seman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27080" y="1338120"/>
            <a:ext cx="739620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spués de unos primeros meses difíciles la “Tostaduría Enriqueta Pérez” tiene cierta holgura financiera que le permite comprar maquinas nuevas si las necesitar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Asuman que el coste de una maquina sea r = 5*10</a:t>
            </a:r>
            <a:r>
              <a:rPr b="0" lang="es-CL" sz="2400" spc="-1" strike="noStrike" baseline="33000">
                <a:solidFill>
                  <a:srgbClr val="000000"/>
                </a:solidFill>
                <a:latin typeface="Times New Roman"/>
                <a:ea typeface="MS Gothic"/>
              </a:rPr>
              <a:t>6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 y que el coste del trabajo sea w = 1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u función de producción sigue siendo F(K,L) = K</a:t>
            </a:r>
            <a:r>
              <a:rPr b="0" lang="es-CL" sz="2400" spc="-1" strike="noStrike" baseline="33000">
                <a:solidFill>
                  <a:srgbClr val="000000"/>
                </a:solidFill>
                <a:latin typeface="Times New Roman"/>
                <a:ea typeface="MS Gothic"/>
              </a:rPr>
              <a:t>2/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L</a:t>
            </a:r>
            <a:r>
              <a:rPr b="0" lang="es-CL" sz="2400" spc="-1" strike="noStrike" baseline="33000">
                <a:solidFill>
                  <a:srgbClr val="000000"/>
                </a:solidFill>
                <a:latin typeface="Times New Roman"/>
                <a:ea typeface="MS Gothic"/>
              </a:rPr>
              <a:t>1/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mbiará su elección de factores? Y su función de cost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: Un ejercici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143000" y="1719360"/>
            <a:ext cx="7396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Senda de expansión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: describe cómo varían las elecciones de factores minimizadoras de los costes a medida que aumenta el nivel de producció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 curva de coste medio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 a largo plazo es la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envolvente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 de las curvas de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coste medio a corto plazo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hemos visto en la seman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990720" y="1414440"/>
            <a:ext cx="78534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Una empresa disfruta de 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economías de escal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cuando puede duplicar su producción con un coste inferior al dob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o que hemos visto en la seman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dur="indefinite" fill="hold">
                      <p:stCondLst>
                        <p:cond delay="indefinite"/>
                      </p:stCondLst>
                      <p:childTnLst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80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Tarea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62000" y="1600200"/>
            <a:ext cx="739620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p. 7 P &amp; R,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echa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una miradita a las economías de alcan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p. 10 Frank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ap. 2 Apuntes Prof Eng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Hoja 3 de ejercic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89592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576960" y="312408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55840" y="4245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27080" y="1338120"/>
            <a:ext cx="7396200" cy="59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Como se determina la combinación optima para producir una cantidad data Q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Maximización de utilidades ⇒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 empresa debe minimizar los gastos en factores le permitan producir Q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(Q) = Min</a:t>
            </a:r>
            <a:r>
              <a:rPr b="0" i="1" lang="es-CL" sz="3200" spc="-1" strike="noStrike" baseline="-33000">
                <a:solidFill>
                  <a:srgbClr val="000000"/>
                </a:solidFill>
                <a:latin typeface="Times New Roman"/>
                <a:ea typeface="MS Gothic"/>
              </a:rPr>
              <a:t>F(K,L)=Q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rK + w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  <a:ea typeface="MS Gothic"/>
              </a:rPr>
              <a:t>¿Porque?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2233440"/>
            <a:ext cx="7396200" cy="37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cta isocos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= wL + 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ff3300"/>
                </a:solidFill>
                <a:latin typeface="Times New Roman"/>
                <a:ea typeface="MS Gothic"/>
              </a:rPr>
              <a:t>Recta isocoste</a:t>
            </a: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: línea que muestra todas las combinaciones posibles de trabajo y capital que pueden comprarse con un coste total dado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19400" y="1413000"/>
            <a:ext cx="6549480" cy="4899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ección de factores que minimizan los cos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233440"/>
            <a:ext cx="739620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formulamos la ecuación de coste total como la ecuación correspondiente a una línea recta, tenemos que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= C/r - (w/r)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Pendiente de la recta isocoste: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- cociente entre el salario y el coste de alquiler del capital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- tasa a la que el capital se puede sustituir por trabajo, sin que varíe el coste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19400" y="1413000"/>
            <a:ext cx="6549480" cy="4899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ección de factores que minimizan los cos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233440"/>
            <a:ext cx="7396200" cy="37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Debemos minimizar el coste de un determinado nivel de produc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Times New Roman"/>
                <a:ea typeface="MS Gothic"/>
              </a:rPr>
              <a:t>Por lo tanto es necesario combinar las informaciones isocostes y isocuantas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19400" y="1413000"/>
            <a:ext cx="6549480" cy="4899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Times New Roman"/>
                <a:ea typeface="MS Gothic"/>
              </a:rPr>
              <a:t>Elección de factores que minimizan los cos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0800" y="2556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47840" y="1731960"/>
            <a:ext cx="1800" cy="423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28760" y="5981760"/>
            <a:ext cx="4426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96160" y="5943600"/>
            <a:ext cx="91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Trabaj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06000" y="1370160"/>
            <a:ext cx="856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Capi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16720" y="3189240"/>
            <a:ext cx="3321000" cy="12711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La recta isocoste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 muestra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cantidad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Q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 que se puede produci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con la combinación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K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L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o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K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3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L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3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Sin embargo, ambas combinacion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conllevan un coste mayor que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K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L</a:t>
            </a:r>
            <a:r>
              <a:rPr b="1" i="1" lang="es-CL" sz="14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17800" y="1425600"/>
            <a:ext cx="3820680" cy="3795840"/>
            <a:chOff x="2917800" y="1425600"/>
            <a:chExt cx="3820680" cy="3795840"/>
          </a:xfrm>
        </p:grpSpPr>
        <p:sp>
          <p:nvSpPr>
            <p:cNvPr id="191" name=""/>
            <p:cNvSpPr/>
            <p:nvPr/>
          </p:nvSpPr>
          <p:spPr>
            <a:xfrm>
              <a:off x="6024960" y="480060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17800" y="2228760"/>
              <a:ext cx="3105000" cy="2992680"/>
            </a:xfrm>
            <a:prstGeom prst="pie">
              <a:avLst/>
            </a:prstGeom>
            <a:noFill/>
            <a:ln w="57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02840" y="1425600"/>
              <a:ext cx="2735640" cy="15134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es una isocuanta para la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producción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.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a recta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isocoste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C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0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muestra todas la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combinaciones de 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K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y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ue </a:t>
              </a:r>
              <a:r>
                <a:rPr b="1" i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Q</a:t>
              </a:r>
              <a:r>
                <a:rPr b="1" i="1" lang="es-CL" sz="14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 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puede producir a est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nivel de coste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51080" y="3774960"/>
            <a:ext cx="2206800" cy="220680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51080" y="2771640"/>
            <a:ext cx="3209760" cy="321012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38480" y="1933560"/>
            <a:ext cx="4060800" cy="406080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0000" y="5567400"/>
            <a:ext cx="419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40240" y="5567400"/>
            <a:ext cx="419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30960" y="5567400"/>
            <a:ext cx="419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6680" y="2968560"/>
            <a:ext cx="1693800" cy="852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1" i="1" lang="es-CL" sz="16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O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,  C</a:t>
            </a:r>
            <a:r>
              <a:rPr b="1" i="1" lang="es-CL" sz="16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 y C</a:t>
            </a:r>
            <a:r>
              <a:rPr b="1" i="1" lang="es-CL" sz="1600" spc="-1" strike="noStrike" baseline="-25000">
                <a:solidFill>
                  <a:srgbClr val="000000"/>
                </a:solidFill>
                <a:latin typeface="Arial"/>
                <a:ea typeface="MS Gothic"/>
              </a:rPr>
              <a:t>2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MS Gothic"/>
              </a:rPr>
              <a:t>son tres rectas isocost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58960" y="2516040"/>
            <a:ext cx="3822480" cy="3804480"/>
            <a:chOff x="1758960" y="2516040"/>
            <a:chExt cx="3822480" cy="3804480"/>
          </a:xfrm>
        </p:grpSpPr>
        <p:sp>
          <p:nvSpPr>
            <p:cNvPr id="202" name=""/>
            <p:cNvSpPr/>
            <p:nvPr/>
          </p:nvSpPr>
          <p:spPr>
            <a:xfrm>
              <a:off x="4038480" y="40402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2187360" y="4495680"/>
              <a:ext cx="187452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187720" y="5105520"/>
              <a:ext cx="317016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58960" y="426888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K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11480" y="4511520"/>
              <a:ext cx="1800" cy="1495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15280" y="591984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35520" y="4419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58960" y="495468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K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08640" y="5045040"/>
              <a:ext cx="1440" cy="9619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86880" y="591984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2185560" y="2743200"/>
              <a:ext cx="86364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60720" y="2759040"/>
              <a:ext cx="1440" cy="32479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71800" y="2666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32320" y="5029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58960" y="251604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K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38960" y="591984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CL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</a:t>
              </a:r>
              <a:r>
                <a:rPr b="1" i="1" lang="es-CL" sz="1800" spc="-1" strike="noStrike" baseline="-25000">
                  <a:solidFill>
                    <a:srgbClr val="000000"/>
                  </a:solidFill>
                  <a:latin typeface="Arial"/>
                  <a:ea typeface="MS Gothic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50800" y="27000"/>
            <a:ext cx="7983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Times New Roman"/>
                <a:ea typeface="MS Gothic"/>
              </a:rPr>
              <a:t>Largo Plaz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 fill="hold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 fill="hold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4T00:22:12Z</dcterms:created>
  <dc:creator>Jeff Caldwell</dc:creator>
  <dc:description/>
  <dc:language>en-US</dc:language>
  <cp:lastModifiedBy>Sala_B105</cp:lastModifiedBy>
  <cp:lastPrinted>2010-04-10T22:07:41Z</cp:lastPrinted>
  <dcterms:modified xsi:type="dcterms:W3CDTF">2010-04-12T15:03:48Z</dcterms:modified>
  <cp:revision>347</cp:revision>
  <dc:subject/>
  <dc:title>Chapter 1</dc:title>
</cp:coreProperties>
</file>