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07A-663B-4665-8B3B-DC72217D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F93-29F7-45D3-A316-DDA86D97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FA26-BEA3-4A6E-B489-66202568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01D-16FD-4A8E-8670-9E16956B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1476-064A-4FA8-8406-3AA3749B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A0F8-A152-406C-96D6-6148E071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9918-3A89-4C6D-BFD6-6C621B57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BBD7-7178-466C-8E1F-B1C4E5BD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C36E-298C-44A3-8352-DF485A5B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2ADB-FE8F-4D82-AB6B-9BCCC258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0CEA-A918-40E2-84EC-4CB11E8A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B83-2F5A-4A20-B72E-2921A343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A3D8-A0A0-4681-B93D-C93CF82D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CE53-8A3E-4E3A-9779-54C964F2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26C9-4A76-47CE-A73B-CF5A06F6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F65C-73A4-4094-9C41-A6F3E7B0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36C5-A66F-40B4-AB13-81110409F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0B5-CE3B-473D-96AE-54F36C60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D8EC-55FB-42A2-81BA-72C3B09B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258A-4E65-4FFC-9E88-C233DBAC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33F-B41A-4F1B-8807-2EDE22CA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C0C8-C81F-48F2-96C3-167F748D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64A-1529-4B03-8C77-5D567CA4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493-6885-47EF-8763-A5A47142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C707-02C6-4C47-A905-D2302D669DB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BBC5-B0CB-4ABB-8A4D-FE7E96CE836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 y Efectiv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quival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8000" y="1611360"/>
            <a:ext cx="8964720" cy="3709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781280"/>
            <a:ext cx="633744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dc:language>en-US</dc:language>
  <cp:lastModifiedBy>ivan.alvarez</cp:lastModifiedBy>
  <cp:lastPrinted>1999-03-18T21:04:38Z</cp:lastPrinted>
  <dcterms:modified xsi:type="dcterms:W3CDTF">2006-04-24T12:13:23Z</dcterms:modified>
  <cp:revision>24</cp:revision>
  <dc:subject/>
  <dc:title>ESTADISTICAS DE POLIMEROS</dc:title>
</cp:coreProperties>
</file>