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4F66-F420-4CC5-9B00-E67BFA201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2AD4-EE63-40A2-9E6B-2D3A67CFA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4508-62F5-4110-A4D1-09F1DFAB8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1393-A57E-4F9F-BADC-0C28CC8DB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0CB70-E448-4098-A61B-FA1CA5C06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0F216-D87D-4B7F-AA98-9085D2199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A7061-8ECA-41A7-BE35-719E3027D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7A9B1-ABA8-48EF-A287-805D6C0CB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72C26-9E3E-47EF-A88E-3D7DF33B5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6ED58-542F-4AE2-ADDE-CA8ECCEC0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240F9-0B6D-4F4E-B047-EF2CB9BC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B560-BF53-4A8E-8EB0-A6F510367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9ACCD-1D92-4D49-BBBA-9B6732A58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A78DC-E53E-46E0-83E3-C9C2ECE8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E16B2-A984-4360-9250-E4A025FEE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5271F-3B3F-4913-84A7-5076DF3AF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0FF4A-85CC-4650-9861-0A5CE5D63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F88EE4-8D25-4E2A-A6C5-E866C5036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EA8074-151A-414B-AEB3-FFCE0ED64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CB9D57-F4AC-46EE-A104-22C8EEF53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F02734-7C7C-4851-8865-0B1CFA24F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11706F-4DA0-4770-B5F6-667CE1D4D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91D5-28F8-41DE-AE34-E9B205C5B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8ADB83-3539-4793-8C3F-3180D8EC2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163BC4-CCD8-4D9D-A477-0B3B6C309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1D8E91-AA39-400E-9334-C8250BA45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A9E429-7D6B-4903-8828-64A71740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CAAF20-018A-4455-9A26-650546E2C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A91343-1CB4-47C3-BDC5-883665480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0B0BAE-5B18-43DC-ABC7-179253347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17F4E-3C77-4205-B07D-09BA9EDDC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27024-98AC-4516-A1E5-94E5A11DE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74AC4-9CE9-40DC-B891-EFE202431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FEAA-8027-45CF-921B-A22569346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24359-9D78-45C9-B937-B4D3E5E8A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27B6F-AD7A-4068-ADA6-1E719B5BA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A6D68-2F16-4F9B-AD44-2C67C01F3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FF798-58F6-4148-8DDA-DEA9FA7AB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172280-37AB-41A0-BC0F-243DC162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6E90E-091C-446A-BCBD-B058E9DC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10693-6872-43C7-8C10-3A78CEAB8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66A41-FEEA-4B40-9ED1-3CEFF0727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75DD8-4B06-4263-9438-2E989DD72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BFD8-E47B-458D-BDFB-3DAE7FAAE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3F22-D4E4-4C49-B4F7-BCD4F359E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B560-ED45-44CA-A4CB-1736FB08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BDE0-F9E3-4269-94DA-9355D313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7A3D-ADAB-4538-868B-02279BD08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27 Rectángulo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28 Rectángulo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29 Rectángulo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30 Rectángulo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31 Rectángulo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32 Rectángulo redondeado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33 Rectángulo redondeado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34 Rectángulo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35 Rectángulo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36 Rectángulo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37 Rectángulo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38 Rectángulo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39 Rectángulo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800" spc="-1" strike="noStrike">
                <a:solidFill>
                  <a:srgbClr val="009dd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9dd9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E7FE6-BF84-454B-A548-78193662F802}" type="slidenum"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19 Rectángulo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20 Rectángulo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23 Rectángulo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009dd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24 Rectángulo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009dd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25 Rectángulo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009dd9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26 Rectángulo redondeado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40 Rectángulo redondeado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41 Rectángulo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42 Rectángulo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43 Rectángulo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44 Rectángulo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800" spc="-1" strike="noStrike">
                <a:solidFill>
                  <a:srgbClr val="009dd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9dd9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1ABA2-103F-4B59-8143-976EA8AA9675}" type="slidenum"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27 Rectángulo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28 Rectángulo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29 Rectángulo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30 Rectángulo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31 Rectángulo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32 Rectángulo redondeado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33 Rectángulo redondeado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34 Rectángulo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35 Rectángulo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36 Rectángulo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37 Rectángulo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38 Rectángulo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39 Rectángulo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800" spc="-1" strike="noStrike">
                <a:solidFill>
                  <a:srgbClr val="009dd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9dd9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0F8C5-025D-4410-986E-93AE90743B9A}" type="slidenum"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27 Rectángulo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28 Rectángulo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0461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29 Rectángulo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30 Rectángulo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31 Rectángulo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009dd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32 Rectángulo redondeado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33 Rectángulo redondeado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34 Rectángulo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35 Rectángulo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36 Rectángulo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37 Rectángulo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38 Rectángulo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39 Rectángulo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0f6fc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0bd0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800" spc="-1" strike="noStrike">
                <a:solidFill>
                  <a:srgbClr val="009dd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9dd9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3300F-70E8-47D1-A564-D574B35801FB}" type="slidenum"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28400" y="150012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Trebuchet MS"/>
              </a:rPr>
              <a:t>Entel vs Movistar</a:t>
            </a:r>
            <a:endParaRPr b="0" lang="en-US" sz="6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85776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4617b"/>
                </a:solidFill>
                <a:latin typeface="Georgia"/>
              </a:rPr>
              <a:t>Auxiliar Análisis Financiero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6500880" y="5857920"/>
            <a:ext cx="2333520" cy="7714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"/>
          <p:cNvPicPr/>
          <p:nvPr/>
        </p:nvPicPr>
        <p:blipFill>
          <a:blip r:embed="rId2"/>
          <a:stretch/>
        </p:blipFill>
        <p:spPr>
          <a:xfrm>
            <a:off x="357120" y="4786200"/>
            <a:ext cx="189540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285840" y="2308320"/>
          <a:ext cx="6408720" cy="3620880"/>
        </p:xfrm>
        <a:graphic>
          <a:graphicData uri="http://schemas.openxmlformats.org/drawingml/2006/table">
            <a:tbl>
              <a:tblPr/>
              <a:tblGrid>
                <a:gridCol w="3379680"/>
                <a:gridCol w="1514520"/>
                <a:gridCol w="1514520"/>
              </a:tblGrid>
              <a:tr h="1904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éstamos que devengan intereses,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.081.96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.614.28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pasivos financieros,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2.55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8.69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reedores comerciales y otras cuentas por pag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.909.01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8.241.89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8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entas por pagar a entidades relacionadas,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.969.23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.590.63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vis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732.27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378.13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entas por pagar por impues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705.73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826.59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pasivos,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8.00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5.46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resos diferidos,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.794.92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.606.04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Pasivos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23.053.70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10.311.74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  <a:tr h="1908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18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éstamos que devengan intereses, no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6.814.19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0.791.30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pasivos financiros, no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26.88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vis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813.17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321.01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8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pasivos, no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9.17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95.58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ivos de cobertura, no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5.72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pasivos no corrie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89.199.15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.307.9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  <a:tr h="1904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Pasiv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12.252.86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12.619.64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</a:tbl>
          </a:graphicData>
        </a:graphic>
      </p:graphicFrame>
      <p:sp>
        <p:nvSpPr>
          <p:cNvPr id="240" name="4 Rectángulo"/>
          <p:cNvSpPr/>
          <p:nvPr/>
        </p:nvSpPr>
        <p:spPr>
          <a:xfrm>
            <a:off x="7929720" y="5643720"/>
            <a:ext cx="1190520" cy="119052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4617b"/>
                </a:solidFill>
                <a:latin typeface="Trebuchet MS"/>
              </a:rPr>
              <a:t>Estados Financieros (Pasivos)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4617b"/>
                </a:solidFill>
                <a:latin typeface="Trebuchet MS"/>
              </a:rPr>
              <a:t>Estados Financieros (Pasivos)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285840" y="2151000"/>
          <a:ext cx="5351400" cy="4349880"/>
        </p:xfrm>
        <a:graphic>
          <a:graphicData uri="http://schemas.openxmlformats.org/drawingml/2006/table">
            <a:tbl>
              <a:tblPr/>
              <a:tblGrid>
                <a:gridCol w="3128760"/>
                <a:gridCol w="1111320"/>
                <a:gridCol w="1111320"/>
              </a:tblGrid>
              <a:tr h="190080"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éstamos que devengan intereses,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.421.82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583.17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pasivos financieros,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.509.92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14.55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reedores comerciales y otras cuentas por pag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6.521.22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3.077.07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vis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5.58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uesto a la ren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02.53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028.34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pasivos,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596.98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650.21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resos diferidos,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.657.23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346.3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ivos de cobertu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.2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.50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44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ivos acumulados (o devengado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307.56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142.23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pasivos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03.397.50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21.491.98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  <a:tr h="189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éstamos que devengan intereses, no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5.821.18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6.376.38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pasivos financiros, no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9.38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20.39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vis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84.18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985.57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ivos por impuestos diferi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016.91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381.10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pasivos, no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8.84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resos diferidos, no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04.24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95.23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08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ligacion por beneficios Post Emple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663.71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212.75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ivos de cobertura, no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.040.53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940.00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Pasivos No corrie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01.140.17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57.700.29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  <a:tr h="189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0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Pasiv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4.537.67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79.192.28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6120" marR="61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</a:tbl>
          </a:graphicData>
        </a:graphic>
      </p:graphicFrame>
      <p:sp>
        <p:nvSpPr>
          <p:cNvPr id="244" name="4 Rectángulo"/>
          <p:cNvSpPr/>
          <p:nvPr/>
        </p:nvSpPr>
        <p:spPr>
          <a:xfrm>
            <a:off x="7881840" y="5595840"/>
            <a:ext cx="1190880" cy="119088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4617b"/>
                </a:solidFill>
                <a:latin typeface="Trebuchet MS"/>
              </a:rPr>
              <a:t>Estados Financieros (Patrimonio)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415800" y="2500200"/>
          <a:ext cx="6228000" cy="1722600"/>
        </p:xfrm>
        <a:graphic>
          <a:graphicData uri="http://schemas.openxmlformats.org/drawingml/2006/table">
            <a:tbl>
              <a:tblPr/>
              <a:tblGrid>
                <a:gridCol w="3957840"/>
                <a:gridCol w="1135080"/>
                <a:gridCol w="1135080"/>
              </a:tblGrid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0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0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ital emiti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931.647.2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65.350.05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as reserv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1.365.208.29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1.402.198.36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ultados reteni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2.837.71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6.639.25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4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trimonio neto atribuible a los tenedores de instrumentos de patrimonio neto de controlado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9.276.62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9.790.94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ticipaciones minoritari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trimonio n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9.276.62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9.791.89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Pasivos y patrimon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251.529.49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332.411.54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</a:tbl>
          </a:graphicData>
        </a:graphic>
      </p:graphicFrame>
      <p:sp>
        <p:nvSpPr>
          <p:cNvPr id="247" name="4 Rectángulo"/>
          <p:cNvSpPr/>
          <p:nvPr/>
        </p:nvSpPr>
        <p:spPr>
          <a:xfrm>
            <a:off x="7929720" y="5643720"/>
            <a:ext cx="1190520" cy="119052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4617b"/>
                </a:solidFill>
                <a:latin typeface="Trebuchet MS"/>
              </a:rPr>
              <a:t>Estados Financieros (Patrimonio)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428760" y="2571840"/>
          <a:ext cx="6414840" cy="1539720"/>
        </p:xfrm>
        <a:graphic>
          <a:graphicData uri="http://schemas.openxmlformats.org/drawingml/2006/table">
            <a:tbl>
              <a:tblPr/>
              <a:tblGrid>
                <a:gridCol w="4117680"/>
                <a:gridCol w="1149480"/>
                <a:gridCol w="1147680"/>
              </a:tblGrid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0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0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ital emiti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2.667.56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2.667.56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3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as reserv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    84.968.37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    84.471.77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ultados reteni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3.152.71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5.672.72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trimonio neto atribuible a los accionistas de la Matri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0.851.90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3.868.51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és minorit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trimonio n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0.851.90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3.868.51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Pasivos y patrimon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365.389.57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403.060.8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</a:tbl>
          </a:graphicData>
        </a:graphic>
      </p:graphicFrame>
      <p:sp>
        <p:nvSpPr>
          <p:cNvPr id="250" name="4 Rectángulo"/>
          <p:cNvSpPr/>
          <p:nvPr/>
        </p:nvSpPr>
        <p:spPr>
          <a:xfrm>
            <a:off x="7881840" y="5595840"/>
            <a:ext cx="1190880" cy="119088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4617b"/>
                </a:solidFill>
                <a:latin typeface="Trebuchet MS"/>
              </a:rPr>
              <a:t>Estados Financieros </a:t>
            </a:r>
            <a:r>
              <a:rPr b="0" lang="es-ES" sz="4000" spc="-1" strike="noStrike">
                <a:solidFill>
                  <a:srgbClr val="04617b"/>
                </a:solidFill>
                <a:latin typeface="Trebuchet MS"/>
              </a:rPr>
              <a:t>(EERR)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571760" y="2214720"/>
          <a:ext cx="5905440" cy="3342960"/>
        </p:xfrm>
        <a:graphic>
          <a:graphicData uri="http://schemas.openxmlformats.org/drawingml/2006/table">
            <a:tbl>
              <a:tblPr/>
              <a:tblGrid>
                <a:gridCol w="3646440"/>
                <a:gridCol w="1128600"/>
                <a:gridCol w="1130400"/>
              </a:tblGrid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resos ordinari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3.007.09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7.741.977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ingresos de oper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377.84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33.52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tos de pers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41.967.20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39.022.26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y amortiz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148.852.01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158.208.89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gastos varios de oper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419.982.61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460.754.42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os financier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   8.639.27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16.852.71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reso procedente de inversio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07.14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719.08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erencias de camb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      182.21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   7.938.96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ingresos distintos de los de Oper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anancia antes de impuest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81.068.76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22.117.90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to por impuesto a las gananci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33.016.83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13.513.94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ananci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48.051.93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8.603.96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</a:tbl>
          </a:graphicData>
        </a:graphic>
      </p:graphicFrame>
      <p:sp>
        <p:nvSpPr>
          <p:cNvPr id="253" name="5 Rectángulo"/>
          <p:cNvSpPr/>
          <p:nvPr/>
        </p:nvSpPr>
        <p:spPr>
          <a:xfrm>
            <a:off x="7929720" y="5643720"/>
            <a:ext cx="1190520" cy="119052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4617b"/>
                </a:solidFill>
                <a:latin typeface="Trebuchet MS"/>
              </a:rPr>
              <a:t>Estados Financieros (EERR)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1314360" y="2131920"/>
          <a:ext cx="6043680" cy="4003920"/>
        </p:xfrm>
        <a:graphic>
          <a:graphicData uri="http://schemas.openxmlformats.org/drawingml/2006/table">
            <a:tbl>
              <a:tblPr/>
              <a:tblGrid>
                <a:gridCol w="3659400"/>
                <a:gridCol w="1127160"/>
                <a:gridCol w="1257120"/>
              </a:tblGrid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resos ordinari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8.129.61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03.411.97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ingresos de oper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12.36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522.80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tos de perso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100.707.10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    91.692.32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reciación y amortiz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211.769.59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  194.402.04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érdidas por deterioro (Reversion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32.198.82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    36.018.03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gastos varios de oper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465.415.40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  488.510.54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5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nancia (Pérdida) por baja en cuentas de activ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corrientes no mantenidos para la ven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129.18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          166.558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os financier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11.351.84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    15.239.33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reso procedente de inversio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67.70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718.92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erencias de camb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   7.524.35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      4.543.619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ultado por unidades de reajus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77.75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    14.301.82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anancia antes de impuest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71.049.50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</a:t>
                      </a: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64.779.43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sto por impuesto a las gananci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28.789.51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      25.546.79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ananci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42.259.99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</a:t>
                      </a:r>
                      <a:r>
                        <a:rPr b="1" lang="es-E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39.232.64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</a:tbl>
          </a:graphicData>
        </a:graphic>
      </p:graphicFrame>
      <p:sp>
        <p:nvSpPr>
          <p:cNvPr id="256" name="4 Rectángulo"/>
          <p:cNvSpPr/>
          <p:nvPr/>
        </p:nvSpPr>
        <p:spPr>
          <a:xfrm>
            <a:off x="7881840" y="5595840"/>
            <a:ext cx="1190880" cy="119088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28400" y="210168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Trebuchet MS"/>
              </a:rPr>
              <a:t>Indicadores Financieros</a:t>
            </a:r>
            <a:endParaRPr b="0" lang="en-US" sz="6000" spc="-1" strike="noStrike">
              <a:solidFill>
                <a:srgbClr val="04617b"/>
              </a:solidFill>
              <a:latin typeface="Trebuchet MS"/>
            </a:endParaRPr>
          </a:p>
        </p:txBody>
      </p:sp>
      <p:grpSp>
        <p:nvGrpSpPr>
          <p:cNvPr id="258" name="10 Grupo"/>
          <p:cNvGrpSpPr/>
          <p:nvPr/>
        </p:nvGrpSpPr>
        <p:grpSpPr>
          <a:xfrm>
            <a:off x="3024360" y="5452920"/>
            <a:ext cx="3262320" cy="1190880"/>
            <a:chOff x="3024360" y="5452920"/>
            <a:chExt cx="3262320" cy="1190880"/>
          </a:xfrm>
        </p:grpSpPr>
        <p:sp>
          <p:nvSpPr>
            <p:cNvPr id="259" name="11 Rectángulo"/>
            <p:cNvSpPr/>
            <p:nvPr/>
          </p:nvSpPr>
          <p:spPr>
            <a:xfrm>
              <a:off x="5096520" y="5452920"/>
              <a:ext cx="1190160" cy="11908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60" name="12 Rectángulo"/>
            <p:cNvSpPr/>
            <p:nvPr/>
          </p:nvSpPr>
          <p:spPr>
            <a:xfrm>
              <a:off x="3024360" y="5452920"/>
              <a:ext cx="1190160" cy="11908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61" name="13 CuadroTexto"/>
            <p:cNvSpPr/>
            <p:nvPr/>
          </p:nvSpPr>
          <p:spPr>
            <a:xfrm>
              <a:off x="4167720" y="5667120"/>
              <a:ext cx="1000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400" spc="-1" strike="noStrike">
                  <a:solidFill>
                    <a:srgbClr val="083763"/>
                  </a:solidFill>
                  <a:latin typeface="comic"/>
                </a:rPr>
                <a:t>vs</a:t>
              </a:r>
              <a:endParaRPr b="0" lang="en-US" sz="54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4617b"/>
                </a:solidFill>
                <a:latin typeface="Trebuchet MS"/>
              </a:rPr>
              <a:t>Liquidez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1143000" y="2571840"/>
          <a:ext cx="7000920" cy="1501560"/>
        </p:xfrm>
        <a:graphic>
          <a:graphicData uri="http://schemas.openxmlformats.org/drawingml/2006/table">
            <a:tbl>
              <a:tblPr/>
              <a:tblGrid>
                <a:gridCol w="3265560"/>
                <a:gridCol w="933480"/>
                <a:gridCol w="934920"/>
                <a:gridCol w="933480"/>
                <a:gridCol w="933480"/>
              </a:tblGrid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vist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ación de liquide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 Áci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64" name="8 Grupo"/>
          <p:cNvGrpSpPr/>
          <p:nvPr/>
        </p:nvGrpSpPr>
        <p:grpSpPr>
          <a:xfrm>
            <a:off x="3024360" y="5452920"/>
            <a:ext cx="3262320" cy="1190880"/>
            <a:chOff x="3024360" y="5452920"/>
            <a:chExt cx="3262320" cy="1190880"/>
          </a:xfrm>
        </p:grpSpPr>
        <p:sp>
          <p:nvSpPr>
            <p:cNvPr id="265" name="9 Rectángulo"/>
            <p:cNvSpPr/>
            <p:nvPr/>
          </p:nvSpPr>
          <p:spPr>
            <a:xfrm>
              <a:off x="5096520" y="5452920"/>
              <a:ext cx="1190160" cy="11908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66" name="10 Rectángulo"/>
            <p:cNvSpPr/>
            <p:nvPr/>
          </p:nvSpPr>
          <p:spPr>
            <a:xfrm>
              <a:off x="3024360" y="5452920"/>
              <a:ext cx="1190160" cy="11908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67" name="11 CuadroTexto"/>
            <p:cNvSpPr/>
            <p:nvPr/>
          </p:nvSpPr>
          <p:spPr>
            <a:xfrm>
              <a:off x="4167720" y="5667120"/>
              <a:ext cx="1000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400" spc="-1" strike="noStrike">
                  <a:solidFill>
                    <a:srgbClr val="083763"/>
                  </a:solidFill>
                  <a:latin typeface="comic"/>
                </a:rPr>
                <a:t>vs</a:t>
              </a:r>
              <a:endParaRPr b="0" lang="en-US" sz="54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4617b"/>
                </a:solidFill>
                <a:latin typeface="Trebuchet MS"/>
              </a:rPr>
              <a:t>Endeudamiento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071720" y="2428920"/>
          <a:ext cx="7072200" cy="1876320"/>
        </p:xfrm>
        <a:graphic>
          <a:graphicData uri="http://schemas.openxmlformats.org/drawingml/2006/table">
            <a:tbl>
              <a:tblPr/>
              <a:tblGrid>
                <a:gridCol w="4008240"/>
                <a:gridCol w="765360"/>
                <a:gridCol w="766440"/>
                <a:gridCol w="765360"/>
                <a:gridCol w="766800"/>
              </a:tblGrid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vist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zón de endeudamien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zón deuda patrimon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bertura de intere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70" name="8 Grupo"/>
          <p:cNvGrpSpPr/>
          <p:nvPr/>
        </p:nvGrpSpPr>
        <p:grpSpPr>
          <a:xfrm>
            <a:off x="3024360" y="5452920"/>
            <a:ext cx="3262320" cy="1190880"/>
            <a:chOff x="3024360" y="5452920"/>
            <a:chExt cx="3262320" cy="1190880"/>
          </a:xfrm>
        </p:grpSpPr>
        <p:sp>
          <p:nvSpPr>
            <p:cNvPr id="271" name="9 Rectángulo"/>
            <p:cNvSpPr/>
            <p:nvPr/>
          </p:nvSpPr>
          <p:spPr>
            <a:xfrm>
              <a:off x="5096520" y="5452920"/>
              <a:ext cx="1190160" cy="11908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72" name="10 Rectángulo"/>
            <p:cNvSpPr/>
            <p:nvPr/>
          </p:nvSpPr>
          <p:spPr>
            <a:xfrm>
              <a:off x="3024360" y="5452920"/>
              <a:ext cx="1190160" cy="11908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73" name="11 CuadroTexto"/>
            <p:cNvSpPr/>
            <p:nvPr/>
          </p:nvSpPr>
          <p:spPr>
            <a:xfrm>
              <a:off x="4167720" y="5667120"/>
              <a:ext cx="1000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400" spc="-1" strike="noStrike">
                  <a:solidFill>
                    <a:srgbClr val="083763"/>
                  </a:solidFill>
                  <a:latin typeface="comic"/>
                </a:rPr>
                <a:t>vs</a:t>
              </a:r>
              <a:endParaRPr b="0" lang="en-US" sz="54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4617b"/>
                </a:solidFill>
                <a:latin typeface="Trebuchet MS"/>
              </a:rPr>
              <a:t>Rentabilidad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1785960" y="2712960"/>
          <a:ext cx="5429160" cy="1501920"/>
        </p:xfrm>
        <a:graphic>
          <a:graphicData uri="http://schemas.openxmlformats.org/drawingml/2006/table">
            <a:tbl>
              <a:tblPr/>
              <a:tblGrid>
                <a:gridCol w="1030320"/>
                <a:gridCol w="1100160"/>
                <a:gridCol w="1100160"/>
                <a:gridCol w="1098360"/>
                <a:gridCol w="1100160"/>
              </a:tblGrid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vist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76" name="8 Grupo"/>
          <p:cNvGrpSpPr/>
          <p:nvPr/>
        </p:nvGrpSpPr>
        <p:grpSpPr>
          <a:xfrm>
            <a:off x="3024360" y="5452920"/>
            <a:ext cx="3262320" cy="1190880"/>
            <a:chOff x="3024360" y="5452920"/>
            <a:chExt cx="3262320" cy="1190880"/>
          </a:xfrm>
        </p:grpSpPr>
        <p:sp>
          <p:nvSpPr>
            <p:cNvPr id="277" name="9 Rectángulo"/>
            <p:cNvSpPr/>
            <p:nvPr/>
          </p:nvSpPr>
          <p:spPr>
            <a:xfrm>
              <a:off x="5096520" y="5452920"/>
              <a:ext cx="1190160" cy="11908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78" name="10 Rectángulo"/>
            <p:cNvSpPr/>
            <p:nvPr/>
          </p:nvSpPr>
          <p:spPr>
            <a:xfrm>
              <a:off x="3024360" y="5452920"/>
              <a:ext cx="1190160" cy="11908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79" name="11 CuadroTexto"/>
            <p:cNvSpPr/>
            <p:nvPr/>
          </p:nvSpPr>
          <p:spPr>
            <a:xfrm>
              <a:off x="4167720" y="5667120"/>
              <a:ext cx="1000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400" spc="-1" strike="noStrike">
                  <a:solidFill>
                    <a:srgbClr val="083763"/>
                  </a:solidFill>
                  <a:latin typeface="comic"/>
                </a:rPr>
                <a:t>vs</a:t>
              </a:r>
              <a:endParaRPr b="0" lang="en-US" sz="54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4617b"/>
                </a:solidFill>
                <a:latin typeface="Trebuchet MS"/>
              </a:rPr>
              <a:t>Agenda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eorgia"/>
              </a:rPr>
              <a:t>Motivació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eorgia"/>
              </a:rPr>
              <a:t>Caracterización de la Industri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eorgia"/>
              </a:rPr>
              <a:t>Estados Financiero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eorgia"/>
              </a:rPr>
              <a:t>Indicadores Financiero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eorgia"/>
              </a:rPr>
              <a:t>Análisis Financiero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eorgia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4617b"/>
                </a:solidFill>
                <a:latin typeface="Trebuchet MS"/>
              </a:rPr>
              <a:t>Eficiencia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571680" y="2087640"/>
          <a:ext cx="7786440" cy="2627280"/>
        </p:xfrm>
        <a:graphic>
          <a:graphicData uri="http://schemas.openxmlformats.org/drawingml/2006/table">
            <a:tbl>
              <a:tblPr/>
              <a:tblGrid>
                <a:gridCol w="4413240"/>
                <a:gridCol w="842760"/>
                <a:gridCol w="843120"/>
                <a:gridCol w="844560"/>
                <a:gridCol w="842760"/>
              </a:tblGrid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vist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t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tación de existenci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,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istencia en dí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,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,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tación de Cuentas por Cobr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iodo de Cob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,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,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,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,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5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tación de los Activ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82" name="8 Grupo"/>
          <p:cNvGrpSpPr/>
          <p:nvPr/>
        </p:nvGrpSpPr>
        <p:grpSpPr>
          <a:xfrm>
            <a:off x="3024360" y="5452920"/>
            <a:ext cx="3262320" cy="1190880"/>
            <a:chOff x="3024360" y="5452920"/>
            <a:chExt cx="3262320" cy="1190880"/>
          </a:xfrm>
        </p:grpSpPr>
        <p:sp>
          <p:nvSpPr>
            <p:cNvPr id="283" name="9 Rectángulo"/>
            <p:cNvSpPr/>
            <p:nvPr/>
          </p:nvSpPr>
          <p:spPr>
            <a:xfrm>
              <a:off x="5096520" y="5452920"/>
              <a:ext cx="1190160" cy="11908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84" name="10 Rectángulo"/>
            <p:cNvSpPr/>
            <p:nvPr/>
          </p:nvSpPr>
          <p:spPr>
            <a:xfrm>
              <a:off x="3024360" y="5452920"/>
              <a:ext cx="1190160" cy="11908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85" name="11 CuadroTexto"/>
            <p:cNvSpPr/>
            <p:nvPr/>
          </p:nvSpPr>
          <p:spPr>
            <a:xfrm>
              <a:off x="4167720" y="5667120"/>
              <a:ext cx="1000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5400" spc="-1" strike="noStrike">
                  <a:solidFill>
                    <a:srgbClr val="083763"/>
                  </a:solidFill>
                  <a:latin typeface="comic"/>
                </a:rPr>
                <a:t>vs</a:t>
              </a:r>
              <a:endParaRPr b="0" lang="en-US" sz="54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4617b"/>
                </a:solidFill>
                <a:latin typeface="Trebuchet MS"/>
              </a:rPr>
              <a:t>Análisis Financiero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eorgia"/>
              </a:rPr>
              <a:t>Impacto de la crisi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eorgia"/>
              </a:rPr>
              <a:t>Desempeño de las empresa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4617b"/>
                </a:solidFill>
                <a:latin typeface="Trebuchet MS"/>
              </a:rPr>
              <a:t>Conclusiones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1785960" y="2146320"/>
            <a:ext cx="5691240" cy="42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28400" y="210168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Trebuchet MS"/>
              </a:rPr>
              <a:t>FIN</a:t>
            </a:r>
            <a:endParaRPr b="0" lang="en-US" sz="6000" spc="-1" strike="noStrike">
              <a:solidFill>
                <a:srgbClr val="04617b"/>
              </a:solidFill>
              <a:latin typeface="Trebuchet MS"/>
            </a:endParaRPr>
          </a:p>
        </p:txBody>
      </p:sp>
      <p:grpSp>
        <p:nvGrpSpPr>
          <p:cNvPr id="291" name="10 Grupo"/>
          <p:cNvGrpSpPr/>
          <p:nvPr/>
        </p:nvGrpSpPr>
        <p:grpSpPr>
          <a:xfrm>
            <a:off x="3024360" y="5452920"/>
            <a:ext cx="3262320" cy="1190880"/>
            <a:chOff x="3024360" y="5452920"/>
            <a:chExt cx="3262320" cy="1190880"/>
          </a:xfrm>
        </p:grpSpPr>
        <p:sp>
          <p:nvSpPr>
            <p:cNvPr id="292" name="11 Rectángulo"/>
            <p:cNvSpPr/>
            <p:nvPr/>
          </p:nvSpPr>
          <p:spPr>
            <a:xfrm>
              <a:off x="5096520" y="5452920"/>
              <a:ext cx="1190160" cy="11908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  <p:sp>
          <p:nvSpPr>
            <p:cNvPr id="293" name="12 Rectángulo"/>
            <p:cNvSpPr/>
            <p:nvPr/>
          </p:nvSpPr>
          <p:spPr>
            <a:xfrm>
              <a:off x="3024360" y="5452920"/>
              <a:ext cx="1190160" cy="11908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eorg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4617b"/>
                </a:solidFill>
                <a:latin typeface="Trebuchet MS"/>
              </a:rPr>
              <a:t>Motivación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eorgia"/>
              </a:rPr>
              <a:t>17,6 millones de abonados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eorgia"/>
              </a:rPr>
              <a:t>Penetración del 99,2%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eorgia"/>
              </a:rPr>
              <a:t>Tráfico de llamadas (2009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9dd9"/>
                </a:solidFill>
                <a:latin typeface="Georgia"/>
              </a:rPr>
              <a:t>12 mil millones de minutos.</a:t>
            </a:r>
            <a:endParaRPr b="0" lang="en-US" sz="2600" spc="-1" strike="noStrike">
              <a:solidFill>
                <a:srgbClr val="009dd9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eorgia"/>
              </a:rPr>
              <a:t>Nuevos servicios asociados 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Georgia"/>
              </a:rPr>
              <a:t>a la industria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5334120" y="121428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"/>
          <p:cNvPicPr/>
          <p:nvPr/>
        </p:nvPicPr>
        <p:blipFill>
          <a:blip r:embed="rId2"/>
          <a:stretch/>
        </p:blipFill>
        <p:spPr>
          <a:xfrm>
            <a:off x="5981760" y="4124160"/>
            <a:ext cx="273348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4617b"/>
                </a:solidFill>
                <a:latin typeface="Trebuchet MS"/>
              </a:rPr>
              <a:t>Industria de telefonía móvil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pic>
        <p:nvPicPr>
          <p:cNvPr id="225" name="3 Marcador de contenido" descr=""/>
          <p:cNvPicPr/>
          <p:nvPr/>
        </p:nvPicPr>
        <p:blipFill>
          <a:blip r:embed="rId1"/>
          <a:stretch/>
        </p:blipFill>
        <p:spPr>
          <a:xfrm>
            <a:off x="428760" y="2143080"/>
            <a:ext cx="80722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4617b"/>
                </a:solidFill>
                <a:latin typeface="Trebuchet MS"/>
              </a:rPr>
              <a:t>Industria de telefonía móvil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pic>
        <p:nvPicPr>
          <p:cNvPr id="227" name="3 Marcador de contenido" descr=""/>
          <p:cNvPicPr/>
          <p:nvPr/>
        </p:nvPicPr>
        <p:blipFill>
          <a:blip r:embed="rId1"/>
          <a:stretch/>
        </p:blipFill>
        <p:spPr>
          <a:xfrm>
            <a:off x="428760" y="2143080"/>
            <a:ext cx="80722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4617b"/>
                </a:solidFill>
                <a:latin typeface="Trebuchet MS"/>
              </a:rPr>
              <a:t>Aspectos relevantes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eorgia"/>
              </a:rPr>
              <a:t>Decreto Tarifario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eorgia"/>
              </a:rPr>
              <a:t>Crisis económica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9dd9"/>
                </a:solidFill>
                <a:latin typeface="Georgia"/>
              </a:rPr>
              <a:t>Medir impacto.</a:t>
            </a:r>
            <a:endParaRPr b="0" lang="en-US" sz="2600" spc="-1" strike="noStrike">
              <a:solidFill>
                <a:srgbClr val="009dd9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eorgia"/>
              </a:rPr>
              <a:t>Nuevas tecnología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9dd9"/>
                </a:solidFill>
                <a:latin typeface="Georgia"/>
              </a:rPr>
              <a:t>Cambio de equipos</a:t>
            </a:r>
            <a:endParaRPr b="0" lang="en-US" sz="2600" spc="-1" strike="noStrike">
              <a:solidFill>
                <a:srgbClr val="009dd9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009dd9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9dd9"/>
                </a:solidFill>
                <a:latin typeface="Georgia"/>
              </a:rPr>
              <a:t>Nuevos servicios (3G)</a:t>
            </a:r>
            <a:endParaRPr b="0" lang="en-US" sz="2600" spc="-1" strike="noStrike">
              <a:solidFill>
                <a:srgbClr val="009dd9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bd0d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4643280" y="2000160"/>
            <a:ext cx="4214880" cy="45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4617b"/>
                </a:solidFill>
                <a:latin typeface="Trebuchet MS"/>
              </a:rPr>
              <a:t>Entel vs Movistar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pic>
        <p:nvPicPr>
          <p:cNvPr id="232" name="4 Marcador de contenido" descr=""/>
          <p:cNvPicPr/>
          <p:nvPr/>
        </p:nvPicPr>
        <p:blipFill>
          <a:blip r:embed="rId1"/>
          <a:stretch/>
        </p:blipFill>
        <p:spPr>
          <a:xfrm>
            <a:off x="298440" y="2243160"/>
            <a:ext cx="8650440" cy="43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4617b"/>
                </a:solidFill>
                <a:latin typeface="Trebuchet MS"/>
              </a:rPr>
              <a:t>Estados Financieros (Activos)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285840" y="2357280"/>
          <a:ext cx="6357960" cy="4230720"/>
        </p:xfrm>
        <a:graphic>
          <a:graphicData uri="http://schemas.openxmlformats.org/drawingml/2006/table">
            <a:tbl>
              <a:tblPr/>
              <a:tblGrid>
                <a:gridCol w="4154400"/>
                <a:gridCol w="1101600"/>
                <a:gridCol w="1101960"/>
              </a:tblGrid>
              <a:tr h="1908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fectivo y equivalentes al efectiv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.690.29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.368.90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74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os financieros a valor razonable con cambios en resulta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.56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.95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78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udores comerciales y otras cuentas por cobrar, neto,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6.659.63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8.107.43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entas por cobrar a entidades relacionad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577.25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246.75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74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ntario, n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.845.15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.595.97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78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os de cobertura,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05.12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gos anticipados,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.985.12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249.50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74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entas por cobrar por impuestos corrie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1.16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2.43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78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activos,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59.80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59.26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vos corrientes en operación, 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76.330.14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95.889.23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  <a:tr h="1904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78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activos financieros, no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47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os intangibles, n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7.426.24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4.329.14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74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piedades, planta y equipo, n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2.430.89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1.151.94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78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os por impuestos diferi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.342.21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8.742.46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os de cobertura, no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291.27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74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activos no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75.199.35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036.522.3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  <a:tr h="1908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008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Activ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251.529.49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332.411.54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</a:tbl>
          </a:graphicData>
        </a:graphic>
      </p:graphicFrame>
      <p:sp>
        <p:nvSpPr>
          <p:cNvPr id="235" name="5 Rectángulo"/>
          <p:cNvSpPr/>
          <p:nvPr/>
        </p:nvSpPr>
        <p:spPr>
          <a:xfrm>
            <a:off x="7929720" y="5643720"/>
            <a:ext cx="1190520" cy="119052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1142640"/>
            <a:ext cx="8543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4617b"/>
                </a:solidFill>
                <a:latin typeface="Trebuchet MS"/>
              </a:rPr>
              <a:t>Estados Financieros (Activos)</a:t>
            </a:r>
            <a:endParaRPr b="0" lang="en-US" sz="4000" spc="-1" strike="noStrike">
              <a:solidFill>
                <a:srgbClr val="04617b"/>
              </a:solidFill>
              <a:latin typeface="Trebuchet MS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357120" y="2301840"/>
          <a:ext cx="6261120" cy="4192560"/>
        </p:xfrm>
        <a:graphic>
          <a:graphicData uri="http://schemas.openxmlformats.org/drawingml/2006/table">
            <a:tbl>
              <a:tblPr/>
              <a:tblGrid>
                <a:gridCol w="4043520"/>
                <a:gridCol w="1109520"/>
                <a:gridCol w="1108080"/>
              </a:tblGrid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fectivo y equivalentes al efectiv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.363.14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.571.93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os financieros a valor razonable con cambios en resulta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05.82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.085.64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44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udores comerciales y otras cuentas por cobrar, neto,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7.700.69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0.940.81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entas por cobrar a entidades relacionad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9.86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8.34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ventario, n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882.9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.337.70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 gridSpan="2"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os de cobertura,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gos anticipados,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970.1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293.87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entas por cobrar por impuestos corrie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027.83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954.67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activos,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9.80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84.92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Activos corrie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21.390.16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86.867.92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activos financieros, no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5.55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903.77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udores comerciales y otras cuents por cobrar, n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948.73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221.64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os intangibles, n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.508.14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.638.57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piedades, planta y equipo, n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7.358.12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.128.87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os por impuestos diferi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.635.15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.068.50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os de cobertura, no corr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508.08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08.91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activ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65.60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2.48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activos no corrie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043.999.40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016.192.77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7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Activ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365.389.57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</a:t>
                      </a:r>
                      <a:r>
                        <a:rPr b="1" lang="es-E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403.060.7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b" marL="5040" marR="50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76091"/>
                    </a:solidFill>
                  </a:tcPr>
                </a:tc>
              </a:tr>
            </a:tbl>
          </a:graphicData>
        </a:graphic>
      </p:graphicFrame>
      <p:sp>
        <p:nvSpPr>
          <p:cNvPr id="238" name="4 Rectángulo"/>
          <p:cNvSpPr/>
          <p:nvPr/>
        </p:nvSpPr>
        <p:spPr>
          <a:xfrm>
            <a:off x="7881840" y="5595840"/>
            <a:ext cx="1190880" cy="1190880"/>
          </a:xfrm>
          <a:prstGeom prst="rect">
            <a:avLst/>
          </a:prstGeom>
          <a:blipFill rotWithShape="0">
            <a:blip r:embed="rId1"/>
            <a:srcRect/>
            <a:stretch/>
          </a:blip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1T16:21:10Z</dcterms:created>
  <dc:creator>Héctor Alvarez</dc:creator>
  <dc:description/>
  <dc:language>en-US</dc:language>
  <cp:lastModifiedBy>Héctor Alvarez</cp:lastModifiedBy>
  <dcterms:modified xsi:type="dcterms:W3CDTF">2010-05-12T20:41:52Z</dcterms:modified>
  <cp:revision>20</cp:revision>
  <dc:subject/>
  <dc:title>Entel vs Movistar</dc:title>
</cp:coreProperties>
</file>