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200-A05B-48F2-A4E2-90FFD5A1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FFF-BB7C-4DB4-8B88-9F598437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F3B-FB91-4EC6-87C0-92B0CCB1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3F4-BF4B-428F-8481-852CCE90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9ABE-DAED-457A-9DD7-02043605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DCEC-5072-430B-A905-0E37D02D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1103-C876-406F-B194-71D25C63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38EA-E91E-42F0-9941-741AE1DA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A413-1583-4723-BD1C-23642C8D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4FA9-B085-43FC-B1F5-3656AF47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74B4-7EB2-4EFC-8F07-39590AD8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818-A407-42AF-BC3F-9EA25A9C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04B0-DC0F-4024-BAD7-C2D733E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1403-5FDD-4FDB-82F7-FDF8125C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5927-3E0E-460D-AE7C-67BF712D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5884-52A2-4B61-981C-266E242C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679C-8BE3-4D12-BB86-8B04B0B7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E3084-25D4-4E0A-B395-7A007F74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20122-1334-495C-A3BE-6D1531B8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36121-CD57-489B-BAA9-B8C1C20D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35F22-670A-42A1-BAFE-9098D479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F9D2D-F978-4E92-8898-81172841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493-4EC8-4D5D-A013-036EA16F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34AC0-E52D-4246-9918-B8A5F75B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1031C-B2D6-460F-AF90-33195AFF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90EA5-2CD7-4004-851F-B06A5BFF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7666C-5BEC-44CC-933D-4E1A2DB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829E0-CB5A-4432-8665-72625E3A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80A5F-E6F9-4D30-95A8-188131BB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22DC5-8CA8-43C1-9569-755EB72A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F4AD-27F5-4C93-85BB-BC1BDE84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95FE-591F-496E-B6DD-CE6D27BC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9E6E5-204C-45D6-BFD2-CDCA1897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473-E5A2-4D00-B6E9-9E79F8DF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AB43-229D-417E-B28E-3BE00E01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B56F2-F0BC-4BC7-B398-D4F99BA9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5C4D-4255-4CF7-8DE6-7BEADFC1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436E-2388-4ADF-A2C0-61C28EEC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8D40-126E-47E3-96BF-2618139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924D-47CA-46EC-9297-27FBE5A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0747-A502-4A27-BB9A-A425D486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C3B55-E3AA-4F22-91B3-06164C27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AB52E-BEC7-4155-85CB-00E54697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FD2-B509-4453-9643-0306375D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55E-51F5-4B72-9C80-B31D4D09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F6B-F467-4033-A404-5FC15FF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1ED-ADDE-455E-9533-C508FE3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CE0-B46A-41E8-9D74-22493A4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5D5A-A900-403C-B35C-5D11021F2130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C465-E056-44FB-951A-34C238BDAA08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5B0D-10B9-483E-B206-ECDCC894AD6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D34-D839-4653-86EC-2837844EDEE9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Entel vs Movistar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8577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4617b"/>
                </a:solidFill>
                <a:latin typeface="Georgia"/>
              </a:rPr>
              <a:t>Auxiliar Análisis Financier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500880" y="5857920"/>
            <a:ext cx="233352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7120" y="4786200"/>
            <a:ext cx="1895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85840" y="2308320"/>
          <a:ext cx="6408720" cy="3620880"/>
        </p:xfrm>
        <a:graphic>
          <a:graphicData uri="http://schemas.openxmlformats.org/drawingml/2006/table">
            <a:tbl>
              <a:tblPr/>
              <a:tblGrid>
                <a:gridCol w="3379680"/>
                <a:gridCol w="1514520"/>
                <a:gridCol w="1514520"/>
              </a:tblGrid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081.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14.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.5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8.6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909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41.8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a entidades relacionada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969.2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590.6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2.2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78.1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por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05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26.5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8.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.4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794.9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06.0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3.053.7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0.311.7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14.1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791.3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8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13.1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21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5.5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7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9.199.1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.307.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252.8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619.6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0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5840" y="2151000"/>
          <a:ext cx="5351400" cy="4349880"/>
        </p:xfrm>
        <a:graphic>
          <a:graphicData uri="http://schemas.openxmlformats.org/drawingml/2006/table">
            <a:tbl>
              <a:tblPr/>
              <a:tblGrid>
                <a:gridCol w="3128760"/>
                <a:gridCol w="1111320"/>
                <a:gridCol w="1111320"/>
              </a:tblGrid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421.8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83.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09.9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4.5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.521.2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.077.0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5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a la r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2.5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28.3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96.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50.2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57.2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46.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2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acumulados (o devenga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07.5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42.2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3.397.5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491.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821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.376.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.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0.3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4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.5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16.9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81.1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.8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4.2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95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ligacion por beneficios Post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3.7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12.7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040.5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940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1.140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7.700.2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4.537.6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9.192.2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4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15800" y="2500200"/>
          <a:ext cx="6228000" cy="1722600"/>
        </p:xfrm>
        <a:graphic>
          <a:graphicData uri="http://schemas.openxmlformats.org/drawingml/2006/table">
            <a:tbl>
              <a:tblPr/>
              <a:tblGrid>
                <a:gridCol w="3957840"/>
                <a:gridCol w="1135080"/>
                <a:gridCol w="11350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31.647.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65.350.0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365.208.2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402.198.3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837.7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639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tenedores de instrumentos de patrimonio neto de control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0.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minoritar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1.8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7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28760" y="2571840"/>
          <a:ext cx="6414840" cy="1539720"/>
        </p:xfrm>
        <a:graphic>
          <a:graphicData uri="http://schemas.openxmlformats.org/drawingml/2006/table">
            <a:tbl>
              <a:tblPr/>
              <a:tblGrid>
                <a:gridCol w="4117680"/>
                <a:gridCol w="1149480"/>
                <a:gridCol w="11476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968.3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471.7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52.7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672.7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accionistas de la Matr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és minor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0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</a:t>
            </a: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71760" y="2214720"/>
          <a:ext cx="5905440" cy="3342960"/>
        </p:xfrm>
        <a:graphic>
          <a:graphicData uri="http://schemas.openxmlformats.org/drawingml/2006/table">
            <a:tbl>
              <a:tblPr/>
              <a:tblGrid>
                <a:gridCol w="3646440"/>
                <a:gridCol w="1128600"/>
                <a:gridCol w="11304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3.007.0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741.9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77.8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33.5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41.967.2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9.022.2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48.852.0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58.208.8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19.982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0.754.4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8.639.2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6.852.7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7.1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9.0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182.2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938.9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istintos de l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1.068.7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2.117.9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3.016.8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3.513.9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8.051.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.603.9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3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stados Financieros 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14360" y="2131920"/>
          <a:ext cx="6043680" cy="4003920"/>
        </p:xfrm>
        <a:graphic>
          <a:graphicData uri="http://schemas.openxmlformats.org/drawingml/2006/table">
            <a:tbl>
              <a:tblPr/>
              <a:tblGrid>
                <a:gridCol w="3659400"/>
                <a:gridCol w="1127160"/>
                <a:gridCol w="125712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.129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411.9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2.3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22.8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.707.1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91.692.3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11.769.5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194.402.0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s por deterioro (Revers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2.198.8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36.018.0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5.415.4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488.510.5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(Pérdida) por baja en cuentas de ac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rrientes no mantenidos para la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29.1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    166.5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1.351.8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5.239.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7.7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8.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524.3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4.543.6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por unidades de reaju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77.7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4.301.8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1.049.5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4.779.4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28.789.5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25.546.7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2.259.9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9.232.6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6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Indicadores Financieros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58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59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0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1" name="13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Liquidez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2571840"/>
          <a:ext cx="7000920" cy="1501560"/>
        </p:xfrm>
        <a:graphic>
          <a:graphicData uri="http://schemas.openxmlformats.org/drawingml/2006/table">
            <a:tbl>
              <a:tblPr/>
              <a:tblGrid>
                <a:gridCol w="3265560"/>
                <a:gridCol w="933480"/>
                <a:gridCol w="934920"/>
                <a:gridCol w="933480"/>
                <a:gridCol w="93348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de liqu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Ác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4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65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ndeudamient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71720" y="2428920"/>
          <a:ext cx="7072200" cy="1876320"/>
        </p:xfrm>
        <a:graphic>
          <a:graphicData uri="http://schemas.openxmlformats.org/drawingml/2006/table">
            <a:tbl>
              <a:tblPr/>
              <a:tblGrid>
                <a:gridCol w="4008240"/>
                <a:gridCol w="765360"/>
                <a:gridCol w="766440"/>
                <a:gridCol w="765360"/>
                <a:gridCol w="76680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 endeuda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uda patrimo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ertura de inter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0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1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2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3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Rentabilidad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85960" y="2712960"/>
          <a:ext cx="5429160" cy="1501920"/>
        </p:xfrm>
        <a:graphic>
          <a:graphicData uri="http://schemas.openxmlformats.org/drawingml/2006/table">
            <a:tbl>
              <a:tblPr/>
              <a:tblGrid>
                <a:gridCol w="1030320"/>
                <a:gridCol w="1100160"/>
                <a:gridCol w="1100160"/>
                <a:gridCol w="1098360"/>
                <a:gridCol w="11001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7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8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9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aracterización de la Indust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Indicadore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nálisis Financier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ficienci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71680" y="2087640"/>
          <a:ext cx="7786440" cy="2627280"/>
        </p:xfrm>
        <a:graphic>
          <a:graphicData uri="http://schemas.openxmlformats.org/drawingml/2006/table">
            <a:tbl>
              <a:tblPr/>
              <a:tblGrid>
                <a:gridCol w="4413240"/>
                <a:gridCol w="842760"/>
                <a:gridCol w="843120"/>
                <a:gridCol w="844560"/>
                <a:gridCol w="8427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exist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stencia en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Cuentas por Cob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o de Cob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los 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2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83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4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Análisis Financier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mpacto de la crisi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esempeño de las empresa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Conclusion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85960" y="2146320"/>
            <a:ext cx="56912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FIN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91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92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3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Motiva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17,6 millones de abonado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Penetración del 99,2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Tráfico de llamadas (200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12 mil millones de minutos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os servicios asociad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 la industr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334120" y="1214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5981760" y="4124160"/>
            <a:ext cx="27334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5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7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specto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Decreto Tarifari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risis económic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Medir impacto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as tecnologí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Cambio de equipos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Nuevos servicios (3G)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643280" y="2000160"/>
            <a:ext cx="42148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ntel vs Movistar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2" name="4 Marcador de contenido" descr=""/>
          <p:cNvPicPr/>
          <p:nvPr/>
        </p:nvPicPr>
        <p:blipFill>
          <a:blip r:embed="rId1"/>
          <a:stretch/>
        </p:blipFill>
        <p:spPr>
          <a:xfrm>
            <a:off x="298440" y="2243160"/>
            <a:ext cx="865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85840" y="2357280"/>
          <a:ext cx="6357960" cy="4230720"/>
        </p:xfrm>
        <a:graphic>
          <a:graphicData uri="http://schemas.openxmlformats.org/drawingml/2006/table">
            <a:tbl>
              <a:tblPr/>
              <a:tblGrid>
                <a:gridCol w="4154400"/>
                <a:gridCol w="1101600"/>
                <a:gridCol w="1101960"/>
              </a:tblGrid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690.2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368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9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659.6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107.4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77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46.7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45.1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95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05.1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85.1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49.5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.1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.4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9.8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9.2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os corrientes en operación,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6.330.1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5.889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.426.2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.329.1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430.8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.151.9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42.2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742.4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91.2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75.199.3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36.522.3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5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543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7120" y="2301840"/>
          <a:ext cx="6261120" cy="4192560"/>
        </p:xfrm>
        <a:graphic>
          <a:graphicData uri="http://schemas.openxmlformats.org/drawingml/2006/table">
            <a:tbl>
              <a:tblPr/>
              <a:tblGrid>
                <a:gridCol w="4043520"/>
                <a:gridCol w="1109520"/>
                <a:gridCol w="1108080"/>
              </a:tblGrid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63.1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71.9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8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085.6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700.6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940.8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8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.3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882.9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337.7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70.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93.8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27.8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54.6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9.8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4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390.1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6.867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.5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03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s por cobrar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8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21.6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08.1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638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.358.1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.128.8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635.1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68.5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08.0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08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5.6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.4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43.999.4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16.192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8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6:21:10Z</dcterms:created>
  <dc:creator>Héctor Alvarez</dc:creator>
  <dc:description/>
  <dc:language>en-US</dc:language>
  <cp:lastModifiedBy>Héctor Alvarez</cp:lastModifiedBy>
  <dcterms:modified xsi:type="dcterms:W3CDTF">2010-05-12T20:41:52Z</dcterms:modified>
  <cp:revision>20</cp:revision>
  <dc:subject/>
  <dc:title>Entel vs Movistar</dc:title>
</cp:coreProperties>
</file>