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2BBF-882B-4F81-BEB2-A3AD9F3EF71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6BF9-8155-45AB-B987-7422BB7F96A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E0D2-FE09-4DCF-AFE0-76013321C92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0C1C-33EB-4532-A45E-F58FD7C6C87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AE6A-ED04-4905-8B80-8BF0B4F4FD9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ED8E-32C6-47B2-BAB8-11271733467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1B50-F6B1-4AB1-B20E-96607806D90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E708-7821-442E-8D89-AD66B1A4878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F3C4-8C3E-4A27-8D2B-841198CBA5E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2A00-12B1-4945-9A4D-7C559699889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43F1-AA64-40CC-A6CF-1B145E07516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D01E-7E98-4E34-AFC1-62B4CC00279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EEB8-9CC5-4493-952C-E32BECCC136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9AB2-D07C-4776-A491-C2A692B4DDF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2752-EC0C-4F0C-AED3-6C034355DA3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BA41-D812-4CD4-8D10-C676369919D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72BE-24F8-4181-BB1D-5BFACF71B25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5D01-9251-422E-A1F9-9932DB28E55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B666-7D92-4AE9-B415-842E674BB5D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4B97-69B1-4258-9275-57E5F1BEF7C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7932-6DD3-4FFC-BFDD-09A71021005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8AC6-A50C-41D7-8C06-654DBCBD524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24DD-A7C9-414F-B6B1-6FCFC7305A3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0067-7EFC-40D6-A169-8828DF71684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08D-98EF-4BEB-A379-C5F1D9E9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829-5238-4F1D-91D1-9C59D8B1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49F4-9256-4ED3-B219-4AAD4AC6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9D44-CFE6-4ECF-AF0F-89A6D6F0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35BD-37FF-4CBE-AECF-FB5F7C2E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F312-45DE-416A-B590-98A450D3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77D7-A6C5-4C72-BF98-7FCA4640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2E08-9750-46E8-8499-3F640A6A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F5B1-E298-4945-8CC6-BF574914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2E66-110D-492C-8FFD-6D54DCB4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4FE9-A845-473E-99E7-758A57DA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11B8-AD7A-400F-AAD8-E5E2363E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3083-EC58-4D91-BDA9-6B6CF512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5157-DC6D-4EC4-AB7E-49BD0856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92C7-307D-4F6F-80F1-A2753BFC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D5C4-EC16-4409-B974-9B7EC330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111B-4E3D-440D-9885-E5CDD61A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8671A-5869-4C63-84C5-A17EAB2C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24F80-ED4E-4CBF-B00D-0A6EF7A3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D96B0-D10F-4E9B-AC45-956AF9DD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FAC65-EC9E-4225-9A6A-CD5D3468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50041-F2C1-4858-94A2-EA3F49BE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C51-A66C-4121-8D32-B84B9090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6767-27FB-4E2E-BEEE-E997F365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C163B-DA24-4DF5-B4E0-3736A7A4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F0CA1-19C3-4240-AF04-C9D3A987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2D167-F42A-41A6-8739-8049A835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78457-BEBA-4BE0-84CA-7EF2572A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6FBF9-B668-4537-AD43-249A295A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56A18-3B07-4C94-B844-DE15A186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792A4-5646-4B50-BA94-8B8EED3D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480EE-C142-4C7A-A6D2-A8A2F57F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B1CE8-1D61-4826-B8DB-37428F47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0A2-B7C8-4714-82D9-7412563D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CFA06-C5C5-454C-8ED6-DE622C7C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CAB6F-BDE0-4D03-8D32-53E55CF4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17B26-CA42-4455-88EC-1BC72F8B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8ABF8-E722-49D6-8653-0582E5F3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1DF5E-D555-4482-8D81-62CAEFC5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05D3A-A4A8-4440-AA06-5AD86C2F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19BA4-C46E-43F6-9810-6C3558C9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2FEDD-9D81-4460-A211-01DE5526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CF146-2B7B-4584-ABD0-0C642D18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AED14-B08F-4E03-84C6-CB1BFF44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49C-36CE-43AE-ADB8-FA6D4E9C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07C61-2A4A-4D03-8A3D-5EAFD9DF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FAA66-FE8B-4667-B01C-F46BBE34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A5ACA-2313-4630-B23B-4697ABEC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39B7E-26F4-4804-AA83-91BFCC34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42DA1-8E5A-46F6-8918-21C2E200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0246F-C2A4-490E-80CC-82EB6B6C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7A0A9-3833-4501-8010-7181A0AF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8DA75-FDC6-4776-A33A-235D624D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93DD6-6C1D-4833-AEA3-0F6B5525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D1B09-9740-4DA5-8523-012557E5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FA1-A243-4FF1-8F1B-0E54D05A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5CDA7-6B38-4CA8-B346-56AC9E7F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FE3EC-31EF-403C-877C-E186BA9D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42E6A-2449-4C66-A121-09ADD0D8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A507E-5776-4810-ACEE-D81FEB43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60415-F605-417E-8B48-98913566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2AAF1-2436-431D-A090-8B1C5A42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06E61-2093-4906-BB13-59368B83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9D66D-52E5-49E7-83E8-10EA15DF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5BEAC-4213-4ED7-AF9A-C2D47845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E0675-78BE-4E4D-A7BC-5688313B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D1B8-DE1E-4465-A7FB-EAB7B518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01770-78F0-4FF7-B1EA-22E140A0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B484A-A688-4F0A-8447-9DF16204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F9167-E91A-49A9-8F29-A3F33A08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B4961-8D31-4FC1-97B6-DD4A564F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6E7F1-183E-4BBB-B034-A2DD2A1B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A537B-351F-422A-A8D8-BE3DAFEC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14118-F538-4DF8-BF91-D019D2FF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49986-53EB-4FAB-B581-09A395F8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8BE89-0E9A-4F71-9AE0-490F7267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0E3AE-595D-4C96-80B4-9D1A01AB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67E-1B93-4442-93A0-E7601C47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83AD1-E09D-4062-9856-9EB9F9FA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00AEE-003A-46F0-9B4B-93EA76B0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2E47F-AC1D-431A-AB95-860CF6E0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2BF21-3D66-4902-904A-BB6B32A2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0A91C-7DED-4470-86AD-A3B38679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BE44B-C51D-4AA8-989B-88147CE2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F188A-9634-49D8-9773-C60ED5DC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957E9-7C44-4C48-AB5C-8AC382EF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9F5C9-BAE2-410B-8730-031E7B9F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B1D37-D848-40E2-BFBD-B0C62BBE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712-821A-478F-BD2D-D1A8A51A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54005-225C-4DDE-B0CB-7A7EBC41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EF503-D3DD-4D81-85CA-CBFD027B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53100-14FC-4E19-805F-592CC64A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B70B9-B7E7-45DF-8237-481BBC26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0E2BA-BFBF-44BD-8CE6-9931CCD3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AF8AF-B2B1-4602-88A7-C2789FC7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01FC7-347F-4D21-95C3-D0965B2F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B6D3-1C70-41E2-9F2A-163AC4F45D56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C0D3-096F-4984-A898-0920F78D66E5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05C7-6FB4-4BFA-AC01-CDD69A16F067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54A7-80AC-4303-BEBD-F68B0BC36B92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9062-794E-4CC6-BC04-76FFF7B58FC0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90F7-7AD4-4F7F-9159-860C61AA668C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6F2C-B7E0-4F9A-AD3F-7F755D760F40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B6D2-C2C8-43A6-9FF5-23033C549A3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1 Título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rbel"/>
              </a:rPr>
              <a:t>Primavera 20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3 CuadroTexto"/>
          <p:cNvSpPr/>
          <p:nvPr/>
        </p:nvSpPr>
        <p:spPr>
          <a:xfrm>
            <a:off x="2500200" y="564372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 Bastar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@dc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F69E-7B54-49FA-BC8B-D55F3BC0B12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BS00580_"/>
          <p:cNvPicPr/>
          <p:nvPr/>
        </p:nvPicPr>
        <p:blipFill>
          <a:blip r:embed="rId1"/>
          <a:stretch/>
        </p:blipFill>
        <p:spPr>
          <a:xfrm>
            <a:off x="6500880" y="1600200"/>
            <a:ext cx="2514600" cy="2119320"/>
          </a:xfrm>
          <a:prstGeom prst="rect">
            <a:avLst/>
          </a:prstGeom>
          <a:ln w="0">
            <a:noFill/>
          </a:ln>
        </p:spPr>
      </p:pic>
      <p:pic>
        <p:nvPicPr>
          <p:cNvPr id="382" name="Rectangle 3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La ciencia de la computación se ocupa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e las teorías y métodos subyacentes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 las computadoras y los sistemas de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La ingeniería de software se refiere a los problemas prácticos de producir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Los ingenieros de software requieren conocimiento de ciencias de la computación para realizar su labor, pero su objetivo es pragmátic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93B1-B831-4FDB-A485-1D4E8B1DE76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de la computación para la construcción de programas de software y todos sus documentos y datos asociad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es así como se desarrolla habitualmente la práctica profesional? y ¿por qué sería conveniente que así fuer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57A9-CC7C-49C4-845C-C3E79BE43DA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ngeniería de Software es el área de la ciencia de la computación que trata con la construcción de sistemas de software que son tan grandes o complejos que son construidos por un equipo o varios equipos de ingenieros. [Ghezzi91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nstrucción de un software con múltiples versiones  por múltiples personas. [Parnas87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0ABE-FD49-452C-927B-03E047A976E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993600" y="3489480"/>
            <a:ext cx="7139520" cy="2986920"/>
            <a:chOff x="993600" y="3489480"/>
            <a:chExt cx="7139520" cy="2986920"/>
          </a:xfrm>
        </p:grpSpPr>
        <p:sp>
          <p:nvSpPr>
            <p:cNvPr id="392" name="Rectangle 5"/>
            <p:cNvSpPr/>
            <p:nvPr/>
          </p:nvSpPr>
          <p:spPr>
            <a:xfrm>
              <a:off x="99360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rbel"/>
                </a:rPr>
                <a:t>CC44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>
              <a:off x="358452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5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7"/>
            <p:cNvSpPr/>
            <p:nvPr/>
          </p:nvSpPr>
          <p:spPr>
            <a:xfrm>
              <a:off x="617544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6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8"/>
            <p:cNvSpPr/>
            <p:nvPr/>
          </p:nvSpPr>
          <p:spPr>
            <a:xfrm>
              <a:off x="289872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9"/>
            <p:cNvSpPr/>
            <p:nvPr/>
          </p:nvSpPr>
          <p:spPr>
            <a:xfrm>
              <a:off x="548964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1147320" y="5162760"/>
              <a:ext cx="1555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écnicas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duc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3669480" y="5086440"/>
              <a:ext cx="1695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ces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2"/>
            <p:cNvSpPr/>
            <p:nvPr/>
          </p:nvSpPr>
          <p:spPr>
            <a:xfrm>
              <a:off x="6196680" y="5162760"/>
              <a:ext cx="1936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Re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yec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3"/>
            <p:cNvSpPr/>
            <p:nvPr/>
          </p:nvSpPr>
          <p:spPr>
            <a:xfrm flipV="1">
              <a:off x="19080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4"/>
            <p:cNvSpPr/>
            <p:nvPr/>
          </p:nvSpPr>
          <p:spPr>
            <a:xfrm flipV="1">
              <a:off x="449892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 flipV="1">
              <a:off x="71658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3" name="Rectangle 1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S trata de organizar un buen proceso de desarrollo para lograr un buen product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290B-1FDC-448B-A169-EB97FAF36D6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3"/>
          <p:cNvGrpSpPr/>
          <p:nvPr/>
        </p:nvGrpSpPr>
        <p:grpSpPr>
          <a:xfrm>
            <a:off x="1295280" y="2209680"/>
            <a:ext cx="6782040" cy="3429000"/>
            <a:chOff x="1295280" y="2209680"/>
            <a:chExt cx="6782040" cy="3429000"/>
          </a:xfrm>
        </p:grpSpPr>
        <p:sp>
          <p:nvSpPr>
            <p:cNvPr id="408" name="AutoShape 4"/>
            <p:cNvSpPr/>
            <p:nvPr/>
          </p:nvSpPr>
          <p:spPr>
            <a:xfrm>
              <a:off x="1295280" y="38862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5"/>
            <p:cNvSpPr/>
            <p:nvPr/>
          </p:nvSpPr>
          <p:spPr>
            <a:xfrm>
              <a:off x="3657600" y="259092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6"/>
            <p:cNvSpPr/>
            <p:nvPr/>
          </p:nvSpPr>
          <p:spPr>
            <a:xfrm>
              <a:off x="3352680" y="4038480"/>
              <a:ext cx="228600" cy="13716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7"/>
            <p:cNvSpPr/>
            <p:nvPr/>
          </p:nvSpPr>
          <p:spPr>
            <a:xfrm>
              <a:off x="3657600" y="45720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8"/>
            <p:cNvSpPr/>
            <p:nvPr/>
          </p:nvSpPr>
          <p:spPr>
            <a:xfrm>
              <a:off x="1295280" y="52578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9"/>
            <p:cNvSpPr/>
            <p:nvPr/>
          </p:nvSpPr>
          <p:spPr>
            <a:xfrm>
              <a:off x="5715000" y="2743200"/>
              <a:ext cx="228600" cy="2057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10"/>
            <p:cNvSpPr/>
            <p:nvPr/>
          </p:nvSpPr>
          <p:spPr>
            <a:xfrm>
              <a:off x="6019920" y="3581280"/>
              <a:ext cx="2057400" cy="381240"/>
            </a:xfrm>
            <a:prstGeom prst="rightArrow">
              <a:avLst>
                <a:gd name="adj1" fmla="val 50000"/>
                <a:gd name="adj2" fmla="val 134915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1392480" y="350532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2"/>
            <p:cNvSpPr/>
            <p:nvPr/>
          </p:nvSpPr>
          <p:spPr>
            <a:xfrm>
              <a:off x="1561320" y="495288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rtesan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3"/>
            <p:cNvSpPr/>
            <p:nvPr/>
          </p:nvSpPr>
          <p:spPr>
            <a:xfrm>
              <a:off x="3765960" y="419112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mer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3782520" y="22096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i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5"/>
            <p:cNvSpPr/>
            <p:nvPr/>
          </p:nvSpPr>
          <p:spPr>
            <a:xfrm>
              <a:off x="6131160" y="3124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28"/>
          <p:cNvGrpSpPr/>
          <p:nvPr/>
        </p:nvGrpSpPr>
        <p:grpSpPr>
          <a:xfrm>
            <a:off x="2057400" y="1752480"/>
            <a:ext cx="1981080" cy="1371600"/>
            <a:chOff x="2057400" y="1752480"/>
            <a:chExt cx="1981080" cy="1371600"/>
          </a:xfrm>
        </p:grpSpPr>
        <p:sp>
          <p:nvSpPr>
            <p:cNvPr id="421" name="Oval 17"/>
            <p:cNvSpPr/>
            <p:nvPr/>
          </p:nvSpPr>
          <p:spPr>
            <a:xfrm>
              <a:off x="3352680" y="251460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19"/>
            <p:cNvGrpSpPr/>
            <p:nvPr/>
          </p:nvGrpSpPr>
          <p:grpSpPr>
            <a:xfrm>
              <a:off x="2057400" y="1752480"/>
              <a:ext cx="1676520" cy="836640"/>
              <a:chOff x="2057400" y="1752480"/>
              <a:chExt cx="1676520" cy="836640"/>
            </a:xfrm>
          </p:grpSpPr>
          <p:sp>
            <p:nvSpPr>
              <p:cNvPr id="423" name="Text Box 20"/>
              <p:cNvSpPr/>
              <p:nvPr/>
            </p:nvSpPr>
            <p:spPr>
              <a:xfrm>
                <a:off x="2057400" y="1752480"/>
                <a:ext cx="167652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65-70: Algoritmos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structuras de datos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4" name="AutoShape 21"/>
              <p:cNvCxnSpPr>
                <a:stCxn id="423" idx="2"/>
                <a:endCxn id="421" idx="1"/>
              </p:cNvCxnSpPr>
              <p:nvPr/>
            </p:nvCxnSpPr>
            <p:spPr>
              <a:xfrm>
                <a:off x="2895480" y="2219040"/>
                <a:ext cx="558000" cy="37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25" name="Group 29"/>
          <p:cNvGrpSpPr/>
          <p:nvPr/>
        </p:nvGrpSpPr>
        <p:grpSpPr>
          <a:xfrm>
            <a:off x="3200400" y="4419720"/>
            <a:ext cx="2743200" cy="1602000"/>
            <a:chOff x="3200400" y="4419720"/>
            <a:chExt cx="2743200" cy="1602000"/>
          </a:xfrm>
        </p:grpSpPr>
        <p:sp>
          <p:nvSpPr>
            <p:cNvPr id="426" name="Oval 16"/>
            <p:cNvSpPr/>
            <p:nvPr/>
          </p:nvSpPr>
          <p:spPr>
            <a:xfrm>
              <a:off x="3200400" y="441972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22"/>
            <p:cNvGrpSpPr/>
            <p:nvPr/>
          </p:nvGrpSpPr>
          <p:grpSpPr>
            <a:xfrm>
              <a:off x="3785400" y="4953960"/>
              <a:ext cx="2158200" cy="1067760"/>
              <a:chOff x="3785400" y="4953960"/>
              <a:chExt cx="2158200" cy="1067760"/>
            </a:xfrm>
          </p:grpSpPr>
          <p:sp>
            <p:nvSpPr>
              <p:cNvPr id="428" name="Text Box 23"/>
              <p:cNvSpPr/>
              <p:nvPr/>
            </p:nvSpPr>
            <p:spPr>
              <a:xfrm>
                <a:off x="3962520" y="5562720"/>
                <a:ext cx="19810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80s: Metodologías 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sarrollo de Software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9" name="AutoShape 24"/>
              <p:cNvCxnSpPr>
                <a:stCxn id="428" idx="0"/>
                <a:endCxn id="426" idx="5"/>
              </p:cNvCxnSpPr>
              <p:nvPr/>
            </p:nvCxnSpPr>
            <p:spPr>
              <a:xfrm flipH="1" flipV="1">
                <a:off x="3785400" y="4953960"/>
                <a:ext cx="1167480" cy="60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30" name="Group 30"/>
          <p:cNvGrpSpPr/>
          <p:nvPr/>
        </p:nvGrpSpPr>
        <p:grpSpPr>
          <a:xfrm>
            <a:off x="5724360" y="3429000"/>
            <a:ext cx="2969280" cy="1399680"/>
            <a:chOff x="5724360" y="3429000"/>
            <a:chExt cx="2969280" cy="1399680"/>
          </a:xfrm>
        </p:grpSpPr>
        <p:sp>
          <p:nvSpPr>
            <p:cNvPr id="431" name="Oval 18"/>
            <p:cNvSpPr/>
            <p:nvPr/>
          </p:nvSpPr>
          <p:spPr>
            <a:xfrm>
              <a:off x="5724360" y="3429000"/>
              <a:ext cx="722520" cy="57852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25"/>
            <p:cNvGrpSpPr/>
            <p:nvPr/>
          </p:nvGrpSpPr>
          <p:grpSpPr>
            <a:xfrm>
              <a:off x="6338520" y="3922920"/>
              <a:ext cx="2355120" cy="905760"/>
              <a:chOff x="6338520" y="3922920"/>
              <a:chExt cx="2355120" cy="905760"/>
            </a:xfrm>
          </p:grpSpPr>
          <p:sp>
            <p:nvSpPr>
              <p:cNvPr id="433" name="Text Box 26"/>
              <p:cNvSpPr/>
              <p:nvPr/>
            </p:nvSpPr>
            <p:spPr>
              <a:xfrm>
                <a:off x="6606720" y="4369680"/>
                <a:ext cx="208692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jemplos aislad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(compiladores, BD)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4" name="AutoShape 27"/>
              <p:cNvCxnSpPr>
                <a:stCxn id="433" idx="0"/>
                <a:endCxn id="431" idx="5"/>
              </p:cNvCxnSpPr>
              <p:nvPr/>
            </p:nvCxnSpPr>
            <p:spPr>
              <a:xfrm flipH="1" flipV="1">
                <a:off x="6338520" y="3922920"/>
                <a:ext cx="1310040" cy="447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95C8-B790-4667-A46C-6CAFEA57DBD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195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programadores escribían programa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Principio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xpertos desarrollaron grandes proye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Fine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parecen los grandes sistemas comerciales de softwar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l trabajo va más allá de la programación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crea el término “ingeniería de software”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D148-9699-45B3-83D7-A59E5F360D8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3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70102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2"/>
          <p:cNvGraphicFramePr/>
          <p:nvPr/>
        </p:nvGraphicFramePr>
        <p:xfrm>
          <a:off x="685800" y="2286000"/>
          <a:ext cx="7924680" cy="388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86000"/>
                    <a:ext cx="79246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Rectangle 7"/>
          <p:cNvSpPr/>
          <p:nvPr/>
        </p:nvSpPr>
        <p:spPr>
          <a:xfrm>
            <a:off x="380880" y="4876920"/>
            <a:ext cx="8229600" cy="2286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380880" y="4648320"/>
            <a:ext cx="281952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2438280" y="4419720"/>
            <a:ext cx="24386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4495680" y="4648320"/>
            <a:ext cx="22100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6248520" y="4419720"/>
            <a:ext cx="236196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142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82202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189576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3571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52484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7"/>
          <p:cNvSpPr/>
          <p:nvPr/>
        </p:nvSpPr>
        <p:spPr>
          <a:xfrm>
            <a:off x="67723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Arquitecturas orientadas a servici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s basados en component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Grid/clou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u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 dirigido por model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693D-0F44-4351-956F-1F13134848E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3045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gramació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un solo programador escribe todo el progra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small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los programadores aprecian el sistema complet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se requiere más tiempo para comunicación que para cod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ambios de personal afec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1" name="Object 2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20131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B825-927E-4A95-8A21-6507A61F783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¿Para qué la Ingeniería de Softwar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construir grandes sistemas de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definir claramente los problemas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large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dministración, organización, herramientas, teorías, metodologías y técnicas como base para resolver los problemas computacion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B2A1-469D-49F2-8B91-AB579E2491B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Clas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Cátedra: Martes/3 y Jueves/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Auxiliar: Viernes/2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Las transparencias se publicarán regularmente en la página web del curso en UCurs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Regularmente se mandará leer el capítulo correspondiente de algún libro de Ingeniería de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Tareas grupales aproximadamente cada dos seman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Dos controles de lecturas, dos controles de materia y un examen fin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D0DA-4DF5-4EAD-BE34-683CF015AB1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costos de desarrollo de software crecen en comparación con los costos del hard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requiere una producción de software más eficient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complejidad de los sistemas grandes de software hace que el desarrollo sea más que la codificación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cepción, diseño, desarrollo, documentación, mantenimiento,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ingeniería de software continuará creciendo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economía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rol creciente del software en todos los ámbit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B45A-B0A3-42F7-999E-4542F6C547C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341280" y="298440"/>
            <a:ext cx="804708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Programador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baja sol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estructuras de datos y algoritm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hábil con varios lenguajes de program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Ingeniero de software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parte de un equipo de trabaj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e estrategias de diseñ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duce necesidades en especificacione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varias áreas de aplic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visión del sistema con distintos niveles de abstrac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municación e interacción con otras persona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6B60-B65E-47E4-AC98-5DE61E31494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0"/>
          <p:cNvGrpSpPr/>
          <p:nvPr/>
        </p:nvGrpSpPr>
        <p:grpSpPr>
          <a:xfrm>
            <a:off x="685800" y="5973840"/>
            <a:ext cx="7890480" cy="327240"/>
            <a:chOff x="685800" y="5973840"/>
            <a:chExt cx="7890480" cy="327240"/>
          </a:xfrm>
        </p:grpSpPr>
        <p:sp>
          <p:nvSpPr>
            <p:cNvPr id="473" name="Text Box 5"/>
            <p:cNvSpPr/>
            <p:nvPr/>
          </p:nvSpPr>
          <p:spPr>
            <a:xfrm>
              <a:off x="2064960" y="5978520"/>
              <a:ext cx="65113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a IS se ocupa tanto del producto como del proce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6"/>
            <p:cNvSpPr/>
            <p:nvPr/>
          </p:nvSpPr>
          <p:spPr>
            <a:xfrm>
              <a:off x="685800" y="597384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5" name="Rectangle 7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objetivo de la IS es desarrollar productos de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calidad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os tipos de product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genéricos - desarrollados para vender masivament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 medida - desarrollados para un cliente particul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desafío es desarrollar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alta calidad 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on una cantidad finita de recursos y dentro del plazo planead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proceso de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 tiene una incidencia importante en la calidad del produc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8" name="14 Grupo" descr=""/>
          <p:cNvPicPr/>
          <p:nvPr/>
        </p:nvPicPr>
        <p:blipFill>
          <a:blip r:embed="rId2"/>
          <a:stretch/>
        </p:blipFill>
        <p:spPr>
          <a:xfrm>
            <a:off x="6907320" y="139680"/>
            <a:ext cx="18586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B701-F524-440E-88D5-EE7F8BF153E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onjunto de actividades y resultados asociados que producen un producto de soft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Actividades fundamentales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especificación de requisit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diseño, codificación y test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verificación y valid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instalación y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Distintos tipos de procesos pueden aplicarse para desarrollar un mismo producto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En general algunos procesos son más apropiados para desarrollar ciertos produ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7801-B37A-421C-9342-42543C43327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Object 2"/>
          <p:cNvGraphicFramePr/>
          <p:nvPr/>
        </p:nvGraphicFramePr>
        <p:xfrm>
          <a:off x="685800" y="1846440"/>
          <a:ext cx="8229600" cy="493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46440"/>
                    <a:ext cx="822960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Rectangle 5" descr=""/>
          <p:cNvPicPr/>
          <p:nvPr/>
        </p:nvPicPr>
        <p:blipFill>
          <a:blip r:embed="rId3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1A3A-2D8A-4799-A03B-06D411504FE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6"/>
          <p:cNvGrpSpPr/>
          <p:nvPr/>
        </p:nvGrpSpPr>
        <p:grpSpPr>
          <a:xfrm>
            <a:off x="533520" y="1981080"/>
            <a:ext cx="7924320" cy="4190760"/>
            <a:chOff x="533520" y="1981080"/>
            <a:chExt cx="7924320" cy="4190760"/>
          </a:xfrm>
        </p:grpSpPr>
        <p:sp>
          <p:nvSpPr>
            <p:cNvPr id="490" name="Rectangle 3"/>
            <p:cNvSpPr/>
            <p:nvPr/>
          </p:nvSpPr>
          <p:spPr>
            <a:xfrm>
              <a:off x="533520" y="19810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Análisis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specificación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AutoShape 4"/>
            <p:cNvCxnSpPr>
              <a:stCxn id="492" idx="3"/>
              <a:endCxn id="493" idx="0"/>
            </p:cNvCxnSpPr>
            <p:nvPr/>
          </p:nvCxnSpPr>
          <p:spPr>
            <a:xfrm>
              <a:off x="5287680" y="407664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4" name="AutoShape 5"/>
            <p:cNvCxnSpPr>
              <a:stCxn id="493" idx="3"/>
              <a:endCxn id="495" idx="0"/>
            </p:cNvCxnSpPr>
            <p:nvPr/>
          </p:nvCxnSpPr>
          <p:spPr>
            <a:xfrm>
              <a:off x="6872760" y="49147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6" name="AutoShape 6"/>
            <p:cNvCxnSpPr>
              <a:stCxn id="490" idx="3"/>
              <a:endCxn id="497" idx="0"/>
            </p:cNvCxnSpPr>
            <p:nvPr/>
          </p:nvCxnSpPr>
          <p:spPr>
            <a:xfrm>
              <a:off x="2118240" y="24001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8" name="AutoShape 7"/>
            <p:cNvCxnSpPr>
              <a:stCxn id="497" idx="3"/>
              <a:endCxn id="492" idx="0"/>
            </p:cNvCxnSpPr>
            <p:nvPr/>
          </p:nvCxnSpPr>
          <p:spPr>
            <a:xfrm>
              <a:off x="3702960" y="323820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9" name="AutoShape 8"/>
            <p:cNvCxnSpPr>
              <a:endCxn id="490" idx="2"/>
            </p:cNvCxnSpPr>
            <p:nvPr/>
          </p:nvCxnSpPr>
          <p:spPr>
            <a:xfrm rot="10800000">
              <a:off x="1325160" y="2818440"/>
              <a:ext cx="5547600" cy="300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Line 9"/>
            <p:cNvSpPr/>
            <p:nvPr/>
          </p:nvSpPr>
          <p:spPr>
            <a:xfrm flipH="1" flipV="1">
              <a:off x="2876040" y="3656880"/>
              <a:ext cx="6840" cy="21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0"/>
            <p:cNvSpPr/>
            <p:nvPr/>
          </p:nvSpPr>
          <p:spPr>
            <a:xfrm flipV="1">
              <a:off x="4461120" y="449568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1"/>
            <p:cNvSpPr/>
            <p:nvPr/>
          </p:nvSpPr>
          <p:spPr>
            <a:xfrm flipV="1">
              <a:off x="6045840" y="533376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2118240" y="28191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3703320" y="365724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Codific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 Módu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5288040" y="44956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tegr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l Sist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5"/>
            <p:cNvSpPr/>
            <p:nvPr/>
          </p:nvSpPr>
          <p:spPr>
            <a:xfrm>
              <a:off x="6872760" y="53337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stal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anteni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D325-B894-44A2-8D3A-E98C6C49317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Los grupos de trabajo deberá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tener dos persona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cidirse antes del martes 17 de agosto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mandarme un mail informándome la conformación de los grupo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quien para el martes 17 no tenga grupo será asignado arbitrariam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BB48-9747-43CB-B83F-D3302CC5ADB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role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es de lectura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 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0">
              <a:buNone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 5.5 de promedio en tareas </a:t>
            </a:r>
            <a:r>
              <a:rPr b="1" lang="es-CL" sz="3200" spc="-1" strike="noStrike">
                <a:solidFill>
                  <a:srgbClr val="000000"/>
                </a:solidFill>
                <a:latin typeface="Corbe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 5.5 en controles se puede eximi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1309-5D2A-43EB-B87F-0AFAD49CB8A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de Ingeniería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incipios y Cualidades del Software y su Desarrol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Modelos de ciclo de vida del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Etapas del ciclo de vida del softw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spec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iseñ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verificación y valid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ceso de Desarroll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4C0F-FB10-4907-B8EF-53573186457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1295280" y="308916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0b5cc"/>
                </a:solidFill>
                <a:latin typeface="Tahoma"/>
              </a:rPr>
              <a:t>¿Qué es la Ingeniería de Softw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9E41-C79F-41B9-8A89-4677CAAD4CB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14200" y="1856880"/>
            <a:ext cx="8786880" cy="446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tecnolog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ciencia para la resolución de problemas práctic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ingenier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tecnología en presencia de recursos limitad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Pero, ¿qué es la ciencia y cuándo estamos aplicando la cienci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Cuerpo de doctrina metódicamente formado y ordenado, que constituye una rama particular del sab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Modelos de la realidad cuyo comportamiento es explicable y que permiten predecir el comportamiento de situaciones similar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BE27-F15D-4F42-AA79-135D41494C0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Entonces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para la construcción de software en presencia de recursos limitad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qué es el software? y ¿qué ciencia se aplica en su construcció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E6B2-8558-4412-B033-936EDFA71DD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8401320" cy="4857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El software es una serie de programas, conjuntamente con todos los documentos asociados y la configuración de datos que se necesitan para que los programas operen de manera correc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Programa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ejecutables, de instalación, de re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requisitos, diseño, pruebas, código fuente, manuales de usuario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 de la aplicación, parámetros de 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cecilia</cp:lastModifiedBy>
  <dcterms:modified xsi:type="dcterms:W3CDTF">2010-08-10T14:25:56Z</dcterms:modified>
  <cp:revision>12</cp:revision>
  <dc:subject/>
  <dc:title>CC31B – Desarrollo de Software de Aplicación</dc:title>
</cp:coreProperties>
</file>