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25.png" ContentType="image/png"/>
  <Override PartName="/ppt/media/image47.png" ContentType="image/png"/>
  <Override PartName="/ppt/media/image10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35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28.png" ContentType="image/png"/>
  <Override PartName="/ppt/media/image5.png" ContentType="image/png"/>
  <Override PartName="/ppt/media/image1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5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F8CEB-4559-407A-B598-1BE228FA75F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B103A-EA0A-4CA6-8D01-EAB9A1194E71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20836-740A-4988-BC15-394E92F58E9F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E9149-D6D4-4102-8E41-EBC988A06F49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D3559-16F2-4D40-B687-8509B7E646E8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F384D-6F37-46A7-ADB3-39066AEA2DFC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C6B4E-71B5-4190-95EB-34294B3D0DEA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ED6FD-A299-4235-86A9-B76E93A99AEB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4CE39-C18C-4C39-8824-F6A41F44FA66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3EACB-B88C-4BCB-B90D-34E936702A3B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B4BEF-1322-48CF-B177-5B53981D7656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45282-BAE9-4C3E-98EB-31D8237A6406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1CE9F-976F-429C-8709-7489D50A4FE3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C6E99-D526-4443-9C50-6B573BF2682B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106AE-F6C2-447D-B5DC-A2AA78EBD042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D6009-8061-417A-9EA5-461F8A52140E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EACA-32BA-4CC0-8D04-2F94AE7EBAD1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B2C3E-89C1-4859-BD5A-9F6FB6C37BBB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04D18-8D57-4EA1-BFB3-7338B689D4BF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5CD0-2A3A-47E6-9D1E-53AC81FCC691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1B746-1323-4485-BA06-CCF3D245A93A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46082-4462-4928-8D15-C69BD17578F3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3BF7-48F4-468E-9948-200547C23500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352B9-EAC7-4017-8DF7-7D5442CD11C7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233AC-F134-4E7A-B834-051F0C2BD7A4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263A0-FF3C-4E5A-B806-B85F312986DF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05C27-2EA6-48CA-A5AF-36BC2B21E5CC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AB7C1-ACAD-4B89-A76E-B0E015E6BE4A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52CC5-EC14-43E0-8CD3-0B6A5058F62D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42C85-F3D3-481B-9C87-F05B214064AF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35218-CFFE-4B42-8D63-797BAB4664D5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F7436-2774-452B-8A3F-8440619A84C3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64FD7-C6FD-4553-B6A4-929EC1EEF9C0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63E7B-5A51-4671-AC14-28FB5ACE21B5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12600-C00E-42FC-B8E3-AF4F6FDC5D9F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B9EA6-A80F-4451-A598-04C5511A8696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99BE7-04B4-41A4-A018-5B4D71F2486E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78EB4-2710-45E6-A692-E8B326208B38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2CFC3-A670-4F9A-A334-BBE1BF3A89EC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62F01-F19E-4808-BFA5-9DE28653CD03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8AEAA-B2CE-43E7-B82D-5A2CB2B2B295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622E3-BCC1-4AF5-91EA-07DB878F053B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ECC4-45BD-45D4-87F4-AE7446A22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F96A-8571-45E9-99FC-07E58CDBD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AA4E-46B8-4FD9-8AF4-2CCA7A79E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F539-B513-40B4-A5DE-D2980D485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D3667-1589-49EA-8161-FF9F83924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44067-83A0-4887-9032-BD5B39AE2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83B16-A61D-461E-98B2-40BB7373E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C8161-1A06-48D2-B4E0-A1084EBC0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582E8-C23E-472A-85D7-3E3B795A6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4F0AD-8E94-4A0E-9AC7-C3AA19E58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22AC3-7980-415F-AB44-AF6F0C00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AAAF-FEBC-4948-BF9E-D0787B59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32173-BC82-4663-B11D-617B9CF2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101B3-4D5D-4B2C-B7D2-17CE234D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57C48-547F-44E8-B32F-58C33E48B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D1CDB-DC98-48A9-8E81-3841598E8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7F3C2-9D14-4902-96D6-4C0A818C6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42848-9EC9-4597-BE84-6F393B82B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BA7C2-C63E-4325-9E7B-9625E6363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32415-C7D8-434F-A010-D65AFF75C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4D90A-A397-4662-B333-DABA5A1DE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E01F6-831F-4026-B74A-AB2B64FBB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BC8B-F341-4789-88D0-C954D8F77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73A8D-67F2-49EE-9972-B433D0947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FE54D-B56D-45E9-8BB5-3FA7DF51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69AFB-9A7F-4F5A-B15C-DDA82AB3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047B7-41B1-4106-9C91-AC9F2661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9477E-6C2A-46ED-9C95-020B96180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292D4-8B57-4AE9-8511-2AE522A1C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34E20-0938-4E63-9DB1-348F457DB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C247E-CF59-4768-842F-5A18B30F9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D2437-A677-4A20-A694-72955501B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B337E-09AB-4531-9FAC-3D02E5D3A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E9B7-6185-408E-ADC6-D97CA0AD3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BE878-6680-4F77-8C25-D8AAFC9F3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1DA57-DE10-463D-82A8-732F003AA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AAB52-FA7E-4236-B71F-C5FA07E84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103AE-1195-41E0-9446-C1580CB3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47ABA-A8DB-4473-8A11-BF2BE450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47308-C141-4DFC-9753-6A4FF235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F6A7B-0358-423B-9C9F-08EDF7371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246E7-9A12-4D1E-983D-74D0B7316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D9D55-1122-4737-B535-235D0A78D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8B8E8-CCAE-43B8-81EA-8B56A96FE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5039-B392-40F7-A93C-7FE16A3DE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39058-295D-4809-AC12-355CEE02F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C5482-E7CD-4F97-AAF3-C1CF09A90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B429B-2A66-4079-AF9E-FF50716AA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CF43F-1A0E-450D-B385-498896BAC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EBE59-08C7-4920-993F-9CD708E1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B082C-762C-47AA-819E-4AA57D7F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65FB3-57D0-4014-B3DD-207F6AF4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A6541-9216-4E0A-803E-5C82F52D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661FF-39FF-4D51-AA4E-32E5C71C8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6876F-BA63-4185-B861-B89D9F27E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024E-4FC1-4E32-85F9-9EB446E70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D388F-9C1C-4D55-9257-8325A2611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CA970-770B-405B-8F4F-30AF0657E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09836-9A12-40CC-8483-27465FA27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EEA40-B9E9-405F-9898-2BDC5EFA0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9DA864-A11A-4C3C-A4D5-BA4C3B531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FDBF55-7DE7-486F-AFD2-C3A57E81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D7F20-A3E7-4FFE-9D70-9D8EA6EE0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330C0-BEDC-456E-8746-98B22103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AE46B-D575-4633-B24B-55210344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77743-EC09-4A44-A4ED-75D703541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DC25-B003-4014-8BEB-1F0A824D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1A901-134A-42CC-B124-E57EE458F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1A307-99E8-4796-8D59-AEE382699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C7E00-0938-4025-BABA-C2AC352CF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3FA99-C19D-474A-8D08-F324BDEAC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79195-A163-42F7-8C9B-324E14F6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739F38-A41A-44F6-93F5-D3A07D3A1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FBF8E-5A24-45FC-951B-B8430FB9C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876C6-6183-494C-8455-FE9BA00F5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72BD5-B87C-4A42-8878-595BCE2D6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162D9-1CAD-4CFD-B408-7607A3A3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FA1A-4D2F-4EA5-A427-56D49C6A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19ABB-5F6F-4ACC-825D-343DB846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43373B-DD92-4431-952C-9AFB3A7D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4D79C-5D9C-4CEC-BD1C-A0A0FAB2E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6DD52E-A19E-4B91-A79E-3380B1987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04D8D5-2CAE-4F55-8419-8D540C44C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7D9262-886F-4A3B-A483-9279F7AEC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5A1B60-82FF-4219-AA49-E42645A06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971445-1B60-4203-BFB7-97D5CF081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EA6C01-B841-43B8-83E5-8D458F8DA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E105A7-7CB1-43CE-8928-BD88F63A8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C9C8-38E6-4E3F-8DA4-B4C97CD0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342ED8-1CB6-47B5-8EFB-4535E487C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592473-4010-4AC4-8631-2E262108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B10EBB-BBDA-4CCD-8C7F-FDEA398D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3D5B29-8EAD-4CB4-8860-B6609C63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04DF04-98F7-4F8F-B02D-87864745A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859ED7-9037-4413-87BD-7CD988C82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AD267-D1E4-4370-830E-A7B675C38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E151C-4AEE-493D-BDB7-D41B0629AD1C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8 Rectángulo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0 Rectángulo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5F73D-70A4-4E4D-B5D1-18D9F83E202D}" type="slidenum">
              <a:rPr b="0" lang="es-E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8 Rectángulo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10 Rectángulo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ECD3E-7948-4704-831A-5CFA1DB6E473}" type="slidenum">
              <a:rPr b="0" lang="es-E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2ABE6-D108-49EF-BCB3-0248A9FD7487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8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10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67A40-41BB-4E72-B4DC-0A75B5614ED9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8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10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15D1A-1AC2-4712-B26A-8FBBA03B70DA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8 Rectángulo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10 Rectángulo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45073-C01E-4A48-9AE6-B4FB3969C79D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775D1-198E-433C-8D9B-7F1A9F863F6B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Rectangle 2" descr=""/>
          <p:cNvPicPr/>
          <p:nvPr/>
        </p:nvPicPr>
        <p:blipFill>
          <a:blip r:embed="rId1"/>
          <a:stretch/>
        </p:blipFill>
        <p:spPr>
          <a:xfrm>
            <a:off x="536400" y="1816200"/>
            <a:ext cx="8040960" cy="153648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770E4-BB32-4C68-86FB-29F8C3A3EF20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533160" y="19810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El número de usuario es único en el sistema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u, u’ </a:t>
            </a:r>
            <a:r>
              <a:rPr b="0" lang="es-ES_tradnl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 USUARIOS </a:t>
            </a:r>
            <a:r>
              <a:rPr b="0" lang="es-ES_tradnl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3000"/>
            </a:b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u.número = u’.número </a:t>
            </a:r>
            <a:r>
              <a:rPr b="0" lang="es-ES_tradnl" sz="3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 u = u’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u, u’ </a:t>
            </a:r>
            <a:r>
              <a:rPr b="0" lang="es-ES_tradnl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 USUARIOS </a:t>
            </a:r>
            <a:r>
              <a:rPr b="0" lang="es-ES_tradnl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3000"/>
            </a:b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u.número = u’.número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DB071-6B7C-4877-8E4D-9CD3781151B5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Rectangle 2" descr=""/>
          <p:cNvPicPr/>
          <p:nvPr/>
        </p:nvPicPr>
        <p:blipFill>
          <a:blip r:embed="rId1"/>
          <a:stretch/>
        </p:blipFill>
        <p:spPr>
          <a:xfrm>
            <a:off x="566640" y="378000"/>
            <a:ext cx="8053560" cy="115236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838080" y="3124080"/>
            <a:ext cx="3733920" cy="10670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Documentación rigurosa y/o forma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929120" y="1928880"/>
            <a:ext cx="3810240" cy="35049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Confiabl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Verificabl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Mantenibl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Reusabl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Portabl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Comprensibl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Interoperabl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393" name="AutoShape 5"/>
          <p:cNvGrpSpPr/>
          <p:nvPr/>
        </p:nvGrpSpPr>
        <p:grpSpPr>
          <a:xfrm>
            <a:off x="4370400" y="1762200"/>
            <a:ext cx="890640" cy="4108320"/>
            <a:chOff x="4370400" y="1762200"/>
            <a:chExt cx="890640" cy="4108320"/>
          </a:xfrm>
        </p:grpSpPr>
        <p:pic>
          <p:nvPicPr>
            <p:cNvPr id="394" name="AutoShape 5" descr=""/>
            <p:cNvPicPr/>
            <p:nvPr/>
          </p:nvPicPr>
          <p:blipFill>
            <a:blip r:embed="rId2"/>
            <a:stretch/>
          </p:blipFill>
          <p:spPr>
            <a:xfrm>
              <a:off x="4370400" y="1762200"/>
              <a:ext cx="890640" cy="41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"/>
            <p:cNvSpPr/>
            <p:nvPr/>
          </p:nvSpPr>
          <p:spPr>
            <a:xfrm>
              <a:off x="4768920" y="1917720"/>
              <a:ext cx="108000" cy="34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Text Box 6"/>
          <p:cNvSpPr/>
          <p:nvPr/>
        </p:nvSpPr>
        <p:spPr>
          <a:xfrm>
            <a:off x="1002240" y="5896080"/>
            <a:ext cx="77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ualidades del producto y del proceso de desarrol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555F2-8942-4DF6-A9BE-B277A091EEDB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Divide et Impera”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Separar el problema en sus diferentes aspectos y abordarlos separadament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0" name="5 Diagrama" descr=""/>
          <p:cNvPicPr/>
          <p:nvPr/>
        </p:nvPicPr>
        <p:blipFill>
          <a:blip r:embed="rId2"/>
          <a:stretch/>
        </p:blipFill>
        <p:spPr>
          <a:xfrm>
            <a:off x="1566720" y="3206880"/>
            <a:ext cx="551052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8" descr=""/>
          <p:cNvPicPr/>
          <p:nvPr/>
        </p:nvPicPr>
        <p:blipFill>
          <a:blip r:embed="rId1"/>
          <a:stretch/>
        </p:blipFill>
        <p:spPr>
          <a:xfrm>
            <a:off x="7437600" y="1571760"/>
            <a:ext cx="1706400" cy="28573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7" descr=""/>
          <p:cNvPicPr/>
          <p:nvPr/>
        </p:nvPicPr>
        <p:blipFill>
          <a:blip r:embed="rId2"/>
          <a:stretch/>
        </p:blipFill>
        <p:spPr>
          <a:xfrm>
            <a:off x="0" y="4692600"/>
            <a:ext cx="2786040" cy="2022480"/>
          </a:xfrm>
          <a:prstGeom prst="rect">
            <a:avLst/>
          </a:prstGeom>
          <a:ln w="0">
            <a:noFill/>
          </a:ln>
        </p:spPr>
      </p:pic>
      <p:sp>
        <p:nvSpPr>
          <p:cNvPr id="403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10DD4-C690-4288-97A3-58A47A2F55EE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5"/>
          <p:cNvSpPr/>
          <p:nvPr/>
        </p:nvSpPr>
        <p:spPr>
          <a:xfrm>
            <a:off x="2448000" y="5638680"/>
            <a:ext cx="5410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tr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suntos económicos y financie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Rectangle 6" descr=""/>
          <p:cNvPicPr/>
          <p:nvPr/>
        </p:nvPicPr>
        <p:blipFill>
          <a:blip r:embed="rId3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Para un producto de software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funcionalidad ofrecida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confiabilidad esperada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eficiencia en el uso del tiempo y el espacio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dependencias del ambiente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interfaces del usuario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43240" y="190512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Para el proceso de desarrollo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ambiente de desarrollo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estructura y organización del equipo de trabajo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agenda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procedimientos de control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estrategias de diseño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mecanismos de recuperación de errore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13 Grupo"/>
          <p:cNvGrpSpPr/>
          <p:nvPr/>
        </p:nvGrpSpPr>
        <p:grpSpPr>
          <a:xfrm>
            <a:off x="4500720" y="2500200"/>
            <a:ext cx="4429080" cy="3005280"/>
            <a:chOff x="4500720" y="2500200"/>
            <a:chExt cx="4429080" cy="3005280"/>
          </a:xfrm>
        </p:grpSpPr>
        <p:pic>
          <p:nvPicPr>
            <p:cNvPr id="409" name="Picture 11" descr=""/>
            <p:cNvPicPr/>
            <p:nvPr/>
          </p:nvPicPr>
          <p:blipFill>
            <a:blip r:embed="rId1"/>
            <a:stretch/>
          </p:blipFill>
          <p:spPr>
            <a:xfrm>
              <a:off x="4500720" y="2500200"/>
              <a:ext cx="442908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12 Rectángulo"/>
            <p:cNvSpPr/>
            <p:nvPr/>
          </p:nvSpPr>
          <p:spPr>
            <a:xfrm>
              <a:off x="4500720" y="4554000"/>
              <a:ext cx="2598840" cy="947880"/>
            </a:xfrm>
            <a:prstGeom prst="rect">
              <a:avLst/>
            </a:prstGeom>
            <a:solidFill>
              <a:srgbClr val="ffffff"/>
            </a:solidFill>
            <a:ln w="478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47D49-7E6E-46C1-A427-B7F98D898BB8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460044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4000"/>
          </a:bodyPr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Algunos aspectos no pueden decidirse en forma completamente independiente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dinero disponible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ambiente de desarrollo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agenda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1012A-7AB6-40E9-B58A-261F7B907BCC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Rectangle 5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142560" y="1857240"/>
            <a:ext cx="4740120" cy="4114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 fontScale="87000"/>
          </a:bodyPr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Tiempo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35040" indent="-23724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organización de las actividades en el tiempo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35040" indent="-23724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base del ciclo de vida del software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35040" indent="-23724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secuencia de actividade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Cualidades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35040" indent="-23724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dedicarse a desarrollar distintas cualidades por separado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35040" indent="-23724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ej.: funcionalidad y eficiencia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489200" y="1857240"/>
            <a:ext cx="465444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6000"/>
          </a:bodyPr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Visiones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flujo de datos y flujo de control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interfaces del usuario y diseño de la base de dat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Partes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refinamiento del sistema por partes dependiendo del tamaño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modularidad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4A0EB-C706-405F-9CAC-8DC96D0C2674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685800" y="1905120"/>
            <a:ext cx="7772400" cy="27381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7000"/>
          </a:bodyPr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La separación del problema completo en pequeñas partes sugiere que es posible no considerar una solución óptima global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En general, la complejidad del problema completo nos impide resolver bien los problemas parciales y también el problema global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421" name="AutoShape 4"/>
          <p:cNvGrpSpPr/>
          <p:nvPr/>
        </p:nvGrpSpPr>
        <p:grpSpPr>
          <a:xfrm>
            <a:off x="1017720" y="5151600"/>
            <a:ext cx="7961040" cy="1176120"/>
            <a:chOff x="1017720" y="5151600"/>
            <a:chExt cx="7961040" cy="1176120"/>
          </a:xfrm>
        </p:grpSpPr>
        <p:pic>
          <p:nvPicPr>
            <p:cNvPr id="422" name="AutoShape 4" descr=""/>
            <p:cNvPicPr/>
            <p:nvPr/>
          </p:nvPicPr>
          <p:blipFill>
            <a:blip r:embed="rId2"/>
            <a:stretch/>
          </p:blipFill>
          <p:spPr>
            <a:xfrm>
              <a:off x="1017720" y="5151600"/>
              <a:ext cx="796104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1066680" y="5400720"/>
              <a:ext cx="6993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Text Box 5"/>
          <p:cNvSpPr/>
          <p:nvPr/>
        </p:nvSpPr>
        <p:spPr>
          <a:xfrm>
            <a:off x="1350360" y="4765680"/>
            <a:ext cx="14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pa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6"/>
          <p:cNvSpPr/>
          <p:nvPr/>
        </p:nvSpPr>
        <p:spPr>
          <a:xfrm>
            <a:off x="1067760" y="5880240"/>
            <a:ext cx="160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implic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7"/>
          <p:cNvSpPr/>
          <p:nvPr/>
        </p:nvSpPr>
        <p:spPr>
          <a:xfrm>
            <a:off x="7111080" y="4815000"/>
            <a:ext cx="12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mpl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8"/>
          <p:cNvSpPr/>
          <p:nvPr/>
        </p:nvSpPr>
        <p:spPr>
          <a:xfrm>
            <a:off x="6935040" y="6032520"/>
            <a:ext cx="170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mplej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6A79A-25D4-484A-BDC4-0627CF8D519F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La separación de intereses determina la división de las tareas posiblemente entre personas con diferentes habilidade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También las necesidades de personal en las distintas etapas de desarrollo del software son diferentes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cantidad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calificació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5" descr=""/>
          <p:cNvPicPr/>
          <p:nvPr/>
        </p:nvPicPr>
        <p:blipFill>
          <a:blip r:embed="rId1"/>
          <a:srcRect l="1417" t="4091" r="5334" b="2661"/>
          <a:stretch/>
        </p:blipFill>
        <p:spPr>
          <a:xfrm>
            <a:off x="6572160" y="4000680"/>
            <a:ext cx="2500560" cy="2500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32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DD8D-AFB4-4755-8245-89385FB7544E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Rectangle 2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/>
          </p:nvPr>
        </p:nvSpPr>
        <p:spPr>
          <a:xfrm>
            <a:off x="557280" y="164304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Un sistema complejo puede dividirse en partes llamadas </a:t>
            </a:r>
            <a:r>
              <a:rPr b="0" i="1" lang="es-ES_tradnl" sz="3200" spc="-1" strike="noStrike">
                <a:solidFill>
                  <a:srgbClr val="000000"/>
                </a:solidFill>
                <a:latin typeface="Corbel"/>
              </a:rPr>
              <a:t>módulos</a:t>
            </a: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Un sistema dividido en módulos es modular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La modularidad es importante en casi todos los productos y procesos de ingeniería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estandarizació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reutilizació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24002-95EC-46E0-B233-D71920BFE9A9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Rectangle 4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285840" y="1774800"/>
            <a:ext cx="8858160" cy="47260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1000"/>
          </a:bodyPr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Descomposició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64200" indent="-24804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descomponer un sistema en grandes bloques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64200" indent="-24804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aplicar la descomposición recursivamente a bloques complej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Composició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64200" indent="-24804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usando varios elementos (módulos) básicos, se construye un sistema más complejo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64200" indent="-24804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la reutilización de módulos de software beneficia todo el proceso de desarroll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Comprensió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64200" indent="-24804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es más fácil localizar cambios en un sistema modular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64200" indent="-24804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también es más fácil comprender módulos pequeñ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A17AE-FEDF-4A28-B699-F7CCBDBEDC34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685800" y="1785960"/>
            <a:ext cx="7772400" cy="24573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4000"/>
          </a:bodyPr>
          <a:p>
            <a:pPr marL="367920" indent="-267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¿Cómo se logra construir un software de calidad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7920" indent="-267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¿Existe algún principio o práctica general que me asegure que el producto de software creado tendrá ciertas cualidades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8" name="8 Diagrama" descr=""/>
          <p:cNvPicPr/>
          <p:nvPr/>
        </p:nvPicPr>
        <p:blipFill>
          <a:blip r:embed="rId2"/>
          <a:stretch/>
        </p:blipFill>
        <p:spPr>
          <a:xfrm>
            <a:off x="2382840" y="4316400"/>
            <a:ext cx="498168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0A91B-4C9F-4CF4-BCF4-62DA8EC8E503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Rectangle 4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9000"/>
          </a:bodyPr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Alta Cohesión (interna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los elementos comprendidos dentro de un módulo están altamente relacionados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cooperan para lograr un mismo fin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no están juntos al aza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Bajo Acoplamiento (externo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la relación e interacción entre los distintos módulos debe ser simple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si dos módulos dependen altamente uno del otro, es probable que los cambios en un módulo afecten al otr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9802D-1D97-4377-A437-38B26F0CD842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Rectangle 4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6000"/>
          </a:bodyPr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228276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Fase 1: Nivel de Módulo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228276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los detalles de cada módulo se tratan en forma independient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228276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Fase 2: Nivel del Sistema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228276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la interacción entre los módulos se trata independientemente de los detalles intern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0">
              <a:spcBef>
                <a:spcPts val="601"/>
              </a:spcBef>
              <a:buNone/>
              <a:tabLst>
                <a:tab algn="l" pos="228276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0480" indent="0">
              <a:buNone/>
              <a:tabLst>
                <a:tab algn="l" pos="0"/>
                <a:tab algn="l" pos="228276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Fase 1 - Fase 2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0">
              <a:spcBef>
                <a:spcPts val="601"/>
              </a:spcBef>
              <a:buNone/>
              <a:tabLst>
                <a:tab algn="l" pos="0"/>
                <a:tab algn="l" pos="228276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Bottom - up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0480" indent="0">
              <a:buNone/>
              <a:tabLst>
                <a:tab algn="l" pos="0"/>
                <a:tab algn="l" pos="228276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Fase 2 - Fase 1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0">
              <a:spcBef>
                <a:spcPts val="601"/>
              </a:spcBef>
              <a:buNone/>
              <a:tabLst>
                <a:tab algn="l" pos="0"/>
                <a:tab algn="l" pos="228276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Top - dow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44" name="4 Diagrama" descr=""/>
          <p:cNvPicPr/>
          <p:nvPr/>
        </p:nvPicPr>
        <p:blipFill>
          <a:blip r:embed="rId2"/>
          <a:stretch/>
        </p:blipFill>
        <p:spPr>
          <a:xfrm>
            <a:off x="5467320" y="4400640"/>
            <a:ext cx="332280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2" descr=""/>
          <p:cNvPicPr/>
          <p:nvPr/>
        </p:nvPicPr>
        <p:blipFill>
          <a:blip r:embed="rId1"/>
          <a:stretch/>
        </p:blipFill>
        <p:spPr>
          <a:xfrm>
            <a:off x="414360" y="378000"/>
            <a:ext cx="8053200" cy="11523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7" descr=""/>
          <p:cNvPicPr/>
          <p:nvPr/>
        </p:nvPicPr>
        <p:blipFill>
          <a:blip r:embed="rId2"/>
          <a:stretch/>
        </p:blipFill>
        <p:spPr>
          <a:xfrm>
            <a:off x="2143080" y="1714680"/>
            <a:ext cx="5000760" cy="48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4FF7D-A666-4F7D-A9C8-18A16F61DBDB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142560" y="185724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9000"/>
          </a:bodyPr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Distinguir los elementos esenciales e ignorar los detalle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Es una forma de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separación de intereses (esencia y detalles)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La abstracción no es única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49440" indent="-2426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depende del software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49440" indent="-2426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del usuario de la abstracció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50" name="Picture 17" descr=""/>
          <p:cNvPicPr/>
          <p:nvPr/>
        </p:nvPicPr>
        <p:blipFill>
          <a:blip r:embed="rId2"/>
          <a:srcRect l="0" t="0" r="0" b="5496"/>
          <a:stretch/>
        </p:blipFill>
        <p:spPr>
          <a:xfrm>
            <a:off x="4743360" y="1428840"/>
            <a:ext cx="44006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F1BCC-43ED-42CF-9D65-9A837E2E9147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Rectangle 2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3"/>
          <p:cNvSpPr/>
          <p:nvPr/>
        </p:nvSpPr>
        <p:spPr>
          <a:xfrm>
            <a:off x="3520800" y="2255760"/>
            <a:ext cx="2111760" cy="642600"/>
          </a:xfrm>
          <a:prstGeom prst="rect">
            <a:avLst/>
          </a:prstGeom>
          <a:noFill/>
          <a:ln w="28440">
            <a:solidFill>
              <a:srgbClr val="60b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4"/>
          <p:cNvSpPr/>
          <p:nvPr/>
        </p:nvSpPr>
        <p:spPr>
          <a:xfrm>
            <a:off x="384120" y="4110120"/>
            <a:ext cx="177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Usuario Fina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uncionalida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ecanismos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terac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5"/>
          <p:cNvSpPr/>
          <p:nvPr/>
        </p:nvSpPr>
        <p:spPr>
          <a:xfrm>
            <a:off x="2640960" y="4110120"/>
            <a:ext cx="1626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Diseñado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uncionalida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lgoritmos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tructuras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a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6"/>
          <p:cNvSpPr/>
          <p:nvPr/>
        </p:nvSpPr>
        <p:spPr>
          <a:xfrm>
            <a:off x="4575600" y="4110120"/>
            <a:ext cx="195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Programado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lgoritm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tructuras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atos, lengu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 program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7"/>
          <p:cNvSpPr/>
          <p:nvPr/>
        </p:nvSpPr>
        <p:spPr>
          <a:xfrm>
            <a:off x="6861240" y="4110120"/>
            <a:ext cx="163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Mantenedo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rquitectur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uncionalida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enguaje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gram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8"/>
          <p:cNvSpPr/>
          <p:nvPr/>
        </p:nvSpPr>
        <p:spPr>
          <a:xfrm flipV="1">
            <a:off x="1295280" y="2971440"/>
            <a:ext cx="2362320" cy="1066680"/>
          </a:xfrm>
          <a:prstGeom prst="line">
            <a:avLst/>
          </a:prstGeom>
          <a:ln w="38160">
            <a:solidFill>
              <a:srgbClr val="00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9"/>
          <p:cNvSpPr/>
          <p:nvPr/>
        </p:nvSpPr>
        <p:spPr>
          <a:xfrm flipV="1">
            <a:off x="3352680" y="2971440"/>
            <a:ext cx="762120" cy="1143000"/>
          </a:xfrm>
          <a:prstGeom prst="line">
            <a:avLst/>
          </a:prstGeom>
          <a:ln w="38160">
            <a:solidFill>
              <a:srgbClr val="00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0"/>
          <p:cNvSpPr/>
          <p:nvPr/>
        </p:nvSpPr>
        <p:spPr>
          <a:xfrm flipH="1" flipV="1">
            <a:off x="4876920" y="2971440"/>
            <a:ext cx="457200" cy="1143000"/>
          </a:xfrm>
          <a:prstGeom prst="line">
            <a:avLst/>
          </a:prstGeom>
          <a:ln w="38160">
            <a:solidFill>
              <a:srgbClr val="00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1"/>
          <p:cNvSpPr/>
          <p:nvPr/>
        </p:nvSpPr>
        <p:spPr>
          <a:xfrm flipH="1" flipV="1">
            <a:off x="5409720" y="2971440"/>
            <a:ext cx="2210040" cy="1143000"/>
          </a:xfrm>
          <a:prstGeom prst="line">
            <a:avLst/>
          </a:prstGeom>
          <a:ln w="38160">
            <a:solidFill>
              <a:srgbClr val="00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701FD-323F-4617-A1DD-180E652A6C3A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Rectangle 5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45720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Arquitectura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el plano de una casa describe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499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orientación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499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tamaño relativo de las habitaciones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499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distribución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pero no incluye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499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materiales de construcción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499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colores de las parede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64832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Circuitos eléctrico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incluyen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499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resistencias, capacitores, etc.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499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ecuaciones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no incluyen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499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resistencia de los conectore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D60B8-A0DB-4A84-A2AF-892BBD610745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Rectangle 4" descr=""/>
          <p:cNvPicPr/>
          <p:nvPr/>
        </p:nvPicPr>
        <p:blipFill>
          <a:blip r:embed="rId1"/>
          <a:stretch/>
        </p:blipFill>
        <p:spPr>
          <a:xfrm>
            <a:off x="414360" y="378000"/>
            <a:ext cx="8053200" cy="1152360"/>
          </a:xfrm>
          <a:prstGeom prst="rect">
            <a:avLst/>
          </a:prstGeom>
          <a:ln w="0">
            <a:noFill/>
          </a:ln>
        </p:spPr>
      </p:pic>
      <p:grpSp>
        <p:nvGrpSpPr>
          <p:cNvPr id="468" name="Group 10"/>
          <p:cNvGrpSpPr/>
          <p:nvPr/>
        </p:nvGrpSpPr>
        <p:grpSpPr>
          <a:xfrm>
            <a:off x="457200" y="1752480"/>
            <a:ext cx="4267080" cy="2590920"/>
            <a:chOff x="457200" y="1752480"/>
            <a:chExt cx="4267080" cy="2590920"/>
          </a:xfrm>
        </p:grpSpPr>
        <p:sp>
          <p:nvSpPr>
            <p:cNvPr id="469" name="AutoShape 3"/>
            <p:cNvSpPr/>
            <p:nvPr/>
          </p:nvSpPr>
          <p:spPr>
            <a:xfrm>
              <a:off x="457200" y="1752480"/>
              <a:ext cx="4267080" cy="2590920"/>
            </a:xfrm>
            <a:prstGeom prst="cloudCallout">
              <a:avLst>
                <a:gd name="adj1" fmla="val -21351"/>
                <a:gd name="adj2" fmla="val 31555"/>
              </a:avLst>
            </a:prstGeom>
            <a:solidFill>
              <a:srgbClr val="cc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5"/>
            <p:cNvSpPr/>
            <p:nvPr/>
          </p:nvSpPr>
          <p:spPr>
            <a:xfrm>
              <a:off x="1704960" y="2478240"/>
              <a:ext cx="177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Requerimien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Group 9"/>
          <p:cNvGrpSpPr/>
          <p:nvPr/>
        </p:nvGrpSpPr>
        <p:grpSpPr>
          <a:xfrm>
            <a:off x="5867280" y="4267080"/>
            <a:ext cx="2133720" cy="2057400"/>
            <a:chOff x="5867280" y="4267080"/>
            <a:chExt cx="2133720" cy="2057400"/>
          </a:xfrm>
        </p:grpSpPr>
        <p:sp>
          <p:nvSpPr>
            <p:cNvPr id="472" name="Oval 2"/>
            <p:cNvSpPr/>
            <p:nvPr/>
          </p:nvSpPr>
          <p:spPr>
            <a:xfrm>
              <a:off x="5867280" y="4267080"/>
              <a:ext cx="2133720" cy="2057400"/>
            </a:xfrm>
            <a:prstGeom prst="ellipse">
              <a:avLst/>
            </a:prstGeom>
            <a:solidFill>
              <a:srgbClr val="cc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6"/>
            <p:cNvSpPr/>
            <p:nvPr/>
          </p:nvSpPr>
          <p:spPr>
            <a:xfrm>
              <a:off x="6314400" y="4875120"/>
              <a:ext cx="1294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Modelo 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Group 11"/>
          <p:cNvGrpSpPr/>
          <p:nvPr/>
        </p:nvGrpSpPr>
        <p:grpSpPr>
          <a:xfrm>
            <a:off x="2525400" y="2715840"/>
            <a:ext cx="4017240" cy="2505240"/>
            <a:chOff x="2525400" y="2715840"/>
            <a:chExt cx="4017240" cy="2505240"/>
          </a:xfrm>
        </p:grpSpPr>
        <p:sp>
          <p:nvSpPr>
            <p:cNvPr id="475" name="AutoShape 7"/>
            <p:cNvSpPr/>
            <p:nvPr/>
          </p:nvSpPr>
          <p:spPr>
            <a:xfrm rot="17788800">
              <a:off x="4159080" y="1910880"/>
              <a:ext cx="749160" cy="4114800"/>
            </a:xfrm>
            <a:prstGeom prst="downArrow">
              <a:avLst>
                <a:gd name="adj1" fmla="val 50000"/>
                <a:gd name="adj2" fmla="val 137314"/>
              </a:avLst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8"/>
            <p:cNvSpPr/>
            <p:nvPr/>
          </p:nvSpPr>
          <p:spPr>
            <a:xfrm rot="1651200">
              <a:off x="3491640" y="3537000"/>
              <a:ext cx="137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Abstrac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77619-F28D-41D1-A269-B7484C1DAF04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Rectangle 2" descr=""/>
          <p:cNvPicPr/>
          <p:nvPr/>
        </p:nvPicPr>
        <p:blipFill>
          <a:blip r:embed="rId1"/>
          <a:stretch/>
        </p:blipFill>
        <p:spPr>
          <a:xfrm>
            <a:off x="262080" y="603360"/>
            <a:ext cx="8265960" cy="1158840"/>
          </a:xfrm>
          <a:prstGeom prst="rect">
            <a:avLst/>
          </a:prstGeom>
          <a:ln w="0">
            <a:noFill/>
          </a:ln>
        </p:spPr>
      </p:pic>
      <p:sp>
        <p:nvSpPr>
          <p:cNvPr id="479" name="Rectangle 3"/>
          <p:cNvSpPr/>
          <p:nvPr/>
        </p:nvSpPr>
        <p:spPr>
          <a:xfrm>
            <a:off x="1828800" y="5486400"/>
            <a:ext cx="5486400" cy="533520"/>
          </a:xfrm>
          <a:prstGeom prst="rect">
            <a:avLst/>
          </a:prstGeom>
          <a:solidFill>
            <a:srgbClr val="f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4"/>
          <p:cNvSpPr/>
          <p:nvPr/>
        </p:nvSpPr>
        <p:spPr>
          <a:xfrm>
            <a:off x="1828800" y="4800600"/>
            <a:ext cx="5486400" cy="533520"/>
          </a:xfrm>
          <a:prstGeom prst="rect">
            <a:avLst/>
          </a:prstGeom>
          <a:solidFill>
            <a:srgbClr val="d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ENGUAJE DE MÁQU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5"/>
          <p:cNvSpPr/>
          <p:nvPr/>
        </p:nvSpPr>
        <p:spPr>
          <a:xfrm>
            <a:off x="1828800" y="4114800"/>
            <a:ext cx="5486400" cy="533520"/>
          </a:xfrm>
          <a:prstGeom prst="rect">
            <a:avLst/>
          </a:prstGeom>
          <a:solidFill>
            <a:srgbClr val="c8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SSEMB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6"/>
          <p:cNvSpPr/>
          <p:nvPr/>
        </p:nvSpPr>
        <p:spPr>
          <a:xfrm>
            <a:off x="1828800" y="3429000"/>
            <a:ext cx="5486400" cy="533520"/>
          </a:xfrm>
          <a:prstGeom prst="rect">
            <a:avLst/>
          </a:prstGeom>
          <a:solidFill>
            <a:srgbClr val="b4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ENGUAJE DE ALTO NI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7"/>
          <p:cNvSpPr/>
          <p:nvPr/>
        </p:nvSpPr>
        <p:spPr>
          <a:xfrm>
            <a:off x="1828800" y="2743200"/>
            <a:ext cx="5486400" cy="533520"/>
          </a:xfrm>
          <a:prstGeom prst="rect">
            <a:avLst/>
          </a:prstGeom>
          <a:solidFill>
            <a:srgbClr val="a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ENERADOR DE CÓDI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8"/>
          <p:cNvSpPr/>
          <p:nvPr/>
        </p:nvSpPr>
        <p:spPr>
          <a:xfrm>
            <a:off x="1828800" y="2057400"/>
            <a:ext cx="5486400" cy="533520"/>
          </a:xfrm>
          <a:prstGeom prst="rect">
            <a:avLst/>
          </a:prstGeom>
          <a:solidFill>
            <a:srgbClr val="8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PECIFICACIÓN DEL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9"/>
          <p:cNvGrpSpPr/>
          <p:nvPr/>
        </p:nvGrpSpPr>
        <p:grpSpPr>
          <a:xfrm>
            <a:off x="514080" y="1967040"/>
            <a:ext cx="752040" cy="4115160"/>
            <a:chOff x="514080" y="1967040"/>
            <a:chExt cx="752040" cy="4115160"/>
          </a:xfrm>
        </p:grpSpPr>
        <p:sp>
          <p:nvSpPr>
            <p:cNvPr id="486" name="AutoShape 10"/>
            <p:cNvSpPr/>
            <p:nvPr/>
          </p:nvSpPr>
          <p:spPr>
            <a:xfrm rot="10797600">
              <a:off x="515520" y="1967040"/>
              <a:ext cx="749160" cy="4114800"/>
            </a:xfrm>
            <a:prstGeom prst="downArrow">
              <a:avLst>
                <a:gd name="adj1" fmla="val 50000"/>
                <a:gd name="adj2" fmla="val 137314"/>
              </a:avLst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Text Box 11"/>
            <p:cNvSpPr/>
            <p:nvPr/>
          </p:nvSpPr>
          <p:spPr>
            <a:xfrm rot="16260000">
              <a:off x="141480" y="4268880"/>
              <a:ext cx="137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Abstrac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2938A-6F3B-402A-BF75-2483CDD0D7FF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Rectangle 4" descr=""/>
          <p:cNvPicPr/>
          <p:nvPr/>
        </p:nvPicPr>
        <p:blipFill>
          <a:blip r:embed="rId1"/>
          <a:stretch/>
        </p:blipFill>
        <p:spPr>
          <a:xfrm>
            <a:off x="219240" y="152280"/>
            <a:ext cx="8474040" cy="1262160"/>
          </a:xfrm>
          <a:prstGeom prst="rect">
            <a:avLst/>
          </a:prstGeom>
          <a:ln w="0">
            <a:noFill/>
          </a:ln>
        </p:spPr>
      </p:pic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40096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0000"/>
          </a:bodyPr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Producto de Software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el comentario en el encabezado describe una abstracción de la funcionalidad del procedimiento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Proceso de Software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la estimación del costo de desarrollo se realiza considerando los principales factores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895680" indent="-20556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personal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895680" indent="-20556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capacitación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895680" indent="-20556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local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895680" indent="-20556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equipamiento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4149B-5DAF-414E-A888-EFF70311646A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Rectangle 4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71320" y="178596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La mantenibilidad es una cualidad deseable del software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corrección de errores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aumentar la funcionalidad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Desarrollar software fácilmente mantenible no es gratis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anticipar el cómo y dónde van a ocurrir los cambios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proceder de modo que haga fácil la aplicación de futuros cambio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Este principio se aplica generalmente en la etapa de diseño del software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los lugares que van a cambiar se aíslan de modo que los cambios no afecten otras porciones del software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2577F-D55F-4EF4-8992-7F155BE40CD4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285480" y="1774800"/>
            <a:ext cx="871524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Método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forma sistemática de abordar una activida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Técnica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más formales y restringidas que los método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Metodologí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organización de métodos y técnicas para guiar el proceso de resolución de un problema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Herramient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encarna y fuerza la metodología (métodos y técnicas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9D390-F411-4E54-94FE-8D6301E67786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Rectangle 4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Las aplicaciones de software se desarrollan a pesar de que sus requerimientos muchas veces no se han comprendido completament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Después de instalado el sistema, el usuario realiza comentarios que dan lugar a cambios y ajuste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Las organizaciones se ven afectadas por la instalación de un nuevo sistema, de modo que los requerimientos cambian con su implantació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9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La anticipación de los cambios es casi la única forma de abordar esta situación eficientement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791C3-6F2F-4134-9EB1-8DE3A320A556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Rectangle 2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Una componente es reusable si puede ser utilizada para construir un nuevo sistema de software (sin cambios o con cambios mínimos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Reutilización es una evolución en pequeña escala, a nivel de component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Si puede anticiparse los contextos en que la componente será utilizada, se la diseña de modo de poder acomodar fácilmente los cambios necesario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10589-DABC-485A-9CC1-69132E5BA105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380880" y="1752120"/>
            <a:ext cx="4724640" cy="43434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8000"/>
          </a:bodyPr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Los cambios en las componentes deben ser registrados y almacenado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Cada sistema debe tener la versión apropiada de cada una de sus component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Cada configuración consistente debe también ser almacenada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Las herramientas son esencial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3" name="Rectangle 4"/>
          <p:cNvSpPr/>
          <p:nvPr/>
        </p:nvSpPr>
        <p:spPr>
          <a:xfrm>
            <a:off x="6553080" y="2286000"/>
            <a:ext cx="1067040" cy="685800"/>
          </a:xfrm>
          <a:prstGeom prst="rect">
            <a:avLst/>
          </a:prstGeom>
          <a:solidFill>
            <a:srgbClr val="f0ad00"/>
          </a:solidFill>
          <a:ln w="38160">
            <a:solidFill>
              <a:srgbClr val="60b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5"/>
          <p:cNvSpPr/>
          <p:nvPr/>
        </p:nvSpPr>
        <p:spPr>
          <a:xfrm>
            <a:off x="5257800" y="3581280"/>
            <a:ext cx="1066680" cy="685800"/>
          </a:xfrm>
          <a:prstGeom prst="rect">
            <a:avLst/>
          </a:prstGeom>
          <a:solidFill>
            <a:srgbClr val="f0ad00"/>
          </a:solidFill>
          <a:ln w="38160">
            <a:solidFill>
              <a:srgbClr val="60b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6"/>
          <p:cNvSpPr/>
          <p:nvPr/>
        </p:nvSpPr>
        <p:spPr>
          <a:xfrm>
            <a:off x="6553080" y="3581280"/>
            <a:ext cx="1067040" cy="685800"/>
          </a:xfrm>
          <a:prstGeom prst="rect">
            <a:avLst/>
          </a:prstGeom>
          <a:solidFill>
            <a:srgbClr val="f0ad00"/>
          </a:solidFill>
          <a:ln w="38160">
            <a:solidFill>
              <a:srgbClr val="60b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7"/>
          <p:cNvSpPr/>
          <p:nvPr/>
        </p:nvSpPr>
        <p:spPr>
          <a:xfrm>
            <a:off x="7848720" y="3581280"/>
            <a:ext cx="1066680" cy="685800"/>
          </a:xfrm>
          <a:prstGeom prst="rect">
            <a:avLst/>
          </a:prstGeom>
          <a:solidFill>
            <a:srgbClr val="f0ad00"/>
          </a:solidFill>
          <a:ln w="38160">
            <a:solidFill>
              <a:srgbClr val="60b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8"/>
          <p:cNvSpPr/>
          <p:nvPr/>
        </p:nvSpPr>
        <p:spPr>
          <a:xfrm>
            <a:off x="5181480" y="4800600"/>
            <a:ext cx="609840" cy="609480"/>
          </a:xfrm>
          <a:prstGeom prst="ellipse">
            <a:avLst/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9"/>
          <p:cNvSpPr/>
          <p:nvPr/>
        </p:nvSpPr>
        <p:spPr>
          <a:xfrm>
            <a:off x="5791320" y="4800600"/>
            <a:ext cx="609480" cy="609480"/>
          </a:xfrm>
          <a:prstGeom prst="ellipse">
            <a:avLst/>
          </a:prstGeom>
          <a:solidFill>
            <a:srgbClr val="f0ad00"/>
          </a:solidFill>
          <a:ln w="38160">
            <a:solidFill>
              <a:srgbClr val="60b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10"/>
          <p:cNvSpPr/>
          <p:nvPr/>
        </p:nvSpPr>
        <p:spPr>
          <a:xfrm>
            <a:off x="6477120" y="4800600"/>
            <a:ext cx="609480" cy="609480"/>
          </a:xfrm>
          <a:prstGeom prst="ellipse">
            <a:avLst/>
          </a:prstGeom>
          <a:solidFill>
            <a:srgbClr val="f0ad00"/>
          </a:solidFill>
          <a:ln w="38160">
            <a:solidFill>
              <a:srgbClr val="60b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11"/>
          <p:cNvSpPr/>
          <p:nvPr/>
        </p:nvSpPr>
        <p:spPr>
          <a:xfrm>
            <a:off x="7086600" y="4800600"/>
            <a:ext cx="609480" cy="609480"/>
          </a:xfrm>
          <a:prstGeom prst="ellipse">
            <a:avLst/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val 12"/>
          <p:cNvSpPr/>
          <p:nvPr/>
        </p:nvSpPr>
        <p:spPr>
          <a:xfrm>
            <a:off x="8077320" y="4800600"/>
            <a:ext cx="609480" cy="609480"/>
          </a:xfrm>
          <a:prstGeom prst="ellipse">
            <a:avLst/>
          </a:prstGeom>
          <a:solidFill>
            <a:srgbClr val="f0ad00"/>
          </a:solidFill>
          <a:ln w="38160">
            <a:solidFill>
              <a:srgbClr val="60b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AutoShape 13"/>
          <p:cNvCxnSpPr>
            <a:stCxn id="503" idx="2"/>
            <a:endCxn id="504" idx="0"/>
          </p:cNvCxnSpPr>
          <p:nvPr/>
        </p:nvCxnSpPr>
        <p:spPr>
          <a:xfrm flipH="1">
            <a:off x="5790960" y="2990520"/>
            <a:ext cx="1296000" cy="572040"/>
          </a:xfrm>
          <a:prstGeom prst="straightConnector1">
            <a:avLst/>
          </a:prstGeom>
          <a:ln w="38160">
            <a:solidFill>
              <a:srgbClr val="60b5cc"/>
            </a:solidFill>
            <a:miter/>
          </a:ln>
        </p:spPr>
      </p:cxnSp>
      <p:cxnSp>
        <p:nvCxnSpPr>
          <p:cNvPr id="513" name="AutoShape 14"/>
          <p:cNvCxnSpPr>
            <a:stCxn id="503" idx="2"/>
            <a:endCxn id="505" idx="0"/>
          </p:cNvCxnSpPr>
          <p:nvPr/>
        </p:nvCxnSpPr>
        <p:spPr>
          <a:xfrm>
            <a:off x="7086240" y="2990520"/>
            <a:ext cx="1080" cy="572040"/>
          </a:xfrm>
          <a:prstGeom prst="straightConnector1">
            <a:avLst/>
          </a:prstGeom>
          <a:ln w="38160">
            <a:solidFill>
              <a:srgbClr val="60b5cc"/>
            </a:solidFill>
            <a:miter/>
          </a:ln>
        </p:spPr>
      </p:cxnSp>
      <p:cxnSp>
        <p:nvCxnSpPr>
          <p:cNvPr id="514" name="AutoShape 15"/>
          <p:cNvCxnSpPr>
            <a:stCxn id="503" idx="2"/>
            <a:endCxn id="506" idx="0"/>
          </p:cNvCxnSpPr>
          <p:nvPr/>
        </p:nvCxnSpPr>
        <p:spPr>
          <a:xfrm>
            <a:off x="7086600" y="2990520"/>
            <a:ext cx="1296000" cy="572040"/>
          </a:xfrm>
          <a:prstGeom prst="straightConnector1">
            <a:avLst/>
          </a:prstGeom>
          <a:ln w="38160">
            <a:solidFill>
              <a:srgbClr val="60b5cc"/>
            </a:solidFill>
            <a:miter/>
          </a:ln>
        </p:spPr>
      </p:cxnSp>
      <p:cxnSp>
        <p:nvCxnSpPr>
          <p:cNvPr id="515" name="AutoShape 16"/>
          <p:cNvCxnSpPr>
            <a:stCxn id="504" idx="2"/>
            <a:endCxn id="507" idx="0"/>
          </p:cNvCxnSpPr>
          <p:nvPr/>
        </p:nvCxnSpPr>
        <p:spPr>
          <a:xfrm flipH="1">
            <a:off x="5485680" y="4285800"/>
            <a:ext cx="30564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6" name="AutoShape 17"/>
          <p:cNvCxnSpPr>
            <a:stCxn id="504" idx="2"/>
            <a:endCxn id="508" idx="0"/>
          </p:cNvCxnSpPr>
          <p:nvPr/>
        </p:nvCxnSpPr>
        <p:spPr>
          <a:xfrm>
            <a:off x="5791320" y="4286160"/>
            <a:ext cx="305280" cy="496080"/>
          </a:xfrm>
          <a:prstGeom prst="straightConnector1">
            <a:avLst/>
          </a:prstGeom>
          <a:ln w="38160">
            <a:solidFill>
              <a:srgbClr val="60b5cc"/>
            </a:solidFill>
            <a:miter/>
          </a:ln>
        </p:spPr>
      </p:cxnSp>
      <p:cxnSp>
        <p:nvCxnSpPr>
          <p:cNvPr id="517" name="AutoShape 18"/>
          <p:cNvCxnSpPr>
            <a:stCxn id="505" idx="2"/>
            <a:endCxn id="509" idx="0"/>
          </p:cNvCxnSpPr>
          <p:nvPr/>
        </p:nvCxnSpPr>
        <p:spPr>
          <a:xfrm flipH="1">
            <a:off x="6780960" y="4286160"/>
            <a:ext cx="305640" cy="496080"/>
          </a:xfrm>
          <a:prstGeom prst="straightConnector1">
            <a:avLst/>
          </a:prstGeom>
          <a:ln w="38160">
            <a:solidFill>
              <a:srgbClr val="60b5cc"/>
            </a:solidFill>
            <a:miter/>
          </a:ln>
        </p:spPr>
      </p:cxnSp>
      <p:cxnSp>
        <p:nvCxnSpPr>
          <p:cNvPr id="518" name="AutoShape 19"/>
          <p:cNvCxnSpPr>
            <a:stCxn id="505" idx="2"/>
            <a:endCxn id="510" idx="0"/>
          </p:cNvCxnSpPr>
          <p:nvPr/>
        </p:nvCxnSpPr>
        <p:spPr>
          <a:xfrm>
            <a:off x="7086240" y="4285800"/>
            <a:ext cx="30564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9" name="AutoShape 20"/>
          <p:cNvCxnSpPr>
            <a:stCxn id="506" idx="2"/>
            <a:endCxn id="511" idx="0"/>
          </p:cNvCxnSpPr>
          <p:nvPr/>
        </p:nvCxnSpPr>
        <p:spPr>
          <a:xfrm>
            <a:off x="8381520" y="4286160"/>
            <a:ext cx="1080" cy="496080"/>
          </a:xfrm>
          <a:prstGeom prst="straightConnector1">
            <a:avLst/>
          </a:prstGeom>
          <a:ln w="38160">
            <a:solidFill>
              <a:srgbClr val="60b5cc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E4164-18EB-4977-80FF-A53B2885829F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Deben anticiparse acciones en caso de cambio en el personal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También debe considerarse el mantenimiento para la estimación de costos del sistema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Debe considerarse la construcción de componentes reutilizables como parte del proyecto o como un proyecto paralelo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36859-BC4B-4CEC-880C-B4590D8BA762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Consideremos un algoritmo de ordenamiento, por ejemplo QuickSort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Algunos posibles cambios en una componente que implemente este algoritmo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cambio en el tipo de datos a ordenar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la cantidad de datos es tan grande que deben almacenarse en disco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¿Qué consideraciones haría para prever este tipo de cambios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3C66E-684F-4023-93F9-79E4851BB1FD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4"/>
          <p:cNvSpPr/>
          <p:nvPr/>
        </p:nvSpPr>
        <p:spPr>
          <a:xfrm>
            <a:off x="1852560" y="5900760"/>
            <a:ext cx="607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ay que evaluar la conveniencia de una solución gene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AutoShape 5"/>
          <p:cNvSpPr/>
          <p:nvPr/>
        </p:nvSpPr>
        <p:spPr>
          <a:xfrm>
            <a:off x="709560" y="5994360"/>
            <a:ext cx="1143000" cy="304920"/>
          </a:xfrm>
          <a:prstGeom prst="rightArrow">
            <a:avLst>
              <a:gd name="adj1" fmla="val 50000"/>
              <a:gd name="adj2" fmla="val 93713"/>
            </a:avLst>
          </a:prstGeom>
          <a:solidFill>
            <a:srgbClr val="5a63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Rectangle 6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3045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 fontScale="96000"/>
          </a:bodyPr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Cada vez que deba resolver un problema, trate de concentrarse en descubrir un problema más general que se esconde bajo el problema particular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Puede suceder que el problema generalizado sea más sencillo que el original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Una solución más general es potencialmente más reutilizable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266720" y="190512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Es inclusive posible que ya exista una solución general disponible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También es posible que la solución general sea invocada en varias circunstancias en la aplicación en lugar de tener varias soluciones particulare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Como contrapartida, una solución general puede ser menos eficiente (ejecución, uso de memoria, tiempo de desarrollo)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181C3-CE8F-40ED-9904-FA4F83480862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Group 9"/>
          <p:cNvGrpSpPr/>
          <p:nvPr/>
        </p:nvGrpSpPr>
        <p:grpSpPr>
          <a:xfrm>
            <a:off x="7010280" y="1752480"/>
            <a:ext cx="1599840" cy="4800240"/>
            <a:chOff x="7010280" y="1752480"/>
            <a:chExt cx="1599840" cy="4800240"/>
          </a:xfrm>
        </p:grpSpPr>
        <p:sp>
          <p:nvSpPr>
            <p:cNvPr id="534" name="Rectangle 4"/>
            <p:cNvSpPr/>
            <p:nvPr/>
          </p:nvSpPr>
          <p:spPr>
            <a:xfrm>
              <a:off x="7010280" y="1752480"/>
              <a:ext cx="487080" cy="1728000"/>
            </a:xfrm>
            <a:prstGeom prst="rect">
              <a:avLst/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Rectangle 5"/>
            <p:cNvSpPr/>
            <p:nvPr/>
          </p:nvSpPr>
          <p:spPr>
            <a:xfrm>
              <a:off x="8123400" y="1752480"/>
              <a:ext cx="486720" cy="1728000"/>
            </a:xfrm>
            <a:prstGeom prst="rect">
              <a:avLst/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ectangle 6"/>
            <p:cNvSpPr/>
            <p:nvPr/>
          </p:nvSpPr>
          <p:spPr>
            <a:xfrm>
              <a:off x="7636320" y="3928680"/>
              <a:ext cx="487080" cy="2624040"/>
            </a:xfrm>
            <a:prstGeom prst="rect">
              <a:avLst/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7"/>
            <p:cNvSpPr/>
            <p:nvPr/>
          </p:nvSpPr>
          <p:spPr>
            <a:xfrm>
              <a:off x="7358040" y="3544560"/>
              <a:ext cx="347760" cy="255960"/>
            </a:xfrm>
            <a:prstGeom prst="line">
              <a:avLst/>
            </a:prstGeom>
            <a:ln w="38160">
              <a:solidFill>
                <a:srgbClr val="60b5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8"/>
            <p:cNvSpPr/>
            <p:nvPr/>
          </p:nvSpPr>
          <p:spPr>
            <a:xfrm flipH="1">
              <a:off x="7984080" y="3544560"/>
              <a:ext cx="347760" cy="255960"/>
            </a:xfrm>
            <a:prstGeom prst="line">
              <a:avLst/>
            </a:prstGeom>
            <a:ln w="38160">
              <a:solidFill>
                <a:srgbClr val="60b5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9" name="Rectangle 10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620200" cy="1262160"/>
          </a:xfrm>
          <a:prstGeom prst="rect">
            <a:avLst/>
          </a:prstGeom>
          <a:ln w="0">
            <a:noFill/>
          </a:ln>
        </p:spPr>
      </p:pic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28760" y="1981080"/>
            <a:ext cx="665784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8000"/>
          </a:bodyPr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Se desea intercalar dos archivos ordenados para obtener un único archivo ordenado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Se sabe que no existen claves duplicada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Si se desarrolla un algoritmo que acepte también claves duplicadas, habrá una mayor cantidad de casos para reusar el algoritmo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Además existe un algoritmo para esta tarea que puede tomars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7AEA0-421E-4A91-B958-D216BEBBBCE0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9000"/>
          </a:bodyPr>
          <a:p>
            <a:pPr marL="389880" indent="-283680">
              <a:lnSpc>
                <a:spcPct val="11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La generalidad es esencial si se intenta desarrollar herramientas o paquetes para comercializar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49440" indent="-242640">
              <a:lnSpc>
                <a:spcPct val="11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más generalidad implica más aplicaciones y por lo tanto más potenciales compradore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lnSpc>
                <a:spcPct val="11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Configurar un producto general es más fácil, rápido y barato que desarrollar una aplicación a medida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lnSpc>
                <a:spcPct val="11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Tendencia natural en todas las áreas de la ingeniería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49440" indent="-242640">
              <a:lnSpc>
                <a:spcPct val="11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¿ropa a medida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9440" indent="-242640">
              <a:lnSpc>
                <a:spcPct val="11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¿autos a medida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273AD-448B-43DD-A510-CDBBDA7A9716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Rectangle 4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Un proceso es incremental si se compone de pequeños pasos (incrementos)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El objetivo se logra como una sucesión de aproximaciones construidas cada una sobre la anterior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En el software, un proceso de desarrollo es incremental si se aplica el modelo Evolutivo de desarrollo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F6B24-4934-4459-8FF3-68CD8057BDA2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Object 2" descr=""/>
          <p:cNvPicPr/>
          <p:nvPr/>
        </p:nvPicPr>
        <p:blipFill>
          <a:blip r:embed="rId1"/>
          <a:stretch/>
        </p:blipFill>
        <p:spPr>
          <a:xfrm>
            <a:off x="3048120" y="2801880"/>
            <a:ext cx="3244680" cy="339084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4"/>
          <p:cNvSpPr/>
          <p:nvPr/>
        </p:nvSpPr>
        <p:spPr>
          <a:xfrm>
            <a:off x="3651480" y="1657440"/>
            <a:ext cx="195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leccionar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sarrollar 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bconjunto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funcion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5"/>
          <p:cNvSpPr/>
          <p:nvPr/>
        </p:nvSpPr>
        <p:spPr>
          <a:xfrm>
            <a:off x="1429200" y="5238720"/>
            <a:ext cx="168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tregar 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uario 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uncion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sarroll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6"/>
          <p:cNvSpPr/>
          <p:nvPr/>
        </p:nvSpPr>
        <p:spPr>
          <a:xfrm>
            <a:off x="6274080" y="5162400"/>
            <a:ext cx="2049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bte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entarios d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uario pa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seguir c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desarro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Rectangle 7" descr=""/>
          <p:cNvPicPr/>
          <p:nvPr/>
        </p:nvPicPr>
        <p:blipFill>
          <a:blip r:embed="rId2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3DFE1-E546-401A-AA4A-CD3ECBCDE25D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Rectangle 2" descr=""/>
          <p:cNvPicPr/>
          <p:nvPr/>
        </p:nvPicPr>
        <p:blipFill>
          <a:blip r:embed="rId1"/>
          <a:stretch/>
        </p:blipFill>
        <p:spPr>
          <a:xfrm>
            <a:off x="414360" y="493560"/>
            <a:ext cx="8053200" cy="1159200"/>
          </a:xfrm>
          <a:prstGeom prst="rect">
            <a:avLst/>
          </a:prstGeom>
          <a:ln w="0">
            <a:noFill/>
          </a:ln>
        </p:spPr>
      </p:pic>
      <p:pic>
        <p:nvPicPr>
          <p:cNvPr id="364" name="15 Diagrama" descr=""/>
          <p:cNvPicPr/>
          <p:nvPr/>
        </p:nvPicPr>
        <p:blipFill>
          <a:blip r:embed="rId2"/>
          <a:stretch/>
        </p:blipFill>
        <p:spPr>
          <a:xfrm>
            <a:off x="1706400" y="1951200"/>
            <a:ext cx="654228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35843-709D-4F09-9B28-CF7072002DE1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Rectangle 4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8000"/>
          </a:bodyPr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Desarrollo controlado cuando los requerimientos no son estables o completamente claro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En la mayor parte de los casos es imposible tener todos los requerimientos al momento de comenzar el desarrollo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La clarificación de los requerimientos surge como consecuencia de la experimentación con el sistema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La retroalimentación permite desarrollar el sistema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Está íntimamente relacionado con la anticipación del cambio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945F7-E13C-4CF8-AB8D-A1480F4B7BF7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Rectangle 2" descr=""/>
          <p:cNvPicPr/>
          <p:nvPr/>
        </p:nvPicPr>
        <p:blipFill>
          <a:blip r:embed="rId1"/>
          <a:stretch/>
        </p:blipFill>
        <p:spPr>
          <a:xfrm>
            <a:off x="262080" y="530280"/>
            <a:ext cx="8358120" cy="1152360"/>
          </a:xfrm>
          <a:prstGeom prst="rect">
            <a:avLst/>
          </a:prstGeom>
          <a:ln w="0">
            <a:noFill/>
          </a:ln>
        </p:spPr>
      </p:pic>
      <p:sp>
        <p:nvSpPr>
          <p:cNvPr id="558" name="PlaceHolder 1"/>
          <p:cNvSpPr>
            <a:spLocks noGrp="1"/>
          </p:cNvSpPr>
          <p:nvPr>
            <p:ph/>
          </p:nvPr>
        </p:nvSpPr>
        <p:spPr>
          <a:xfrm>
            <a:off x="457200" y="449532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Los estados intermedios del sistema pueden considerarse prototipos del sistema final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El control de la configuración resulta también esencial para administrar la incrementalidad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228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Evolucionabl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Eficienci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Amigabl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Robustez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Confiabilidad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2264400" y="2604960"/>
            <a:ext cx="176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ual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crement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6"/>
          <p:cNvSpPr/>
          <p:nvPr/>
        </p:nvSpPr>
        <p:spPr>
          <a:xfrm>
            <a:off x="4267080" y="2057400"/>
            <a:ext cx="304920" cy="1828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619"/>
                </a:lnTo>
                <a:cubicBezTo>
                  <a:pt x="10800" y="10519"/>
                  <a:pt x="5400" y="11419"/>
                  <a:pt x="0" y="11419"/>
                </a:cubicBezTo>
                <a:cubicBezTo>
                  <a:pt x="5400" y="11419"/>
                  <a:pt x="10800" y="12319"/>
                  <a:pt x="10800" y="1321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EE7AC-65B9-4643-9922-5E3BAFA284C0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67" name="4 Diagrama" descr=""/>
          <p:cNvPicPr/>
          <p:nvPr/>
        </p:nvPicPr>
        <p:blipFill>
          <a:blip r:embed="rId2"/>
          <a:stretch/>
        </p:blipFill>
        <p:spPr>
          <a:xfrm>
            <a:off x="1163520" y="1646280"/>
            <a:ext cx="727416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A84A0-7058-485A-A9D5-BEB5A93EEDBF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70" name="AutoShape 5"/>
          <p:cNvSpPr/>
          <p:nvPr/>
        </p:nvSpPr>
        <p:spPr>
          <a:xfrm>
            <a:off x="3581280" y="2457360"/>
            <a:ext cx="2133720" cy="304920"/>
          </a:xfrm>
          <a:prstGeom prst="leftRightArrow">
            <a:avLst>
              <a:gd name="adj1" fmla="val 50000"/>
              <a:gd name="adj2" fmla="val 139304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6"/>
          <p:cNvSpPr/>
          <p:nvPr/>
        </p:nvSpPr>
        <p:spPr>
          <a:xfrm>
            <a:off x="4421520" y="164304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8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10" descr=""/>
          <p:cNvPicPr/>
          <p:nvPr/>
        </p:nvPicPr>
        <p:blipFill>
          <a:blip r:embed="rId2"/>
          <a:stretch/>
        </p:blipFill>
        <p:spPr>
          <a:xfrm>
            <a:off x="324000" y="3078000"/>
            <a:ext cx="4039920" cy="31514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1" descr=""/>
          <p:cNvPicPr/>
          <p:nvPr/>
        </p:nvPicPr>
        <p:blipFill>
          <a:blip r:embed="rId3"/>
          <a:stretch/>
        </p:blipFill>
        <p:spPr>
          <a:xfrm>
            <a:off x="5214960" y="2928960"/>
            <a:ext cx="3529080" cy="3529080"/>
          </a:xfrm>
          <a:prstGeom prst="rect">
            <a:avLst/>
          </a:prstGeom>
          <a:ln w="0">
            <a:noFill/>
          </a:ln>
        </p:spPr>
      </p:pic>
      <p:sp>
        <p:nvSpPr>
          <p:cNvPr id="374" name="11 Rectángulo"/>
          <p:cNvSpPr/>
          <p:nvPr/>
        </p:nvSpPr>
        <p:spPr>
          <a:xfrm>
            <a:off x="5821200" y="2220840"/>
            <a:ext cx="32515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13 Rectángulo" descr=""/>
          <p:cNvPicPr/>
          <p:nvPr/>
        </p:nvPicPr>
        <p:blipFill>
          <a:blip r:embed="rId4"/>
          <a:stretch/>
        </p:blipFill>
        <p:spPr>
          <a:xfrm>
            <a:off x="5357880" y="1908000"/>
            <a:ext cx="4316400" cy="1432080"/>
          </a:xfrm>
          <a:prstGeom prst="rect">
            <a:avLst/>
          </a:prstGeom>
          <a:ln w="0">
            <a:noFill/>
          </a:ln>
        </p:spPr>
      </p:pic>
      <p:pic>
        <p:nvPicPr>
          <p:cNvPr id="376" name="14 Rectángulo" descr=""/>
          <p:cNvPicPr/>
          <p:nvPr/>
        </p:nvPicPr>
        <p:blipFill>
          <a:blip r:embed="rId5"/>
          <a:stretch/>
        </p:blipFill>
        <p:spPr>
          <a:xfrm>
            <a:off x="-195120" y="1865160"/>
            <a:ext cx="350496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8DEC1-4CCD-45D1-AB87-317F2FC193F3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Rectangle 2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pic>
        <p:nvPicPr>
          <p:cNvPr id="379" name="7 Diagrama" descr=""/>
          <p:cNvPicPr/>
          <p:nvPr/>
        </p:nvPicPr>
        <p:blipFill>
          <a:blip r:embed="rId2"/>
          <a:stretch/>
        </p:blipFill>
        <p:spPr>
          <a:xfrm>
            <a:off x="378000" y="2066760"/>
            <a:ext cx="891828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6B9F4-5F97-4804-9FFB-6E88609B8AA0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Rectangle 4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428760" y="1714320"/>
            <a:ext cx="8229600" cy="46256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Una serie de paso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definidos, precisos, coherente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En cada paso se aplica alguna técnica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La técnica aplicada depende de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resultados teóricos derivados de un modelo de la realidad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ajustes empíricos para casos no cubiertos por el modelo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experiencia del desarrollado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Esta mezcla define una metodología que puede usarse repetidament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BB80C-2249-4F39-AE88-7C62A15791A1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El grado de formalismo usado en cada paso depende de varios factores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experiencia en el área de desarrollo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cuán crítico es el producto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tiempo en ejecució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Es necesario que el desarrollador sepa decidir sobre el grado de formalidad necesario para cada paso del desarrollo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8T15:49:29Z</dcterms:created>
  <dc:creator>DCC</dc:creator>
  <dc:description/>
  <dc:language>en-US</dc:language>
  <cp:lastModifiedBy>cecilia</cp:lastModifiedBy>
  <dcterms:modified xsi:type="dcterms:W3CDTF">2010-08-19T15:44:42Z</dcterms:modified>
  <cp:revision>573</cp:revision>
  <dc:subject/>
  <dc:title>CC31B – Desarrollo de Software de Aplicación</dc:title>
</cp:coreProperties>
</file>