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1AEFD-15C0-488F-AC5D-8CCA3CB5FDA0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BAC8C-C5B3-4424-B3E2-1620283203CA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A694C-A809-4BC0-8C64-0F552601307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FFEA3-B793-4216-991C-37ADE83938C5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DAADB-CDF6-4E45-8E80-3C3AF83F454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4473F-4C60-4CAB-8C18-D32FC19BED89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E0D64-7CE0-4DB5-8FE3-452A93732228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F54A7-0EF5-4974-AB19-0F36C489D149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3DC3D-23D6-476A-A47E-198DFF0A0B7D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FB15E-1EC2-4F08-BBE1-44060E53EB75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F8E35-4B18-44EC-BBD6-123E9CF7773A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A150F-39C4-4643-81C4-78E259F993D1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815FF-FA0F-4832-984B-243203C2BC9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EFEC8-E4C9-4508-9B9B-1003280699BA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1C378-C74F-4C1C-9634-894BD0AC6A65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3323E-BF6A-4318-A5D0-16D753A893D2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2783E-F490-410A-967A-81B2E75FE0D6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8B14F-3F08-4D94-8E2F-190463D55FD9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69D0E-0F32-4BBA-B09F-0AD9E3787684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1093C-1A64-41EF-8895-018C63BE6A28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0C0-1A66-499B-8A9B-B92B8109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F9A-A724-4340-A356-8FAFF41A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05B-452B-4040-8C9C-BE2BDE8F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4BF-7951-4B0B-9114-E5C53D7C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F33B-377E-45B5-97B0-858894B0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504A-609B-47D1-9863-020D6DB2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3D7C-09AF-4895-AE6E-1695FAAA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7FDC-69AD-4E2A-9274-0BB60CC6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C6E4-E811-4F21-950C-835F9A02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4C63-A70A-4035-B07A-55B95B63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5DAC-5575-4001-BCD5-2617B442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89F-0DBB-4DBF-9588-CDEAD77E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BEF0-2B71-43D0-8D1C-00ED94A5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F328-9831-4024-99C0-256E5C1F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028A-DF1A-48F8-A29F-DEA2F1F4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FDA7-2B02-4E27-AE83-C08512FB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83DA-6FFB-4069-8AE1-89A678E3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2F89-3B84-4AAC-8A6F-1573B2D5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F671C-9500-410B-BA3F-D881F450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1615-31AF-4C44-9E2C-8BB1FF4E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870F-F041-4CBC-A8C1-ABE03709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30819-D1A7-4783-A441-AD95D40D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F21-A8C5-4741-A2DE-6C378FA0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8C1D-3E88-4710-BDE6-C0FCE4F6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4E390-9B67-419B-8FCD-F1A683C3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9311-5689-4B57-B35E-86A72BCD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78A2-BE21-4BEF-BF19-59C25B93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CDB9-193A-496D-9689-DAF79973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7CD8-6E49-4D5E-89AA-04B75097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5E4BA-14F8-43C9-B551-43CE500A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C225D-5A4A-4D56-BD3D-790D6DA4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DD8D0-9B5B-49AA-8150-25BC7E00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2F9A6-58CE-4B16-959A-25F4822B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CD8-51FC-4275-ACC7-8AE5264D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F1F7-BE93-45F3-9E5A-A9771274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8B2F9-87B6-436B-AA85-F99E240C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FD447-3DBE-48DA-943A-01017067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D66C0-747D-4DC4-A372-9FF55D12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3950F-1AE7-4F53-B3F4-8FF14F2F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63C8C-21A7-4C1D-8EB2-4A13249D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1FE93-C921-43C3-831C-2A4CDCEF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C93DB-A37B-45E0-8FC6-8159DD0D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1E4BA-BB72-4E2D-8626-1C8B9DD5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0327-AB76-4C61-BBA7-BDAF6E68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7AF-D19F-46AB-BCA1-E29543EC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D693D-C911-4D2D-98E0-FFC07A21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AFDAD-36C2-4BB4-8DEB-EBB58412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E5066-89FF-4FD4-8214-0775D6B4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45721-7BC7-4FC1-8988-0D2670D4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36186-F59E-4A08-9234-1B0F8F75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35E3D-6020-4794-A5D8-74755C95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0978-AFC7-403C-89E7-EA492B52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A7A90-8A5A-4CE0-8E7E-807EEEA2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7AEAD-B892-46EE-8990-DD015375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0D65E-BE28-4F79-9030-F9A4EE0F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940-949A-4AE1-8E06-C46E8B4D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26F72-8662-42F2-A512-D4B79384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0DEC5-0E64-4377-B2AB-A5FEE371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799F9-0173-4063-BFDD-7522C76D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B3A43-C615-4E69-9755-41ED0E38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46E6A-A4A5-4CAB-A048-CE3B67AE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D7E42-FFC5-4199-B0CB-BD77C22F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DBFF6-FA18-49B2-80DA-DC3005F8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5DBFC-E0E5-40E2-936A-0719F1BB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70B2E-1696-497E-B64C-19722247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39E6E-8757-440A-83B5-8F368CC0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8F1-A063-4C75-ABC1-D073F668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08718-1B5A-43B3-92AF-AB45DCB5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12394-A95D-43C0-8180-2702D15E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0FE05-BD18-4222-90C0-FFBC8AB4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7E13E-A017-4964-B639-7FF20708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E9818-459D-4E0E-819A-7413C49F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947C6-AF39-4515-87E8-7C2B9FC0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B7812-9D7F-4156-976A-F885DE14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AE42E-AEF7-49F4-8021-7E03B7C1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1E9BC-4672-46C0-8AA1-F1E7D15D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78E57-B189-4EA8-9AD2-30C83DA6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373-331A-45C5-831F-A7DC6B05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E3ECC-E73C-4BAB-8F79-49E76402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42963-EE40-4C55-98C4-A187422E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66814-CC94-4305-A6B4-CB8D560D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72E5B-8517-4D29-B1DE-794029AB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1729C-6C45-406E-9F11-4DB1DA65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61D-140A-45D4-8BFB-3CFEE869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D781-0476-41F7-8A77-BEFF39C28985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5BF5-F880-4E22-8803-3D2C9D21BF4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4FB0-9ABA-4055-B9A2-AD06EEE52D9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395D-F97F-47C0-B48D-78C26C261938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1FB9-DA39-4063-82D2-45FABC0AE512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091B-A81C-4DDB-815F-C6ABB56923DF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D94D-DE6B-4469-B6EC-42423F314FE3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433440" y="2109960"/>
            <a:ext cx="8034120" cy="1468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56760" y="1714680"/>
            <a:ext cx="8572680" cy="4991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Conjunto de actividades que llevan a la definición y especificación de requisito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studio de factibilidad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nálisis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obtener los requisitos observando el sistema actual, discutiendo con usuario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esarrollo de modelos y prototipos del sistema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definición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traducción del producto del análisis a un documento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ocumento orientado a múltiples lectore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descripción detallada del sistema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base del contrato entre cliente y desarrolladores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25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rbel"/>
              </a:rPr>
              <a:t>en paralelo con el diseño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D863-A0B1-43A8-867F-C1A8963907F1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Line 20"/>
          <p:cNvSpPr/>
          <p:nvPr/>
        </p:nvSpPr>
        <p:spPr>
          <a:xfrm>
            <a:off x="57150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8"/>
          <p:cNvSpPr/>
          <p:nvPr/>
        </p:nvSpPr>
        <p:spPr>
          <a:xfrm>
            <a:off x="3505320" y="2666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sp>
        <p:nvSpPr>
          <p:cNvPr id="360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F487-270A-4BBC-941A-0DDCB4064245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AutoShape 3"/>
          <p:cNvGrpSpPr/>
          <p:nvPr/>
        </p:nvGrpSpPr>
        <p:grpSpPr>
          <a:xfrm>
            <a:off x="712800" y="1920960"/>
            <a:ext cx="2085840" cy="1176120"/>
            <a:chOff x="712800" y="1920960"/>
            <a:chExt cx="2085840" cy="1176120"/>
          </a:xfrm>
        </p:grpSpPr>
        <p:pic>
          <p:nvPicPr>
            <p:cNvPr id="362" name="AutoShape 3" descr=""/>
            <p:cNvPicPr/>
            <p:nvPr/>
          </p:nvPicPr>
          <p:blipFill>
            <a:blip r:embed="rId2"/>
            <a:stretch/>
          </p:blipFill>
          <p:spPr>
            <a:xfrm>
              <a:off x="712800" y="1920960"/>
              <a:ext cx="20858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98480" y="2008080"/>
              <a:ext cx="160020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tudi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Factibi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AutoShape 4"/>
          <p:cNvGrpSpPr/>
          <p:nvPr/>
        </p:nvGrpSpPr>
        <p:grpSpPr>
          <a:xfrm>
            <a:off x="2773440" y="1920960"/>
            <a:ext cx="2090520" cy="1176120"/>
            <a:chOff x="2773440" y="1920960"/>
            <a:chExt cx="2090520" cy="1176120"/>
          </a:xfrm>
        </p:grpSpPr>
        <p:pic>
          <p:nvPicPr>
            <p:cNvPr id="365" name="AutoShape 4" descr=""/>
            <p:cNvPicPr/>
            <p:nvPr/>
          </p:nvPicPr>
          <p:blipFill>
            <a:blip r:embed="rId3"/>
            <a:stretch/>
          </p:blipFill>
          <p:spPr>
            <a:xfrm>
              <a:off x="2773440" y="1920960"/>
              <a:ext cx="20905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855880" y="2008080"/>
              <a:ext cx="1603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Análisi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AutoShape 5"/>
          <p:cNvGrpSpPr/>
          <p:nvPr/>
        </p:nvGrpSpPr>
        <p:grpSpPr>
          <a:xfrm>
            <a:off x="4937040" y="2914560"/>
            <a:ext cx="2183040" cy="1176480"/>
            <a:chOff x="4937040" y="2914560"/>
            <a:chExt cx="2183040" cy="1176480"/>
          </a:xfrm>
        </p:grpSpPr>
        <p:pic>
          <p:nvPicPr>
            <p:cNvPr id="368" name="AutoShape 5" descr=""/>
            <p:cNvPicPr/>
            <p:nvPr/>
          </p:nvPicPr>
          <p:blipFill>
            <a:blip r:embed="rId4"/>
            <a:stretch/>
          </p:blipFill>
          <p:spPr>
            <a:xfrm>
              <a:off x="4937040" y="2914560"/>
              <a:ext cx="218304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5065560" y="2998800"/>
              <a:ext cx="160344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fini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6"/>
          <p:cNvGrpSpPr/>
          <p:nvPr/>
        </p:nvGrpSpPr>
        <p:grpSpPr>
          <a:xfrm>
            <a:off x="6907320" y="3902040"/>
            <a:ext cx="2352600" cy="1176480"/>
            <a:chOff x="6907320" y="3902040"/>
            <a:chExt cx="2352600" cy="1176480"/>
          </a:xfrm>
        </p:grpSpPr>
        <p:pic>
          <p:nvPicPr>
            <p:cNvPr id="371" name="AutoShape 6" descr=""/>
            <p:cNvPicPr/>
            <p:nvPr/>
          </p:nvPicPr>
          <p:blipFill>
            <a:blip r:embed="rId5"/>
            <a:stretch/>
          </p:blipFill>
          <p:spPr>
            <a:xfrm>
              <a:off x="6907320" y="3902040"/>
              <a:ext cx="23526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7122960" y="3989520"/>
              <a:ext cx="160344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pecif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3" name="AutoShape 7"/>
          <p:cNvCxnSpPr>
            <a:stCxn id="362" idx="3"/>
            <a:endCxn id="365" idx="1"/>
          </p:cNvCxnSpPr>
          <p:nvPr/>
        </p:nvCxnSpPr>
        <p:spPr>
          <a:xfrm>
            <a:off x="2435040" y="2352240"/>
            <a:ext cx="384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8"/>
          <p:cNvCxnSpPr>
            <a:stCxn id="365" idx="2"/>
            <a:endCxn id="368" idx="1"/>
          </p:cNvCxnSpPr>
          <p:nvPr/>
        </p:nvCxnSpPr>
        <p:spPr>
          <a:xfrm flipH="1" rot="16200000">
            <a:off x="4038480" y="2352240"/>
            <a:ext cx="61020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AutoShape 9"/>
          <p:cNvCxnSpPr>
            <a:stCxn id="368" idx="0"/>
            <a:endCxn id="365" idx="3"/>
          </p:cNvCxnSpPr>
          <p:nvPr/>
        </p:nvCxnSpPr>
        <p:spPr>
          <a:xfrm flipV="1" rot="16200000">
            <a:off x="4876200" y="1971000"/>
            <a:ext cx="61056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AutoShape 10"/>
          <p:cNvCxnSpPr>
            <a:stCxn id="368" idx="2"/>
            <a:endCxn id="371" idx="1"/>
          </p:cNvCxnSpPr>
          <p:nvPr/>
        </p:nvCxnSpPr>
        <p:spPr>
          <a:xfrm flipH="1" rot="16200000">
            <a:off x="6171120" y="3419280"/>
            <a:ext cx="610560" cy="1220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AutoShape 11"/>
          <p:cNvCxnSpPr>
            <a:stCxn id="371" idx="0"/>
            <a:endCxn id="368" idx="3"/>
          </p:cNvCxnSpPr>
          <p:nvPr/>
        </p:nvCxnSpPr>
        <p:spPr>
          <a:xfrm flipV="1" rot="16200000">
            <a:off x="7009920" y="3037680"/>
            <a:ext cx="61020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78" name="Rectangle 12"/>
          <p:cNvGrpSpPr/>
          <p:nvPr/>
        </p:nvGrpSpPr>
        <p:grpSpPr>
          <a:xfrm>
            <a:off x="712800" y="3749760"/>
            <a:ext cx="2090880" cy="1176120"/>
            <a:chOff x="712800" y="3749760"/>
            <a:chExt cx="2090880" cy="1176120"/>
          </a:xfrm>
        </p:grpSpPr>
        <p:pic>
          <p:nvPicPr>
            <p:cNvPr id="379" name="Rectangle 12" descr=""/>
            <p:cNvPicPr/>
            <p:nvPr/>
          </p:nvPicPr>
          <p:blipFill>
            <a:blip r:embed="rId6"/>
            <a:stretch/>
          </p:blipFill>
          <p:spPr>
            <a:xfrm>
              <a:off x="712800" y="3749760"/>
              <a:ext cx="20908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762120" y="380052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porte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Factibi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Rectangle 13"/>
          <p:cNvGrpSpPr/>
          <p:nvPr/>
        </p:nvGrpSpPr>
        <p:grpSpPr>
          <a:xfrm>
            <a:off x="2773440" y="4206960"/>
            <a:ext cx="2090520" cy="1176120"/>
            <a:chOff x="2773440" y="4206960"/>
            <a:chExt cx="2090520" cy="1176120"/>
          </a:xfrm>
        </p:grpSpPr>
        <p:pic>
          <p:nvPicPr>
            <p:cNvPr id="382" name="Rectangle 13" descr=""/>
            <p:cNvPicPr/>
            <p:nvPr/>
          </p:nvPicPr>
          <p:blipFill>
            <a:blip r:embed="rId7"/>
            <a:stretch/>
          </p:blipFill>
          <p:spPr>
            <a:xfrm>
              <a:off x="2773440" y="4206960"/>
              <a:ext cx="20905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819520" y="425772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ode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l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14"/>
          <p:cNvGrpSpPr/>
          <p:nvPr/>
        </p:nvGrpSpPr>
        <p:grpSpPr>
          <a:xfrm>
            <a:off x="2773440" y="5273640"/>
            <a:ext cx="2090520" cy="1176480"/>
            <a:chOff x="2773440" y="5273640"/>
            <a:chExt cx="2090520" cy="1176480"/>
          </a:xfrm>
        </p:grpSpPr>
        <p:pic>
          <p:nvPicPr>
            <p:cNvPr id="385" name="Rectangle 14" descr=""/>
            <p:cNvPicPr/>
            <p:nvPr/>
          </p:nvPicPr>
          <p:blipFill>
            <a:blip r:embed="rId8"/>
            <a:stretch/>
          </p:blipFill>
          <p:spPr>
            <a:xfrm>
              <a:off x="2773440" y="5273640"/>
              <a:ext cx="20905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819520" y="5324400"/>
              <a:ext cx="1676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Rectangle 15"/>
          <p:cNvGrpSpPr/>
          <p:nvPr/>
        </p:nvGrpSpPr>
        <p:grpSpPr>
          <a:xfrm>
            <a:off x="4932360" y="4664160"/>
            <a:ext cx="2181240" cy="1176120"/>
            <a:chOff x="4932360" y="4664160"/>
            <a:chExt cx="2181240" cy="1176120"/>
          </a:xfrm>
        </p:grpSpPr>
        <p:pic>
          <p:nvPicPr>
            <p:cNvPr id="388" name="Rectangle 15" descr=""/>
            <p:cNvPicPr/>
            <p:nvPr/>
          </p:nvPicPr>
          <p:blipFill>
            <a:blip r:embed="rId9"/>
            <a:stretch/>
          </p:blipFill>
          <p:spPr>
            <a:xfrm>
              <a:off x="4932360" y="4664160"/>
              <a:ext cx="21812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029200" y="4714920"/>
              <a:ext cx="1676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fini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Rectangle 16"/>
          <p:cNvGrpSpPr/>
          <p:nvPr/>
        </p:nvGrpSpPr>
        <p:grpSpPr>
          <a:xfrm>
            <a:off x="6907320" y="5211720"/>
            <a:ext cx="2352600" cy="1170000"/>
            <a:chOff x="6907320" y="5211720"/>
            <a:chExt cx="2352600" cy="1170000"/>
          </a:xfrm>
        </p:grpSpPr>
        <p:pic>
          <p:nvPicPr>
            <p:cNvPr id="391" name="Rectangle 16" descr=""/>
            <p:cNvPicPr/>
            <p:nvPr/>
          </p:nvPicPr>
          <p:blipFill>
            <a:blip r:embed="rId10"/>
            <a:stretch/>
          </p:blipFill>
          <p:spPr>
            <a:xfrm>
              <a:off x="6907320" y="5211720"/>
              <a:ext cx="23526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7086600" y="5257800"/>
              <a:ext cx="1676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Especif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3" name="AutoShape 17"/>
          <p:cNvCxnSpPr>
            <a:stCxn id="362" idx="2"/>
            <a:endCxn id="379" idx="0"/>
          </p:cNvCxnSpPr>
          <p:nvPr/>
        </p:nvCxnSpPr>
        <p:spPr>
          <a:xfrm>
            <a:off x="1598760" y="2733480"/>
            <a:ext cx="216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AutoShape 19"/>
          <p:cNvCxnSpPr>
            <a:stCxn id="382" idx="2"/>
            <a:endCxn id="385" idx="0"/>
          </p:cNvCxnSpPr>
          <p:nvPr/>
        </p:nvCxnSpPr>
        <p:spPr>
          <a:xfrm flipH="1">
            <a:off x="3657240" y="5018040"/>
            <a:ext cx="216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AutoShape 21"/>
          <p:cNvCxnSpPr>
            <a:stCxn id="388" idx="2"/>
            <a:endCxn id="385" idx="3"/>
          </p:cNvCxnSpPr>
          <p:nvPr/>
        </p:nvCxnSpPr>
        <p:spPr>
          <a:xfrm rot="5400000">
            <a:off x="5065920" y="4902840"/>
            <a:ext cx="230760" cy="13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Line 22"/>
          <p:cNvSpPr/>
          <p:nvPr/>
        </p:nvSpPr>
        <p:spPr>
          <a:xfrm flipH="1">
            <a:off x="4495320" y="5791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AutoShape 23"/>
          <p:cNvCxnSpPr>
            <a:stCxn id="371" idx="2"/>
            <a:endCxn id="391" idx="0"/>
          </p:cNvCxnSpPr>
          <p:nvPr/>
        </p:nvCxnSpPr>
        <p:spPr>
          <a:xfrm flipH="1">
            <a:off x="7922520" y="4716360"/>
            <a:ext cx="39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9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SRS: Software Requirements Specific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eclaración oficial de lo que hará el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Qué es los que el sistema debe hacer sin indicar có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Debe ser suficientemente específico como para poder relacionar los requisitos con la funcionalidad del sistema final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4D2C-27FC-42E0-99C7-7AEFDA14715D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608400" y="2144880"/>
            <a:ext cx="18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Docume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3445560" y="217980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Defini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11000" y="2179800"/>
            <a:ext cx="216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Especificació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70c0"/>
                </a:solidFill>
                <a:latin typeface="Arial"/>
              </a:rPr>
              <a:t>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2820960" y="2249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640120" y="2249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80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l documento debe ser completo y consistent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todas las funciones deben ser incluidas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no debe haber conflict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ebe ser fácilmente modificable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errores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evolución de los requisit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34304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Características necesaria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solamente comportamiento externo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stricciones a la implementación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fácilmente modificable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útil como referencia para los encargados del mantenimiento del sistema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gistro de reflexiones acerca de futura evolución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rbel"/>
              </a:rPr>
              <a:t>respuestas aceptable a eventos inesperado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BC01-2A05-401D-BF4D-B644B2C59BA7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scripción general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funcionalidad e interacción con otros sistemas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inserción en la empresa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losari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finición de términ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Modelos del Siste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iagramas de relación del sistema con el ambient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finición de Requisitos Funciona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servicios del sistem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iagramas y explicació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Definición de Requisitos No Funciona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volución del Siste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cambios que se anticipa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Especificación de Requisito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detalle de la funcionalidad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rbel"/>
              </a:rPr>
              <a:t>funciones, datos, dinámica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2DFD-5341-494D-B383-9DA8B43F008C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99680" y="1785960"/>
            <a:ext cx="8077320" cy="4805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El documento de requisitos debe expresar lo que el cliente realmente necesita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Si existe errores, estos se propagan al diseño y a la implementació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La corrección es más cara cuanto más tarde se detecte el err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100 veces más caro corregir un error de requisitos después de entregado el sistema que corregir el documento de requisi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Corbel"/>
              </a:rPr>
              <a:t>La validación debe hacerse con el cliente/usuario a medida que se construye el documento de requisito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visiones y “caminatas”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1EA2-D351-4495-AC46-BA1859626707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5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6094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Validez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a funcionalidad especificada es aceptada por todos los usuari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nsistencia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no existen conflictos entre los requisit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pleto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todas las funciones y restricciones están incluida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Factibilidad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requisitos realizables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mejoras esperables realista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Verific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os requisitos pueden ser verificados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Comprensi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claridad de expresió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Rastre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origen de los requisitos (evolución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daptable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rbel"/>
              </a:rPr>
              <a:t>los cambios no afectan el sistema completo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54A1-A599-46CA-A463-7D3E77B1FF2B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comprensión del sistema avanza a medida que se analizan los requisit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El tiempo de desarrollo de grandes sistemas puede ser varios añ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El ambiente cambia y afecta los requisit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lases de requisit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duraderos: relativos a actividades esenciale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rbel"/>
              </a:rPr>
              <a:t>volátiles: requisitos propensos a cambi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1A06-EE27-4AAC-8902-714419262D06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Mutable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ambios en el ambiente organizacional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Emergente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la comprensión profunda del sistema trae a la luz estos requisi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Consecuencia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la implantación del sistema trae nuevos requisi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Compatibilidad:</a:t>
            </a:r>
            <a:r>
              <a:rPr b="0" lang="es-ES_tradnl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ambios en otros sistemas con los que se interactúa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D124-78DC-4315-99C9-4A920F6CBAEB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8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2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9A50-AF91-4FF8-A4C8-37AA8C0E23A5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26 Grupo"/>
          <p:cNvGrpSpPr/>
          <p:nvPr/>
        </p:nvGrpSpPr>
        <p:grpSpPr>
          <a:xfrm>
            <a:off x="990720" y="1981080"/>
            <a:ext cx="1923840" cy="1757520"/>
            <a:chOff x="990720" y="1981080"/>
            <a:chExt cx="1923840" cy="1757520"/>
          </a:xfrm>
        </p:grpSpPr>
        <p:grpSp>
          <p:nvGrpSpPr>
            <p:cNvPr id="430" name="Rectangle 3"/>
            <p:cNvGrpSpPr/>
            <p:nvPr/>
          </p:nvGrpSpPr>
          <p:grpSpPr>
            <a:xfrm>
              <a:off x="990720" y="1981080"/>
              <a:ext cx="1923840" cy="785880"/>
              <a:chOff x="990720" y="1981080"/>
              <a:chExt cx="1923840" cy="785880"/>
            </a:xfrm>
          </p:grpSpPr>
          <p:pic>
            <p:nvPicPr>
              <p:cNvPr id="431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1981080"/>
                <a:ext cx="19238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"/>
              <p:cNvSpPr/>
              <p:nvPr/>
            </p:nvSpPr>
            <p:spPr>
              <a:xfrm>
                <a:off x="1028160" y="2039400"/>
                <a:ext cx="158544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Rectangle 4"/>
            <p:cNvGrpSpPr/>
            <p:nvPr/>
          </p:nvGrpSpPr>
          <p:grpSpPr>
            <a:xfrm>
              <a:off x="990720" y="2952720"/>
              <a:ext cx="1923840" cy="785880"/>
              <a:chOff x="990720" y="2952720"/>
              <a:chExt cx="1923840" cy="785880"/>
            </a:xfrm>
          </p:grpSpPr>
          <p:pic>
            <p:nvPicPr>
              <p:cNvPr id="434" name="Rectangl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952720"/>
                <a:ext cx="19238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1028160" y="3013560"/>
                <a:ext cx="1585440" cy="4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6" name="AutoShape 6" descr=""/>
            <p:cNvPicPr/>
            <p:nvPr/>
          </p:nvPicPr>
          <p:blipFill>
            <a:blip r:embed="rId4"/>
            <a:stretch/>
          </p:blipFill>
          <p:spPr>
            <a:xfrm>
              <a:off x="1749240" y="2435040"/>
              <a:ext cx="40176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29 Grupo"/>
          <p:cNvGrpSpPr/>
          <p:nvPr/>
        </p:nvGrpSpPr>
        <p:grpSpPr>
          <a:xfrm>
            <a:off x="2914560" y="3197160"/>
            <a:ext cx="2494080" cy="541440"/>
            <a:chOff x="2914560" y="3197160"/>
            <a:chExt cx="2494080" cy="541440"/>
          </a:xfrm>
        </p:grpSpPr>
        <p:grpSp>
          <p:nvGrpSpPr>
            <p:cNvPr id="438" name="Rectangle 5"/>
            <p:cNvGrpSpPr/>
            <p:nvPr/>
          </p:nvGrpSpPr>
          <p:grpSpPr>
            <a:xfrm>
              <a:off x="3405960" y="3197160"/>
              <a:ext cx="2002680" cy="541440"/>
              <a:chOff x="3405960" y="3197160"/>
              <a:chExt cx="2002680" cy="541440"/>
            </a:xfrm>
          </p:grpSpPr>
          <p:pic>
            <p:nvPicPr>
              <p:cNvPr id="439" name="Rectangl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405960" y="3197160"/>
                <a:ext cx="20026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3445560" y="3238920"/>
                <a:ext cx="1650600" cy="29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AutoShape 7" descr=""/>
            <p:cNvPicPr/>
            <p:nvPr/>
          </p:nvPicPr>
          <p:blipFill>
            <a:blip r:embed="rId6"/>
            <a:stretch/>
          </p:blipFill>
          <p:spPr>
            <a:xfrm>
              <a:off x="2914560" y="3341520"/>
              <a:ext cx="878400" cy="26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22"/>
          <p:cNvGrpSpPr/>
          <p:nvPr/>
        </p:nvGrpSpPr>
        <p:grpSpPr>
          <a:xfrm>
            <a:off x="2857680" y="2286000"/>
            <a:ext cx="2359080" cy="835200"/>
            <a:chOff x="2857680" y="2286000"/>
            <a:chExt cx="2359080" cy="835200"/>
          </a:xfrm>
        </p:grpSpPr>
        <p:sp>
          <p:nvSpPr>
            <p:cNvPr id="443" name="Text Box 8"/>
            <p:cNvSpPr/>
            <p:nvPr/>
          </p:nvSpPr>
          <p:spPr>
            <a:xfrm>
              <a:off x="3737520" y="2286000"/>
              <a:ext cx="147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mbio en 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 flipH="1">
              <a:off x="2857680" y="2714760"/>
              <a:ext cx="78408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30 Grupo"/>
          <p:cNvGrpSpPr/>
          <p:nvPr/>
        </p:nvGrpSpPr>
        <p:grpSpPr>
          <a:xfrm>
            <a:off x="5276880" y="5935680"/>
            <a:ext cx="2494080" cy="541440"/>
            <a:chOff x="5276880" y="5935680"/>
            <a:chExt cx="2494080" cy="541440"/>
          </a:xfrm>
        </p:grpSpPr>
        <p:grpSp>
          <p:nvGrpSpPr>
            <p:cNvPr id="446" name="Rectangle 12"/>
            <p:cNvGrpSpPr/>
            <p:nvPr/>
          </p:nvGrpSpPr>
          <p:grpSpPr>
            <a:xfrm>
              <a:off x="5730480" y="5935680"/>
              <a:ext cx="2040480" cy="541440"/>
              <a:chOff x="5730480" y="5935680"/>
              <a:chExt cx="2040480" cy="541440"/>
            </a:xfrm>
          </p:grpSpPr>
          <p:pic>
            <p:nvPicPr>
              <p:cNvPr id="447" name="Rectangl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5730480" y="5935680"/>
                <a:ext cx="20404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5773320" y="5977800"/>
                <a:ext cx="167724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49" name="AutoShape 14"/>
            <p:cNvCxnSpPr>
              <a:stCxn id="450" idx="3"/>
              <a:endCxn id="447" idx="1"/>
            </p:cNvCxnSpPr>
            <p:nvPr/>
          </p:nvCxnSpPr>
          <p:spPr>
            <a:xfrm>
              <a:off x="5276880" y="6126480"/>
              <a:ext cx="497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51" name="28 Grupo"/>
          <p:cNvGrpSpPr/>
          <p:nvPr/>
        </p:nvGrpSpPr>
        <p:grpSpPr>
          <a:xfrm>
            <a:off x="5276880" y="4719600"/>
            <a:ext cx="2494080" cy="541440"/>
            <a:chOff x="5276880" y="4719600"/>
            <a:chExt cx="2494080" cy="541440"/>
          </a:xfrm>
        </p:grpSpPr>
        <p:grpSp>
          <p:nvGrpSpPr>
            <p:cNvPr id="452" name="Rectangle 15"/>
            <p:cNvGrpSpPr/>
            <p:nvPr/>
          </p:nvGrpSpPr>
          <p:grpSpPr>
            <a:xfrm>
              <a:off x="5730480" y="4719600"/>
              <a:ext cx="2040480" cy="541440"/>
              <a:chOff x="5730480" y="4719600"/>
              <a:chExt cx="2040480" cy="541440"/>
            </a:xfrm>
          </p:grpSpPr>
          <p:pic>
            <p:nvPicPr>
              <p:cNvPr id="453" name="Rectangl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30480" y="4719600"/>
                <a:ext cx="204048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>
                <a:off x="5773320" y="4760640"/>
                <a:ext cx="1677240" cy="29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55" name="AutoShape 16"/>
            <p:cNvCxnSpPr>
              <a:stCxn id="456" idx="3"/>
              <a:endCxn id="453" idx="1"/>
            </p:cNvCxnSpPr>
            <p:nvPr/>
          </p:nvCxnSpPr>
          <p:spPr>
            <a:xfrm>
              <a:off x="5276880" y="4910040"/>
              <a:ext cx="497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57" name="AutoShape 17"/>
          <p:cNvCxnSpPr>
            <a:stCxn id="453" idx="2"/>
            <a:endCxn id="447" idx="0"/>
          </p:cNvCxnSpPr>
          <p:nvPr/>
        </p:nvCxnSpPr>
        <p:spPr>
          <a:xfrm>
            <a:off x="6808320" y="5261040"/>
            <a:ext cx="1080" cy="67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8" name="27 Grupo"/>
          <p:cNvGrpSpPr/>
          <p:nvPr/>
        </p:nvGrpSpPr>
        <p:grpSpPr>
          <a:xfrm>
            <a:off x="3352680" y="4719600"/>
            <a:ext cx="1924200" cy="1757520"/>
            <a:chOff x="3352680" y="4719600"/>
            <a:chExt cx="1924200" cy="1757520"/>
          </a:xfrm>
        </p:grpSpPr>
        <p:grpSp>
          <p:nvGrpSpPr>
            <p:cNvPr id="459" name="Rectangle 10"/>
            <p:cNvGrpSpPr/>
            <p:nvPr/>
          </p:nvGrpSpPr>
          <p:grpSpPr>
            <a:xfrm>
              <a:off x="3352680" y="4719600"/>
              <a:ext cx="1924200" cy="783720"/>
              <a:chOff x="3352680" y="4719600"/>
              <a:chExt cx="1924200" cy="783720"/>
            </a:xfrm>
          </p:grpSpPr>
          <p:pic>
            <p:nvPicPr>
              <p:cNvPr id="460" name="Rectangle 10" descr=""/>
              <p:cNvPicPr/>
              <p:nvPr/>
            </p:nvPicPr>
            <p:blipFill>
              <a:blip r:embed="rId9"/>
              <a:stretch/>
            </p:blipFill>
            <p:spPr>
              <a:xfrm>
                <a:off x="3352680" y="4719600"/>
                <a:ext cx="1924200" cy="78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3392640" y="4779000"/>
                <a:ext cx="158184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ocumento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Requisitos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Rectangle 11"/>
            <p:cNvGrpSpPr/>
            <p:nvPr/>
          </p:nvGrpSpPr>
          <p:grpSpPr>
            <a:xfrm>
              <a:off x="3352680" y="5688360"/>
              <a:ext cx="1924200" cy="788760"/>
              <a:chOff x="3352680" y="5688360"/>
              <a:chExt cx="1924200" cy="788760"/>
            </a:xfrm>
          </p:grpSpPr>
          <p:pic>
            <p:nvPicPr>
              <p:cNvPr id="463" name="Rectangle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52680" y="5688360"/>
                <a:ext cx="1924200" cy="78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3392640" y="5749920"/>
                <a:ext cx="158184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Implementació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Arial"/>
                  </a:rPr>
                  <a:t>del Sistema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AutoShape 13" descr=""/>
            <p:cNvPicPr/>
            <p:nvPr/>
          </p:nvPicPr>
          <p:blipFill>
            <a:blip r:embed="rId11"/>
            <a:stretch/>
          </p:blipFill>
          <p:spPr>
            <a:xfrm>
              <a:off x="4114440" y="5172120"/>
              <a:ext cx="400680" cy="90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Group 27"/>
          <p:cNvGrpSpPr/>
          <p:nvPr/>
        </p:nvGrpSpPr>
        <p:grpSpPr>
          <a:xfrm>
            <a:off x="5276880" y="3816360"/>
            <a:ext cx="2359080" cy="834480"/>
            <a:chOff x="5276880" y="3816360"/>
            <a:chExt cx="2359080" cy="834480"/>
          </a:xfrm>
        </p:grpSpPr>
        <p:sp>
          <p:nvSpPr>
            <p:cNvPr id="467" name="Text Box 18"/>
            <p:cNvSpPr/>
            <p:nvPr/>
          </p:nvSpPr>
          <p:spPr>
            <a:xfrm>
              <a:off x="6156720" y="3816360"/>
              <a:ext cx="147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mbio en l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9"/>
            <p:cNvSpPr/>
            <p:nvPr/>
          </p:nvSpPr>
          <p:spPr>
            <a:xfrm flipH="1">
              <a:off x="5276880" y="4246200"/>
              <a:ext cx="78408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oceso mediante el cual se establecen los servicios que el sistema debe brindar y las restricciones que debe cumplir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Es un proceso sistemático para derivar la definición del sistema a ser construid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0D80-1726-41FC-AB9D-397EF0EB2294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AutoShape 4"/>
          <p:cNvGrpSpPr/>
          <p:nvPr/>
        </p:nvGrpSpPr>
        <p:grpSpPr>
          <a:xfrm>
            <a:off x="334800" y="4456080"/>
            <a:ext cx="3310200" cy="2305080"/>
            <a:chOff x="334800" y="4456080"/>
            <a:chExt cx="3310200" cy="2305080"/>
          </a:xfrm>
        </p:grpSpPr>
        <p:pic>
          <p:nvPicPr>
            <p:cNvPr id="316" name="AutoShape 4" descr=""/>
            <p:cNvPicPr/>
            <p:nvPr/>
          </p:nvPicPr>
          <p:blipFill>
            <a:blip r:embed="rId2"/>
            <a:stretch/>
          </p:blipFill>
          <p:spPr>
            <a:xfrm>
              <a:off x="334800" y="4456080"/>
              <a:ext cx="3310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79400" y="4772160"/>
              <a:ext cx="1892520" cy="11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Neces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l 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5"/>
          <p:cNvGrpSpPr/>
          <p:nvPr/>
        </p:nvGrpSpPr>
        <p:grpSpPr>
          <a:xfrm>
            <a:off x="6199200" y="4675320"/>
            <a:ext cx="2627280" cy="2017440"/>
            <a:chOff x="6199200" y="4675320"/>
            <a:chExt cx="2627280" cy="2017440"/>
          </a:xfrm>
        </p:grpSpPr>
        <p:pic>
          <p:nvPicPr>
            <p:cNvPr id="319" name="Rectangle 5" descr=""/>
            <p:cNvPicPr/>
            <p:nvPr/>
          </p:nvPicPr>
          <p:blipFill>
            <a:blip r:embed="rId3"/>
            <a:stretch/>
          </p:blipFill>
          <p:spPr>
            <a:xfrm>
              <a:off x="6199200" y="4675320"/>
              <a:ext cx="262728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248520" y="4724280"/>
              <a:ext cx="22096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ocu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Group 9" descr=""/>
          <p:cNvPicPr/>
          <p:nvPr/>
        </p:nvPicPr>
        <p:blipFill>
          <a:blip r:embed="rId4"/>
          <a:stretch/>
        </p:blipFill>
        <p:spPr>
          <a:xfrm>
            <a:off x="3303720" y="4572000"/>
            <a:ext cx="3157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quisitos Funciona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rvicios o funciones ofrecid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quisitos No Funciona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otras cualidades del sistem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Restricciones al Proceso de Desarroll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BDEC-841F-465A-A546-647619995490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2361960" y="213372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abstracta de lo que el sistema debe hac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matemática y formal de las funciones del sistem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D3F5-F3B4-4E2B-AC04-75BC12662D56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AutoShape 4"/>
          <p:cNvGrpSpPr/>
          <p:nvPr/>
        </p:nvGrpSpPr>
        <p:grpSpPr>
          <a:xfrm>
            <a:off x="1627200" y="1706400"/>
            <a:ext cx="1103400" cy="4224600"/>
            <a:chOff x="1627200" y="1706400"/>
            <a:chExt cx="1103400" cy="4224600"/>
          </a:xfrm>
        </p:grpSpPr>
        <p:pic>
          <p:nvPicPr>
            <p:cNvPr id="329" name="AutoShape 4" descr=""/>
            <p:cNvPicPr/>
            <p:nvPr/>
          </p:nvPicPr>
          <p:blipFill>
            <a:blip r:embed="rId2"/>
            <a:stretch/>
          </p:blipFill>
          <p:spPr>
            <a:xfrm>
              <a:off x="1627200" y="1706400"/>
              <a:ext cx="1103400" cy="422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847880" y="2228760"/>
              <a:ext cx="342720" cy="33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 Box 5"/>
          <p:cNvSpPr/>
          <p:nvPr/>
        </p:nvSpPr>
        <p:spPr>
          <a:xfrm rot="16200000">
            <a:off x="304560" y="358776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st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orbel"/>
              </a:rPr>
              <a:t>En un llamado a licitación de un gran proyecto de software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Se debe definir las necesidades en forma suficientemente abstracta para que la solución no esté predefinida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os requisitos deben escribirse de modo que varios contratistas puedan competir por el contrato, ofreciendo quizás diferentes formas de lograr los objetivos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Una vez que la licitación es otorgada, el contratista debe escribir la definición del sistema para el cliente en más detalle para que el cliente entienda y pueda validar lo que el software finalmente hará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Ambos documentos pueden llamarse documento de requisitos del sistem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088D-471E-4409-A668-FD2E245685B0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8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rvicios que se espera del sistema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restricciones de oper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enguaje natural y diagrama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gerencia del client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usuarios finales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s del client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gerencia de desarrollo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rquitectos del sistema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FFF8-019A-4F74-B1FE-FBB97A5828A9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4 Llamada rectangular redondeada"/>
          <p:cNvGrpSpPr/>
          <p:nvPr/>
        </p:nvGrpSpPr>
        <p:grpSpPr>
          <a:xfrm>
            <a:off x="2865600" y="1663560"/>
            <a:ext cx="6357600" cy="1914840"/>
            <a:chOff x="2865600" y="1663560"/>
            <a:chExt cx="6357600" cy="1914840"/>
          </a:xfrm>
        </p:grpSpPr>
        <p:pic>
          <p:nvPicPr>
            <p:cNvPr id="339" name="4 Llamada rectangular redondeada" descr=""/>
            <p:cNvPicPr/>
            <p:nvPr/>
          </p:nvPicPr>
          <p:blipFill>
            <a:blip r:embed="rId2"/>
            <a:stretch/>
          </p:blipFill>
          <p:spPr>
            <a:xfrm>
              <a:off x="2865600" y="1663560"/>
              <a:ext cx="635760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6716880" y="1787400"/>
              <a:ext cx="206820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rbel"/>
                </a:rPr>
                <a:t>La información la brinda el cl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5 Llamada rectangular redondeada"/>
          <p:cNvGrpSpPr/>
          <p:nvPr/>
        </p:nvGrpSpPr>
        <p:grpSpPr>
          <a:xfrm>
            <a:off x="2639880" y="3597120"/>
            <a:ext cx="4724640" cy="1913040"/>
            <a:chOff x="2639880" y="3597120"/>
            <a:chExt cx="4724640" cy="1913040"/>
          </a:xfrm>
        </p:grpSpPr>
        <p:pic>
          <p:nvPicPr>
            <p:cNvPr id="342" name="5 Llamada rectangular redondeada" descr=""/>
            <p:cNvPicPr/>
            <p:nvPr/>
          </p:nvPicPr>
          <p:blipFill>
            <a:blip r:embed="rId3"/>
            <a:stretch/>
          </p:blipFill>
          <p:spPr>
            <a:xfrm>
              <a:off x="2639880" y="3597120"/>
              <a:ext cx="472464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859280" y="3716280"/>
              <a:ext cx="206856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orbel"/>
                </a:rPr>
                <a:t>Cada uno tiene un rol difer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talle de los servicios del siste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enguaje más formal y precis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base del contrato entre desarrolladores y cli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suarios finale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ingenieros del client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rquitectos del siste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arrollador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7320-8D5F-4D43-B66B-AA11D190283C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cripción abstracta del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base para el diseño y  la implement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grega detalles técnic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Usuario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ingenieros del client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rquitectos del sistem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sarrollador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EB4F-B814-4D89-AC09-AEC5E7EC27CD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285840" y="1774440"/>
            <a:ext cx="8572320" cy="422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En sistemas grandes y complejos los requisitos nunca están completos al iniciar el desarrollo del proyecto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espera que mejoren la situación actual (sistema manual o anticuado); no se sabe bien en qué dirección mejorar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usuarios múltiples y diversos con distintas necesidades y prioridades; el sistema final será un compromiso;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quien paga por el sistema no es habitualmente quien lo va a usar; las restricciones de presupuesto se contraponen a las necesidades de los usuari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9D10-48E8-4B23-B49C-B5ECE678F5F6}" type="slidenum">
              <a:rPr b="0" lang="es-CL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Group 8" descr=""/>
          <p:cNvPicPr/>
          <p:nvPr/>
        </p:nvPicPr>
        <p:blipFill>
          <a:blip r:embed="rId2"/>
          <a:stretch/>
        </p:blipFill>
        <p:spPr>
          <a:xfrm>
            <a:off x="3017880" y="5803920"/>
            <a:ext cx="623556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06T13:47:04Z</cp:lastPrinted>
  <dcterms:modified xsi:type="dcterms:W3CDTF">2010-08-31T14:59:10Z</dcterms:modified>
  <cp:revision>143</cp:revision>
  <dc:subject/>
  <dc:title>CC31B: Desarrollo de Software de Aplicaciones</dc:title>
</cp:coreProperties>
</file>