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66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23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move the slide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A1D5B-FA25-4B0D-88CA-D1FC3A40EAD3}" type="slidenum">
              <a:rPr b="0" lang="es-C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Arial"/>
              </a:rPr>
              <a:t>N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A4AEF-482A-4EC4-AC79-1D3C5B5004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D0BAE-62D8-42B1-A87C-F5C248F31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3A84-3F61-4FE5-80B0-6046536023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D3996-C004-44B6-A76E-A2B287A5B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E4D46B-6EA8-42C7-835C-8C95D4CD08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A8846-DDF2-4FBC-983A-F551B44435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EA94AA-8533-4B1E-9598-0B21041E2C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C690D-817C-48EE-B9C3-AEE09CA955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5C80-BE5B-4BCA-8F6A-DB19A87FD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E45C8E-CA60-4F90-AE2D-BCC39BE64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8F85-8B4F-43E9-9427-1A18596B59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7FB1-3194-41B2-8AC5-9007EE2F5E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5149E1-12AC-43E7-9FC2-0AE7054FB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6858A3-81AA-49E3-9C94-B8C3DBFBB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22CC4D-8D8E-4440-9EC8-917B57FCBA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0F5866-E070-4D28-9273-8D381DF4FA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109025-C4FA-4953-84B8-6BCE48B741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FDDEA-FD40-4870-9AC8-8808E4A21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E8C2F-B7A6-49BE-B24F-7501069F3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2C1F-9346-4BB2-B79C-5BEF05D6B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E655-E517-427F-923D-9510B0B4B6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1459-68FC-45B4-901E-BA1F43D70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ECC12-6AC5-47F8-855C-E37A389110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00147F-9E15-4A9C-A6A0-54896CE1E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5DD0B-A299-441A-9293-02D5F1A8F884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228600" cy="2286000"/>
          </a:xfrm>
          <a:prstGeom prst="rect">
            <a:avLst/>
          </a:prstGeom>
          <a:solidFill>
            <a:srgbClr val="6666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"/>
          <p:cNvSpPr/>
          <p:nvPr/>
        </p:nvSpPr>
        <p:spPr>
          <a:xfrm>
            <a:off x="457200" y="1447920"/>
            <a:ext cx="8077320" cy="0"/>
          </a:xfrm>
          <a:prstGeom prst="line">
            <a:avLst/>
          </a:prstGeom>
          <a:ln w="19080">
            <a:solidFill>
              <a:srgbClr val="99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"/>
          <p:cNvSpPr/>
          <p:nvPr/>
        </p:nvSpPr>
        <p:spPr>
          <a:xfrm>
            <a:off x="0" y="2286000"/>
            <a:ext cx="228600" cy="2286000"/>
          </a:xfrm>
          <a:prstGeom prst="rect">
            <a:avLst/>
          </a:prstGeom>
          <a:solidFill>
            <a:srgbClr val="cccc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"/>
          <p:cNvSpPr/>
          <p:nvPr/>
        </p:nvSpPr>
        <p:spPr>
          <a:xfrm>
            <a:off x="0" y="4572000"/>
            <a:ext cx="228600" cy="2286000"/>
          </a:xfrm>
          <a:prstGeom prst="rect">
            <a:avLst/>
          </a:prstGeom>
          <a:solidFill>
            <a:srgbClr val="99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800" spc="-1" strike="noStrike">
                <a:solidFill>
                  <a:srgbClr val="999900"/>
                </a:solidFill>
                <a:latin typeface="Garamond"/>
              </a:rPr>
              <a:t>Click to edit the title text format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6C878D-1D9E-47DD-9BE9-206F983E26C7}" type="slidenum">
              <a:rPr b="0" lang="en-US" sz="10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889360"/>
            <a:ext cx="8610480" cy="201600"/>
            <a:chOff x="228600" y="2889360"/>
            <a:chExt cx="8610480" cy="201600"/>
          </a:xfrm>
        </p:grpSpPr>
        <p:sp>
          <p:nvSpPr>
            <p:cNvPr id="50" name=""/>
            <p:cNvSpPr/>
            <p:nvPr/>
          </p:nvSpPr>
          <p:spPr>
            <a:xfrm>
              <a:off x="228600" y="2889360"/>
              <a:ext cx="2870280" cy="201600"/>
            </a:xfrm>
            <a:prstGeom prst="rect">
              <a:avLst/>
            </a:prstGeom>
            <a:solidFill>
              <a:srgbClr val="66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098880" y="2889360"/>
              <a:ext cx="2870280" cy="2016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969160" y="2889360"/>
              <a:ext cx="2869920" cy="201600"/>
            </a:xfrm>
            <a:prstGeom prst="rect">
              <a:avLst/>
            </a:prstGeom>
            <a:solidFill>
              <a:srgbClr val="99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914400" algn="ctr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3" marL="1371600" algn="ctr">
              <a:spcBef>
                <a:spcPts val="451"/>
              </a:spcBef>
              <a:buClr>
                <a:srgbClr val="6666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1828800" algn="ctr">
              <a:spcBef>
                <a:spcPts val="451"/>
              </a:spcBef>
              <a:buClr>
                <a:srgbClr val="999900"/>
              </a:buClr>
              <a:buSzPct val="8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stemas Distribuidos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270240"/>
            <a:ext cx="640080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avier Bustos Jiménez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000" spc="-1" strike="noStrike">
                <a:solidFill>
                  <a:srgbClr val="000000"/>
                </a:solidFill>
                <a:latin typeface="Verdana"/>
              </a:rPr>
              <a:t>jbustos@dcc.uchile.cl</a:t>
            </a: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caus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80773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Not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(a ocurre antes que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finición (Lamport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 y b son eventos en el mismo procesador, y a ocurre antes que b, entonces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 es un evento de enviar un mensaje por un proceso y b es el evento de recibir ese mensaje por otro proceso, entonc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es verdader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 mensaje toma un tiempo finito mayor que cero en lleg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 y b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 son verdaderos, entonces también lo es a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n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, ni b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son verdaderos, se dice que los eventos a y b son concurrentes (paralelo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Ordenamiento de event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mantiene una variable entera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(reloj lógic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P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genera un evento,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=LC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Verdana"/>
              </a:rPr>
              <a:t>P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+1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envía un mensaje incluye el valor de su reloj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uando un proces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recibe un mensaj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con un valor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=max(LC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Q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,t)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1219320" y="2133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1219320" y="2590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1219320" y="3048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219320" y="3505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219320" y="3962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219320" y="44197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1219320" y="48769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53341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57913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219320" y="6248520"/>
            <a:ext cx="65530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jemplo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lógic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246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7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48" name=""/>
          <p:cNvGraphicFramePr/>
          <p:nvPr/>
        </p:nvGraphicFramePr>
        <p:xfrm>
          <a:off x="6858000" y="1676520"/>
          <a:ext cx="685800" cy="495144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0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pSp>
        <p:nvGrpSpPr>
          <p:cNvPr id="249" name=""/>
          <p:cNvGrpSpPr/>
          <p:nvPr/>
        </p:nvGrpSpPr>
        <p:grpSpPr>
          <a:xfrm>
            <a:off x="2209680" y="2286000"/>
            <a:ext cx="1981440" cy="533520"/>
            <a:chOff x="2209680" y="2286000"/>
            <a:chExt cx="1981440" cy="533520"/>
          </a:xfrm>
        </p:grpSpPr>
        <p:sp>
          <p:nvSpPr>
            <p:cNvPr id="250" name=""/>
            <p:cNvSpPr/>
            <p:nvPr/>
          </p:nvSpPr>
          <p:spPr>
            <a:xfrm>
              <a:off x="2209680" y="2362320"/>
              <a:ext cx="198144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3130560" y="2286000"/>
              <a:ext cx="326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" name=""/>
          <p:cNvGrpSpPr/>
          <p:nvPr/>
        </p:nvGrpSpPr>
        <p:grpSpPr>
          <a:xfrm>
            <a:off x="4876920" y="3138480"/>
            <a:ext cx="1904760" cy="595440"/>
            <a:chOff x="4876920" y="3138480"/>
            <a:chExt cx="1904760" cy="595440"/>
          </a:xfrm>
        </p:grpSpPr>
        <p:sp>
          <p:nvSpPr>
            <p:cNvPr id="253" name=""/>
            <p:cNvSpPr/>
            <p:nvPr/>
          </p:nvSpPr>
          <p:spPr>
            <a:xfrm>
              <a:off x="4876920" y="3276720"/>
              <a:ext cx="190476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5685480" y="3138480"/>
              <a:ext cx="330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B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5" name=""/>
          <p:cNvGrpSpPr/>
          <p:nvPr/>
        </p:nvGrpSpPr>
        <p:grpSpPr>
          <a:xfrm>
            <a:off x="4952880" y="4510080"/>
            <a:ext cx="1828800" cy="595440"/>
            <a:chOff x="4952880" y="4510080"/>
            <a:chExt cx="1828800" cy="595440"/>
          </a:xfrm>
        </p:grpSpPr>
        <p:sp>
          <p:nvSpPr>
            <p:cNvPr id="256" name=""/>
            <p:cNvSpPr/>
            <p:nvPr/>
          </p:nvSpPr>
          <p:spPr>
            <a:xfrm flipH="1">
              <a:off x="4952880" y="4648320"/>
              <a:ext cx="1828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5648040" y="4510080"/>
              <a:ext cx="325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" name=""/>
          <p:cNvGrpSpPr/>
          <p:nvPr/>
        </p:nvGrpSpPr>
        <p:grpSpPr>
          <a:xfrm>
            <a:off x="2286000" y="5486400"/>
            <a:ext cx="1905120" cy="533520"/>
            <a:chOff x="2286000" y="5486400"/>
            <a:chExt cx="1905120" cy="533520"/>
          </a:xfrm>
        </p:grpSpPr>
        <p:sp>
          <p:nvSpPr>
            <p:cNvPr id="259" name=""/>
            <p:cNvSpPr/>
            <p:nvPr/>
          </p:nvSpPr>
          <p:spPr>
            <a:xfrm flipH="1">
              <a:off x="2286000" y="5562720"/>
              <a:ext cx="190512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3013920" y="5486400"/>
              <a:ext cx="3484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261" name=""/>
          <p:cNvGraphicFramePr/>
          <p:nvPr/>
        </p:nvGraphicFramePr>
        <p:xfrm>
          <a:off x="426708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9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262" name=""/>
          <p:cNvGraphicFramePr/>
          <p:nvPr/>
        </p:nvGraphicFramePr>
        <p:xfrm>
          <a:off x="1600200" y="1676520"/>
          <a:ext cx="685800" cy="5011560"/>
        </p:xfrm>
        <a:graphic>
          <a:graphicData uri="http://schemas.openxmlformats.org/drawingml/2006/table">
            <a:tbl>
              <a:tblPr/>
              <a:tblGrid>
                <a:gridCol w="68580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0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cc00"/>
                    </a:solidFill>
                  </a:tcPr>
                </a:tc>
              </a:tr>
            </a:tbl>
          </a:graphicData>
        </a:graphic>
      </p:graphicFrame>
      <p:sp>
        <p:nvSpPr>
          <p:cNvPr id="263" name=""/>
          <p:cNvSpPr/>
          <p:nvPr/>
        </p:nvSpPr>
        <p:spPr>
          <a:xfrm>
            <a:off x="3222000" y="3232080"/>
            <a:ext cx="2855520" cy="6426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JO: Este algoritmo s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ermite un orden parci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2291040" y="4073400"/>
            <a:ext cx="4799880" cy="17398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6666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orden total se enumeran los proces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y se agrega el número de proceso com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factor decim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segura que dos eventos no s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nunca simultáne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5" name=""/>
          <p:cNvGrpSpPr/>
          <p:nvPr/>
        </p:nvGrpSpPr>
        <p:grpSpPr>
          <a:xfrm>
            <a:off x="1152000" y="1600200"/>
            <a:ext cx="5620320" cy="368280"/>
            <a:chOff x="1152000" y="1600200"/>
            <a:chExt cx="5620320" cy="368280"/>
          </a:xfrm>
        </p:grpSpPr>
        <p:sp>
          <p:nvSpPr>
            <p:cNvPr id="266" name=""/>
            <p:cNvSpPr/>
            <p:nvPr/>
          </p:nvSpPr>
          <p:spPr>
            <a:xfrm>
              <a:off x="1152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387000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6460560" y="16002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"/>
          <p:cNvGrpSpPr/>
          <p:nvPr/>
        </p:nvGrpSpPr>
        <p:grpSpPr>
          <a:xfrm>
            <a:off x="1600200" y="1677960"/>
            <a:ext cx="5943600" cy="455400"/>
            <a:chOff x="1600200" y="1677960"/>
            <a:chExt cx="5943600" cy="455400"/>
          </a:xfrm>
        </p:grpSpPr>
        <p:sp>
          <p:nvSpPr>
            <p:cNvPr id="270" name=""/>
            <p:cNvSpPr/>
            <p:nvPr/>
          </p:nvSpPr>
          <p:spPr>
            <a:xfrm>
              <a:off x="16002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6002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6002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6002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2286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426708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426708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426708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42670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495288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858000" y="1677960"/>
              <a:ext cx="685800" cy="455400"/>
            </a:xfrm>
            <a:prstGeom prst="rect">
              <a:avLst/>
            </a:pr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9000"/>
            </a:bodyPr>
            <a:p>
              <a:pPr>
                <a:lnSpc>
                  <a:spcPct val="100000"/>
                </a:lnSpc>
                <a:spcBef>
                  <a:spcPts val="6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2400" spc="-1" strike="noStrike">
                  <a:solidFill>
                    <a:srgbClr val="000000"/>
                  </a:solidFill>
                  <a:latin typeface="Verdana"/>
                </a:rPr>
                <a:t>0.3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6858000" y="16779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6858000" y="2133360"/>
              <a:ext cx="685800" cy="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68580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7543800" y="1677960"/>
              <a:ext cx="0" cy="455400"/>
            </a:xfrm>
            <a:prstGeom prst="line">
              <a:avLst/>
            </a:prstGeom>
            <a:ln cap="sq"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mport nos permite concluir que si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, entonces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in embargo lo contrario no es cierto, es decir si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&lt; 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no nos permite concluir que a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 que las marcas de tiempos de dos eventos (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a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LC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) no nos permite concluir sobre la rel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ell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o porque las marcas de tiempo de Lamport no capturan la causalidad de los event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ello se usan los vectores de tiempo, desarrollado por Ricart y Agrawal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Cada reloj es un arregl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de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ementos siendo </a:t>
            </a:r>
            <a:r>
              <a:rPr b="1" lang="es-ES_tradnl" sz="2800" spc="-1" strike="noStrike">
                <a:solidFill>
                  <a:srgbClr val="000000"/>
                </a:solidFill>
                <a:latin typeface="Verdana"/>
              </a:rPr>
              <a:t>N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 el número de procesadores (nodos) del sistem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Inicialmente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j]=0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,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l proces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genera un evento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4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[i]+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ando en 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se recibe un mensaje del nod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j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 un vector de tiempo </a:t>
            </a:r>
            <a:r>
              <a:rPr b="0" i="1" lang="es-ES_tradnl" sz="24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 entonc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para todo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k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=max(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k],t[k])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(operación de mezcla) y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=V</a:t>
            </a:r>
            <a:r>
              <a:rPr b="1" lang="es-ES_tradnl" sz="2000" spc="-1" strike="noStrike" baseline="-25000">
                <a:solidFill>
                  <a:srgbClr val="000000"/>
                </a:solidFill>
                <a:latin typeface="Verdana"/>
              </a:rPr>
              <a:t>i</a:t>
            </a:r>
            <a:r>
              <a:rPr b="1" lang="es-ES_tradnl" sz="2000" spc="-1" strike="noStrike">
                <a:solidFill>
                  <a:srgbClr val="000000"/>
                </a:solidFill>
                <a:latin typeface="Verdana"/>
              </a:rPr>
              <a:t>[i] + 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Vectore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90" name=""/>
          <p:cNvSpPr/>
          <p:nvPr/>
        </p:nvSpPr>
        <p:spPr>
          <a:xfrm>
            <a:off x="380880" y="213372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365760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0880" y="5181480"/>
            <a:ext cx="8229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609480" y="1447920"/>
            <a:ext cx="0" cy="43434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07440" y="5791320"/>
            <a:ext cx="61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Narrow"/>
              </a:rPr>
              <a:t>(000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"/>
          <p:cNvGrpSpPr/>
          <p:nvPr/>
        </p:nvGrpSpPr>
        <p:grpSpPr>
          <a:xfrm>
            <a:off x="1069560" y="1676520"/>
            <a:ext cx="616680" cy="457200"/>
            <a:chOff x="1069560" y="1676520"/>
            <a:chExt cx="616680" cy="457200"/>
          </a:xfrm>
        </p:grpSpPr>
        <p:sp>
          <p:nvSpPr>
            <p:cNvPr id="296" name=""/>
            <p:cNvSpPr/>
            <p:nvPr/>
          </p:nvSpPr>
          <p:spPr>
            <a:xfrm flipV="1">
              <a:off x="13716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0695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1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8" name=""/>
          <p:cNvGrpSpPr/>
          <p:nvPr/>
        </p:nvGrpSpPr>
        <p:grpSpPr>
          <a:xfrm>
            <a:off x="3736440" y="1676520"/>
            <a:ext cx="616680" cy="457200"/>
            <a:chOff x="3736440" y="1676520"/>
            <a:chExt cx="616680" cy="457200"/>
          </a:xfrm>
        </p:grpSpPr>
        <p:sp>
          <p:nvSpPr>
            <p:cNvPr id="299" name=""/>
            <p:cNvSpPr/>
            <p:nvPr/>
          </p:nvSpPr>
          <p:spPr>
            <a:xfrm flipV="1">
              <a:off x="40384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7364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3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1" name=""/>
          <p:cNvGrpSpPr/>
          <p:nvPr/>
        </p:nvGrpSpPr>
        <p:grpSpPr>
          <a:xfrm>
            <a:off x="4650840" y="1676520"/>
            <a:ext cx="616680" cy="457200"/>
            <a:chOff x="4650840" y="1676520"/>
            <a:chExt cx="616680" cy="457200"/>
          </a:xfrm>
        </p:grpSpPr>
        <p:sp>
          <p:nvSpPr>
            <p:cNvPr id="302" name=""/>
            <p:cNvSpPr/>
            <p:nvPr/>
          </p:nvSpPr>
          <p:spPr>
            <a:xfrm flipV="1">
              <a:off x="49528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6508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4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7622640" y="1676520"/>
            <a:ext cx="616680" cy="457200"/>
            <a:chOff x="7622640" y="1676520"/>
            <a:chExt cx="616680" cy="457200"/>
          </a:xfrm>
        </p:grpSpPr>
        <p:sp>
          <p:nvSpPr>
            <p:cNvPr id="305" name=""/>
            <p:cNvSpPr/>
            <p:nvPr/>
          </p:nvSpPr>
          <p:spPr>
            <a:xfrm flipV="1">
              <a:off x="792468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762264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6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7" name=""/>
          <p:cNvGrpSpPr/>
          <p:nvPr/>
        </p:nvGrpSpPr>
        <p:grpSpPr>
          <a:xfrm>
            <a:off x="6327360" y="3200400"/>
            <a:ext cx="616680" cy="457200"/>
            <a:chOff x="6327360" y="3200400"/>
            <a:chExt cx="616680" cy="457200"/>
          </a:xfrm>
        </p:grpSpPr>
        <p:sp>
          <p:nvSpPr>
            <p:cNvPr id="308" name=""/>
            <p:cNvSpPr/>
            <p:nvPr/>
          </p:nvSpPr>
          <p:spPr>
            <a:xfrm flipV="1">
              <a:off x="662940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32736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7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0" name=""/>
          <p:cNvGrpSpPr/>
          <p:nvPr/>
        </p:nvGrpSpPr>
        <p:grpSpPr>
          <a:xfrm>
            <a:off x="5260680" y="3200400"/>
            <a:ext cx="616680" cy="457200"/>
            <a:chOff x="5260680" y="3200400"/>
            <a:chExt cx="616680" cy="457200"/>
          </a:xfrm>
        </p:grpSpPr>
        <p:sp>
          <p:nvSpPr>
            <p:cNvPr id="311" name=""/>
            <p:cNvSpPr/>
            <p:nvPr/>
          </p:nvSpPr>
          <p:spPr>
            <a:xfrm flipV="1">
              <a:off x="55627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2606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3" name=""/>
          <p:cNvGrpSpPr/>
          <p:nvPr/>
        </p:nvGrpSpPr>
        <p:grpSpPr>
          <a:xfrm>
            <a:off x="1450440" y="3200400"/>
            <a:ext cx="616680" cy="457200"/>
            <a:chOff x="1450440" y="3200400"/>
            <a:chExt cx="616680" cy="457200"/>
          </a:xfrm>
        </p:grpSpPr>
        <p:sp>
          <p:nvSpPr>
            <p:cNvPr id="314" name=""/>
            <p:cNvSpPr/>
            <p:nvPr/>
          </p:nvSpPr>
          <p:spPr>
            <a:xfrm flipV="1">
              <a:off x="1752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450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1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688680" y="4724280"/>
            <a:ext cx="616680" cy="457200"/>
            <a:chOff x="688680" y="4724280"/>
            <a:chExt cx="616680" cy="457200"/>
          </a:xfrm>
        </p:grpSpPr>
        <p:sp>
          <p:nvSpPr>
            <p:cNvPr id="317" name=""/>
            <p:cNvSpPr/>
            <p:nvPr/>
          </p:nvSpPr>
          <p:spPr>
            <a:xfrm flipV="1">
              <a:off x="990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688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1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19" name=""/>
          <p:cNvGrpSpPr/>
          <p:nvPr/>
        </p:nvGrpSpPr>
        <p:grpSpPr>
          <a:xfrm>
            <a:off x="3431880" y="4724280"/>
            <a:ext cx="616680" cy="457200"/>
            <a:chOff x="3431880" y="4724280"/>
            <a:chExt cx="616680" cy="457200"/>
          </a:xfrm>
        </p:grpSpPr>
        <p:sp>
          <p:nvSpPr>
            <p:cNvPr id="320" name=""/>
            <p:cNvSpPr/>
            <p:nvPr/>
          </p:nvSpPr>
          <p:spPr>
            <a:xfrm flipV="1">
              <a:off x="37339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34318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3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2" name=""/>
          <p:cNvGrpSpPr/>
          <p:nvPr/>
        </p:nvGrpSpPr>
        <p:grpSpPr>
          <a:xfrm>
            <a:off x="4041360" y="4724280"/>
            <a:ext cx="616680" cy="457200"/>
            <a:chOff x="4041360" y="4724280"/>
            <a:chExt cx="616680" cy="457200"/>
          </a:xfrm>
        </p:grpSpPr>
        <p:sp>
          <p:nvSpPr>
            <p:cNvPr id="323" name=""/>
            <p:cNvSpPr/>
            <p:nvPr/>
          </p:nvSpPr>
          <p:spPr>
            <a:xfrm flipV="1">
              <a:off x="4343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4041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4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5" name=""/>
          <p:cNvGrpSpPr/>
          <p:nvPr/>
        </p:nvGrpSpPr>
        <p:grpSpPr>
          <a:xfrm>
            <a:off x="7013160" y="4724280"/>
            <a:ext cx="616680" cy="457200"/>
            <a:chOff x="7013160" y="4724280"/>
            <a:chExt cx="616680" cy="457200"/>
          </a:xfrm>
        </p:grpSpPr>
        <p:sp>
          <p:nvSpPr>
            <p:cNvPr id="326" name=""/>
            <p:cNvSpPr/>
            <p:nvPr/>
          </p:nvSpPr>
          <p:spPr>
            <a:xfrm flipV="1">
              <a:off x="73152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0131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7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28" name=""/>
          <p:cNvGrpSpPr/>
          <p:nvPr/>
        </p:nvGrpSpPr>
        <p:grpSpPr>
          <a:xfrm>
            <a:off x="2517480" y="1676520"/>
            <a:ext cx="616680" cy="457200"/>
            <a:chOff x="2517480" y="1676520"/>
            <a:chExt cx="616680" cy="457200"/>
          </a:xfrm>
        </p:grpSpPr>
        <p:sp>
          <p:nvSpPr>
            <p:cNvPr id="329" name=""/>
            <p:cNvSpPr/>
            <p:nvPr/>
          </p:nvSpPr>
          <p:spPr>
            <a:xfrm flipV="1">
              <a:off x="281952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51748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0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5793840" y="4724280"/>
            <a:ext cx="616680" cy="457200"/>
            <a:chOff x="5793840" y="4724280"/>
            <a:chExt cx="616680" cy="457200"/>
          </a:xfrm>
        </p:grpSpPr>
        <p:sp>
          <p:nvSpPr>
            <p:cNvPr id="332" name=""/>
            <p:cNvSpPr/>
            <p:nvPr/>
          </p:nvSpPr>
          <p:spPr>
            <a:xfrm flipV="1">
              <a:off x="609588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579384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4" name=""/>
          <p:cNvGrpSpPr/>
          <p:nvPr/>
        </p:nvGrpSpPr>
        <p:grpSpPr>
          <a:xfrm>
            <a:off x="3279240" y="3200400"/>
            <a:ext cx="616680" cy="457200"/>
            <a:chOff x="3279240" y="3200400"/>
            <a:chExt cx="616680" cy="457200"/>
          </a:xfrm>
        </p:grpSpPr>
        <p:sp>
          <p:nvSpPr>
            <p:cNvPr id="335" name=""/>
            <p:cNvSpPr/>
            <p:nvPr/>
          </p:nvSpPr>
          <p:spPr>
            <a:xfrm flipV="1">
              <a:off x="35812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2792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3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7" name=""/>
          <p:cNvGrpSpPr/>
          <p:nvPr/>
        </p:nvGrpSpPr>
        <p:grpSpPr>
          <a:xfrm>
            <a:off x="6098760" y="1676520"/>
            <a:ext cx="616680" cy="457200"/>
            <a:chOff x="6098760" y="1676520"/>
            <a:chExt cx="616680" cy="457200"/>
          </a:xfrm>
        </p:grpSpPr>
        <p:sp>
          <p:nvSpPr>
            <p:cNvPr id="338" name=""/>
            <p:cNvSpPr/>
            <p:nvPr/>
          </p:nvSpPr>
          <p:spPr>
            <a:xfrm flipV="1">
              <a:off x="6400800" y="198108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6098760" y="167652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56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0" name=""/>
          <p:cNvGrpSpPr/>
          <p:nvPr/>
        </p:nvGrpSpPr>
        <p:grpSpPr>
          <a:xfrm>
            <a:off x="3889080" y="3200400"/>
            <a:ext cx="616680" cy="457200"/>
            <a:chOff x="3889080" y="3200400"/>
            <a:chExt cx="616680" cy="457200"/>
          </a:xfrm>
        </p:grpSpPr>
        <p:sp>
          <p:nvSpPr>
            <p:cNvPr id="341" name=""/>
            <p:cNvSpPr/>
            <p:nvPr/>
          </p:nvSpPr>
          <p:spPr>
            <a:xfrm flipV="1">
              <a:off x="41911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38890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4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3" name=""/>
          <p:cNvGrpSpPr/>
          <p:nvPr/>
        </p:nvGrpSpPr>
        <p:grpSpPr>
          <a:xfrm>
            <a:off x="1831680" y="4724280"/>
            <a:ext cx="616680" cy="457200"/>
            <a:chOff x="1831680" y="4724280"/>
            <a:chExt cx="616680" cy="457200"/>
          </a:xfrm>
        </p:grpSpPr>
        <p:sp>
          <p:nvSpPr>
            <p:cNvPr id="344" name=""/>
            <p:cNvSpPr/>
            <p:nvPr/>
          </p:nvSpPr>
          <p:spPr>
            <a:xfrm flipV="1">
              <a:off x="213372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183168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0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46" name=""/>
          <p:cNvSpPr/>
          <p:nvPr/>
        </p:nvSpPr>
        <p:spPr>
          <a:xfrm>
            <a:off x="2819520" y="2133720"/>
            <a:ext cx="76176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 flipV="1">
            <a:off x="2133720" y="3657240"/>
            <a:ext cx="205740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 flipV="1">
            <a:off x="5562720" y="2133360"/>
            <a:ext cx="83808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 flipV="1">
            <a:off x="6095880" y="3657240"/>
            <a:ext cx="5335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7775280" y="3200400"/>
            <a:ext cx="616680" cy="457200"/>
            <a:chOff x="7775280" y="3200400"/>
            <a:chExt cx="616680" cy="457200"/>
          </a:xfrm>
        </p:grpSpPr>
        <p:sp>
          <p:nvSpPr>
            <p:cNvPr id="351" name=""/>
            <p:cNvSpPr/>
            <p:nvPr/>
          </p:nvSpPr>
          <p:spPr>
            <a:xfrm flipV="1">
              <a:off x="807732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777528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86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3" name=""/>
          <p:cNvGrpSpPr/>
          <p:nvPr/>
        </p:nvGrpSpPr>
        <p:grpSpPr>
          <a:xfrm>
            <a:off x="5184360" y="4724280"/>
            <a:ext cx="616680" cy="457200"/>
            <a:chOff x="5184360" y="4724280"/>
            <a:chExt cx="616680" cy="457200"/>
          </a:xfrm>
        </p:grpSpPr>
        <p:sp>
          <p:nvSpPr>
            <p:cNvPr id="354" name=""/>
            <p:cNvSpPr/>
            <p:nvPr/>
          </p:nvSpPr>
          <p:spPr>
            <a:xfrm flipV="1">
              <a:off x="5486400" y="502884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5184360" y="472428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5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6" name=""/>
          <p:cNvGrpSpPr/>
          <p:nvPr/>
        </p:nvGrpSpPr>
        <p:grpSpPr>
          <a:xfrm>
            <a:off x="4650840" y="3200400"/>
            <a:ext cx="616680" cy="457200"/>
            <a:chOff x="4650840" y="3200400"/>
            <a:chExt cx="616680" cy="457200"/>
          </a:xfrm>
        </p:grpSpPr>
        <p:sp>
          <p:nvSpPr>
            <p:cNvPr id="357" name=""/>
            <p:cNvSpPr/>
            <p:nvPr/>
          </p:nvSpPr>
          <p:spPr>
            <a:xfrm flipV="1">
              <a:off x="49528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46508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25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9" name=""/>
          <p:cNvGrpSpPr/>
          <p:nvPr/>
        </p:nvGrpSpPr>
        <p:grpSpPr>
          <a:xfrm>
            <a:off x="2593440" y="3200400"/>
            <a:ext cx="616680" cy="457200"/>
            <a:chOff x="2593440" y="3200400"/>
            <a:chExt cx="616680" cy="457200"/>
          </a:xfrm>
        </p:grpSpPr>
        <p:sp>
          <p:nvSpPr>
            <p:cNvPr id="360" name=""/>
            <p:cNvSpPr/>
            <p:nvPr/>
          </p:nvSpPr>
          <p:spPr>
            <a:xfrm flipV="1">
              <a:off x="2895480" y="3504960"/>
              <a:ext cx="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2593440" y="3200400"/>
              <a:ext cx="616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Arial Narrow"/>
                </a:rPr>
                <a:t>(020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62" name=""/>
          <p:cNvSpPr/>
          <p:nvPr/>
        </p:nvSpPr>
        <p:spPr>
          <a:xfrm>
            <a:off x="2895480" y="3657600"/>
            <a:ext cx="1447920" cy="1523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855720" y="167652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3521160" y="167652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4437720" y="1676520"/>
            <a:ext cx="32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7398000" y="1676520"/>
            <a:ext cx="34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1240200" y="32004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479120" y="320040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F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7557840" y="3200400"/>
            <a:ext cx="3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469440" y="4724280"/>
            <a:ext cx="349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H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3283920" y="4724280"/>
            <a:ext cx="258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5075640" y="4724280"/>
            <a:ext cx="24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J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6807600" y="4724280"/>
            <a:ext cx="32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 Black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2514600" y="5867280"/>
            <a:ext cx="5867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B</a:t>
            </a:r>
            <a:r>
              <a:rPr b="0" lang="es-ES_tradnl" sz="2400" spc="-1" strike="noStrike">
                <a:solidFill>
                  <a:srgbClr val="000000"/>
                </a:solidFill>
                <a:latin typeface="Arial Black"/>
              </a:rPr>
              <a:t>||</a:t>
            </a:r>
            <a:r>
              <a:rPr b="0" lang="es-ES_tradnl" sz="1800" spc="-1" strike="noStrike">
                <a:solidFill>
                  <a:srgbClr val="ffcc00"/>
                </a:solidFill>
                <a:latin typeface="Arial Black"/>
              </a:rPr>
              <a:t>J </a:t>
            </a:r>
            <a:r>
              <a:rPr b="0" lang="es-ES_tradnl" sz="2000" spc="-1" strike="noStrike">
                <a:solidFill>
                  <a:srgbClr val="000000"/>
                </a:solidFill>
                <a:latin typeface="Symbol"/>
                <a:ea typeface="Symbol"/>
              </a:rPr>
              <a:t>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lt;(025) </a:t>
            </a:r>
            <a:r>
              <a:rPr b="0" lang="es-ES_tradnl" sz="2000" spc="-1" strike="noStrike">
                <a:solidFill>
                  <a:srgbClr val="000000"/>
                </a:solidFill>
                <a:latin typeface="Arial Narrow"/>
              </a:rPr>
              <a:t>AND</a:t>
            </a:r>
            <a:r>
              <a:rPr b="0" lang="es-ES_tradnl" sz="2000" spc="-1" strike="noStrike">
                <a:solidFill>
                  <a:srgbClr val="000000"/>
                </a:solidFill>
                <a:latin typeface="Arial Black"/>
              </a:rPr>
              <a:t> (300)&gt;(02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75" name=""/>
          <p:cNvGrpSpPr/>
          <p:nvPr/>
        </p:nvGrpSpPr>
        <p:grpSpPr>
          <a:xfrm>
            <a:off x="2438280" y="5334120"/>
            <a:ext cx="5105520" cy="990360"/>
            <a:chOff x="2438280" y="5334120"/>
            <a:chExt cx="5105520" cy="990360"/>
          </a:xfrm>
        </p:grpSpPr>
        <p:sp>
          <p:nvSpPr>
            <p:cNvPr id="376" name=""/>
            <p:cNvSpPr/>
            <p:nvPr/>
          </p:nvSpPr>
          <p:spPr>
            <a:xfrm>
              <a:off x="2590920" y="5334120"/>
              <a:ext cx="29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A</a:t>
              </a:r>
              <a:r>
                <a:rPr b="1" lang="es-ES_tradnl" sz="24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</a:t>
              </a:r>
              <a:r>
                <a:rPr b="0" lang="es-ES_tradnl" sz="1800" spc="-1" strike="noStrike">
                  <a:solidFill>
                    <a:srgbClr val="ffcc00"/>
                  </a:solidFill>
                  <a:latin typeface="Arial Black"/>
                </a:rPr>
                <a:t>F 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Symbol"/>
                  <a:ea typeface="Symbol"/>
                </a:rPr>
                <a:t></a:t>
              </a:r>
              <a:r>
                <a:rPr b="0" lang="es-ES_tradnl" sz="2000" spc="-1" strike="noStrike">
                  <a:solidFill>
                    <a:srgbClr val="000000"/>
                  </a:solidFill>
                  <a:latin typeface="Arial Black"/>
                </a:rPr>
                <a:t> (100)&lt;(252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3581280" y="5943600"/>
              <a:ext cx="14479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5791320" y="5943600"/>
              <a:ext cx="1447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2438280" y="5410080"/>
              <a:ext cx="5105520" cy="9144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0" name=""/>
          <p:cNvSpPr/>
          <p:nvPr/>
        </p:nvSpPr>
        <p:spPr>
          <a:xfrm>
            <a:off x="3500280" y="363060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" dur="indefinite" restart="never" nodeType="tmRoot">
          <p:childTnLst>
            <p:seq>
              <p:cTn id="64" dur="indefinite" nodeType="mainSeq">
                <p:childTnLst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ara muchos sistemas es relevante poder detectar un estado globa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s decir, un momento del reloj 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gico en que el sistema está en un estado “consistente”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jemplos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Realizar una recolec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 bas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termin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etectar DeadLock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ecuperación de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obtiene haciendo una captura (snapshot) consistente del sistem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Glob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384" name=""/>
          <p:cNvSpPr/>
          <p:nvPr/>
        </p:nvSpPr>
        <p:spPr>
          <a:xfrm>
            <a:off x="838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675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198108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181836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32767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11364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3198960" y="297036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3198960" y="5486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3198960" y="63244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1905120" y="38098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1905120" y="35053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1905120" y="48006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1905120" y="419112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2120" y="32004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762120" y="5257800"/>
            <a:ext cx="15228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762120" y="5638680"/>
            <a:ext cx="15228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 flipH="1">
            <a:off x="1980720" y="3048120"/>
            <a:ext cx="129564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3808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981080" y="4876920"/>
            <a:ext cx="1295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 flipH="1">
            <a:off x="83772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38080" y="5715000"/>
            <a:ext cx="243864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5" name=""/>
          <p:cNvCxnSpPr/>
          <p:nvPr/>
        </p:nvCxnSpPr>
        <p:spPr>
          <a:xfrm>
            <a:off x="533160" y="4114800"/>
            <a:ext cx="3277080" cy="1829520"/>
          </a:xfrm>
          <a:prstGeom prst="curvedConnector5">
            <a:avLst>
              <a:gd name="adj1" fmla="val 55086"/>
              <a:gd name="adj2" fmla="val 49990"/>
              <a:gd name="adj3" fmla="val 55086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06" name=""/>
          <p:cNvSpPr/>
          <p:nvPr/>
        </p:nvSpPr>
        <p:spPr>
          <a:xfrm>
            <a:off x="2238480" y="4932360"/>
            <a:ext cx="228600" cy="304920"/>
          </a:xfrm>
          <a:prstGeom prst="ellipse">
            <a:avLst/>
          </a:prstGeom>
          <a:noFill/>
          <a:ln w="19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242856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114912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9968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274932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14540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3657600" y="3962520"/>
            <a:ext cx="1828800" cy="1218960"/>
          </a:xfrm>
          <a:prstGeom prst="wedgeRectCallout">
            <a:avLst>
              <a:gd name="adj1" fmla="val -66842"/>
              <a:gd name="adj2" fmla="val 80208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Arial Narrow"/>
              </a:rPr>
              <a:t>No se puede determinar la causalidad de m</a:t>
            </a:r>
            <a:r>
              <a:rPr b="1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5730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5568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687384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671112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169120" y="2666880"/>
            <a:ext cx="0" cy="3886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8006400" y="2220840"/>
            <a:ext cx="36360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000" spc="-1" strike="noStrike">
                <a:solidFill>
                  <a:srgbClr val="000000"/>
                </a:solidFill>
                <a:latin typeface="Arial Narrow"/>
              </a:rPr>
              <a:t>p</a:t>
            </a:r>
            <a:r>
              <a:rPr b="0" i="1" lang="es-ES_tradnl" sz="20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091360" y="297036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091360" y="5486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8091360" y="63244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6797520" y="38098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6797520" y="35053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6797520" y="48006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6797520" y="419112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5654520" y="32004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5654520" y="5257800"/>
            <a:ext cx="152640" cy="15228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5654520" y="5638680"/>
            <a:ext cx="152640" cy="152640"/>
          </a:xfrm>
          <a:prstGeom prst="ellipse">
            <a:avLst/>
          </a:prstGeom>
          <a:solidFill>
            <a:srgbClr val="3399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 flipH="1">
            <a:off x="6873840" y="3048120"/>
            <a:ext cx="1295280" cy="5331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5730840" y="3276720"/>
            <a:ext cx="114300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6873840" y="4876920"/>
            <a:ext cx="1295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 flipH="1">
            <a:off x="5730480" y="4267080"/>
            <a:ext cx="1143000" cy="10670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5730840" y="5715000"/>
            <a:ext cx="2438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4" name=""/>
          <p:cNvCxnSpPr/>
          <p:nvPr/>
        </p:nvCxnSpPr>
        <p:spPr>
          <a:xfrm>
            <a:off x="5486400" y="4114800"/>
            <a:ext cx="3277440" cy="1829520"/>
          </a:xfrm>
          <a:prstGeom prst="curvedConnector5">
            <a:avLst>
              <a:gd name="adj1" fmla="val 39042"/>
              <a:gd name="adj2" fmla="val 49990"/>
              <a:gd name="adj3" fmla="val 39042"/>
            </a:avLst>
          </a:prstGeom>
          <a:ln w="38160">
            <a:solidFill>
              <a:srgbClr val="ff0000"/>
            </a:solidFill>
            <a:prstDash val="dash"/>
            <a:miter/>
          </a:ln>
        </p:spPr>
      </p:cxnSp>
      <p:sp>
        <p:nvSpPr>
          <p:cNvPr id="435" name=""/>
          <p:cNvSpPr/>
          <p:nvPr/>
        </p:nvSpPr>
        <p:spPr>
          <a:xfrm>
            <a:off x="7321320" y="293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6041880" y="32004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5889240" y="457200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7642080" y="495288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6346440" y="5562720"/>
            <a:ext cx="3970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800" spc="-1" strike="noStrike">
                <a:solidFill>
                  <a:srgbClr val="000000"/>
                </a:solidFill>
                <a:latin typeface="Arial Narrow"/>
              </a:rPr>
              <a:t>m</a:t>
            </a:r>
            <a:r>
              <a:rPr b="0" i="1" lang="es-ES_tradnl" sz="1800" spc="-1" strike="noStrike" baseline="-25000">
                <a:solidFill>
                  <a:srgbClr val="000000"/>
                </a:solidFill>
                <a:latin typeface="Arial Narrow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538560" y="1828800"/>
            <a:ext cx="317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no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5567400" y="1828800"/>
            <a:ext cx="2768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2800" spc="-1" strike="noStrike">
                <a:solidFill>
                  <a:srgbClr val="000000"/>
                </a:solidFill>
                <a:latin typeface="Arial Narrow"/>
              </a:rPr>
              <a:t>Captura consistent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Corte Consistente: Implement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stema distribuido interconectado por un canal de comunic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fiable (no se pierden ni se desordenan los paquete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l recibir la marca de inicio, todos los procesos graban su estado local y luego los mensajes recibidos y procesados hasta recibir la marca de fi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stado local enviado “a quien corresponda” (x ej: el que inició el proce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444" name="" descr=""/>
          <p:cNvPicPr/>
          <p:nvPr/>
        </p:nvPicPr>
        <p:blipFill>
          <a:blip r:embed="rId1"/>
          <a:srcRect l="36130" t="40333" r="37843" b="46828"/>
          <a:stretch/>
        </p:blipFill>
        <p:spPr>
          <a:xfrm>
            <a:off x="3970440" y="4005360"/>
            <a:ext cx="3649680" cy="254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stado Local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446" name="" descr=""/>
          <p:cNvPicPr/>
          <p:nvPr/>
        </p:nvPicPr>
        <p:blipFill>
          <a:blip r:embed="rId1"/>
          <a:srcRect l="19883" t="53325" r="16461" b="34290"/>
          <a:stretch/>
        </p:blipFill>
        <p:spPr>
          <a:xfrm>
            <a:off x="533520" y="3429000"/>
            <a:ext cx="8381880" cy="2397240"/>
          </a:xfrm>
          <a:prstGeom prst="rect">
            <a:avLst/>
          </a:prstGeom>
          <a:ln w="0">
            <a:noFill/>
          </a:ln>
        </p:spPr>
      </p:pic>
      <p:sp>
        <p:nvSpPr>
          <p:cNvPr id="447" name=""/>
          <p:cNvSpPr/>
          <p:nvPr/>
        </p:nvSpPr>
        <p:spPr>
          <a:xfrm>
            <a:off x="457200" y="1752480"/>
            <a:ext cx="7962840" cy="160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l proceso Q recibe la primera marca, graba su estado local y env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a la marca por sus canales de sali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Q graba todos los mensajes de ent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Verdana"/>
              <a:buAutoNum type="alphaL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Verdana"/>
              </a:rPr>
              <a:t>Q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recibe la marca de fin por su canal de entrada y finaliza la grabaci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685440"/>
            <a:ext cx="7772400" cy="212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58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58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5800" spc="-1" strike="noStrike">
              <a:solidFill>
                <a:srgbClr val="999900"/>
              </a:solidFill>
              <a:latin typeface="Garamon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1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Q recibe la primera marca del corte consistente, verifica qui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én le envió la marca (y lo identifica como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redecesor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 recibe la marca de fin, si no tiene sucesor envía a su predecesor un mensaje </a:t>
            </a:r>
            <a:r>
              <a:rPr b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DONE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. Sino, espera por el mensaje DON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uando quien inicia el </a:t>
            </a:r>
            <a:r>
              <a:rPr b="0" i="1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napshot</a:t>
            </a:r>
            <a:r>
              <a:rPr b="0" lang="es-ES_tradnl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distribuido recibe el mensaje DONE de todos sus sucesores quiere decir que la aplicación terminó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Pero… 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</a:rPr>
              <a:t>¿qu</a:t>
            </a:r>
            <a:r>
              <a:rPr b="0" lang="es-ES_tradnl" sz="2400" spc="-1" strike="noStrike">
                <a:solidFill>
                  <a:srgbClr val="ff3300"/>
                </a:solidFill>
                <a:latin typeface="Verdana"/>
                <a:ea typeface="ＭＳ Ｐゴシック"/>
              </a:rPr>
              <a:t>é pasa con los mensajes que estaban en tránsito fuera del corte consistente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Ejemplo de uso: Detectar termina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una aplicación distribuida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oluci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2 (usando DONE y CONTINUE)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enviará DONE sólo cuand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odos los sucesores de Q hayan retornado DON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Q no haya recibido mensajes entre la primera y segunda mar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 otro caso, Q enviará un CONTINUE a su predeces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i quien inició el algoritmo recibe sólo mensajes DONE, la aplicación terminó, sino quiere decir que había mensajes en tránsito y debe reiniciar el algoritm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os casos es necesario elegir un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 nodo para una tarea determinad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mplir el rol de coordinad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 del mat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ada proceso tiene un ID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ic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Alg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proceso 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nvía mensaje de ELECCIÓN a procesos con ID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un proceso recibe ELEC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entonces responde OK e inici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ninguno responde: Se hace nuevo coordinador y mensajes COORDINADOR a procesadores con ID men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i alguno responde con mensaje OK abandona la elec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55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56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66" name=""/>
          <p:cNvGrpSpPr/>
          <p:nvPr/>
        </p:nvGrpSpPr>
        <p:grpSpPr>
          <a:xfrm>
            <a:off x="2971800" y="2742840"/>
            <a:ext cx="3505320" cy="3048480"/>
            <a:chOff x="2971800" y="2742840"/>
            <a:chExt cx="3505320" cy="3048480"/>
          </a:xfrm>
        </p:grpSpPr>
        <p:sp>
          <p:nvSpPr>
            <p:cNvPr id="467" name=""/>
            <p:cNvSpPr/>
            <p:nvPr/>
          </p:nvSpPr>
          <p:spPr>
            <a:xfrm>
              <a:off x="2971800" y="4267080"/>
              <a:ext cx="160020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3048120" y="4038480"/>
              <a:ext cx="34290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V="1">
              <a:off x="2971800" y="274284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80360" y="47386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471200" y="36720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170880" y="304812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7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7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85" name=""/>
          <p:cNvGrpSpPr/>
          <p:nvPr/>
        </p:nvGrpSpPr>
        <p:grpSpPr>
          <a:xfrm>
            <a:off x="2971440" y="2743200"/>
            <a:ext cx="3581640" cy="1314360"/>
            <a:chOff x="2971440" y="2743200"/>
            <a:chExt cx="3581640" cy="1314360"/>
          </a:xfrm>
        </p:grpSpPr>
        <p:sp>
          <p:nvSpPr>
            <p:cNvPr id="486" name=""/>
            <p:cNvSpPr/>
            <p:nvPr/>
          </p:nvSpPr>
          <p:spPr>
            <a:xfrm flipH="1">
              <a:off x="2971800" y="4038480"/>
              <a:ext cx="3581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7" name=""/>
            <p:cNvSpPr/>
            <p:nvPr/>
          </p:nvSpPr>
          <p:spPr>
            <a:xfrm flipH="1">
              <a:off x="2971440" y="2743200"/>
              <a:ext cx="297180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4490640" y="368928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9" name=""/>
            <p:cNvSpPr/>
            <p:nvPr/>
          </p:nvSpPr>
          <p:spPr>
            <a:xfrm>
              <a:off x="4201560" y="2971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90" name=""/>
          <p:cNvGrpSpPr/>
          <p:nvPr/>
        </p:nvGrpSpPr>
        <p:grpSpPr>
          <a:xfrm>
            <a:off x="4466160" y="2819520"/>
            <a:ext cx="3254760" cy="2971800"/>
            <a:chOff x="4466160" y="2819520"/>
            <a:chExt cx="3254760" cy="2971800"/>
          </a:xfrm>
        </p:grpSpPr>
        <p:sp>
          <p:nvSpPr>
            <p:cNvPr id="491" name=""/>
            <p:cNvSpPr/>
            <p:nvPr/>
          </p:nvSpPr>
          <p:spPr>
            <a:xfrm flipH="1">
              <a:off x="4800600" y="2819520"/>
              <a:ext cx="1295280" cy="2895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2" name=""/>
            <p:cNvSpPr/>
            <p:nvPr/>
          </p:nvSpPr>
          <p:spPr>
            <a:xfrm>
              <a:off x="6248520" y="2819520"/>
              <a:ext cx="380880" cy="9903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3" name=""/>
            <p:cNvSpPr/>
            <p:nvPr/>
          </p:nvSpPr>
          <p:spPr>
            <a:xfrm flipH="1">
              <a:off x="4876920" y="4267080"/>
              <a:ext cx="175248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6447600" y="300348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4466160" y="329076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223680" y="4586400"/>
              <a:ext cx="12733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ELECCI</a:t>
              </a: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ÓN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El Mat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498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499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9" name=""/>
          <p:cNvSpPr/>
          <p:nvPr/>
        </p:nvSpPr>
        <p:spPr>
          <a:xfrm flipH="1" flipV="1">
            <a:off x="6248520" y="2819160"/>
            <a:ext cx="457200" cy="9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5954400" y="3138480"/>
            <a:ext cx="5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O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11" name=""/>
          <p:cNvGrpSpPr/>
          <p:nvPr/>
        </p:nvGrpSpPr>
        <p:grpSpPr>
          <a:xfrm>
            <a:off x="3047760" y="2285640"/>
            <a:ext cx="5051880" cy="2972160"/>
            <a:chOff x="3047760" y="2285640"/>
            <a:chExt cx="5051880" cy="2972160"/>
          </a:xfrm>
        </p:grpSpPr>
        <p:sp>
          <p:nvSpPr>
            <p:cNvPr id="512" name=""/>
            <p:cNvSpPr/>
            <p:nvPr/>
          </p:nvSpPr>
          <p:spPr>
            <a:xfrm flipH="1" flipV="1">
              <a:off x="4876920" y="2285640"/>
              <a:ext cx="167616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3" name=""/>
            <p:cNvSpPr/>
            <p:nvPr/>
          </p:nvSpPr>
          <p:spPr>
            <a:xfrm flipH="1" flipV="1">
              <a:off x="3428640" y="2819160"/>
              <a:ext cx="3048120" cy="11430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"/>
            <p:cNvSpPr/>
            <p:nvPr/>
          </p:nvSpPr>
          <p:spPr>
            <a:xfrm flipH="1">
              <a:off x="6400440" y="4267080"/>
              <a:ext cx="30492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5" name=""/>
            <p:cNvSpPr/>
            <p:nvPr/>
          </p:nvSpPr>
          <p:spPr>
            <a:xfrm flipH="1">
              <a:off x="3580920" y="4191120"/>
              <a:ext cx="2971800" cy="10666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6" name=""/>
            <p:cNvSpPr/>
            <p:nvPr/>
          </p:nvSpPr>
          <p:spPr>
            <a:xfrm flipH="1" flipV="1">
              <a:off x="3047760" y="4038480"/>
              <a:ext cx="3429000" cy="76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863520" y="25146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3177720" y="374796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"/>
            <p:cNvSpPr/>
            <p:nvPr/>
          </p:nvSpPr>
          <p:spPr>
            <a:xfrm>
              <a:off x="37080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6222600" y="457200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1" name=""/>
            <p:cNvSpPr/>
            <p:nvPr/>
          </p:nvSpPr>
          <p:spPr>
            <a:xfrm>
              <a:off x="6222600" y="304812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2" name=""/>
            <p:cNvSpPr/>
            <p:nvPr/>
          </p:nvSpPr>
          <p:spPr>
            <a:xfrm>
              <a:off x="3482640" y="3124080"/>
              <a:ext cx="1877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OORDINA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24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25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2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3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4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5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3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6516720" y="4508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52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53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5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1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2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3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3995640" y="508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619280" y="47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1547640" y="314172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419640" y="2421000"/>
            <a:ext cx="158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5219640" y="184464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6443640" y="2924280"/>
            <a:ext cx="1584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Eleccion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999900"/>
                </a:solidFill>
                <a:latin typeface="Garamond"/>
              </a:rPr>
              <a:t>Algoritmos de Elecci</a:t>
            </a:r>
            <a:r>
              <a:rPr b="0" lang="es-ES_tradnl" sz="40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: Round-Robin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grpSp>
        <p:nvGrpSpPr>
          <p:cNvPr id="579" name=""/>
          <p:cNvGrpSpPr/>
          <p:nvPr/>
        </p:nvGrpSpPr>
        <p:grpSpPr>
          <a:xfrm>
            <a:off x="2514600" y="1828800"/>
            <a:ext cx="4495680" cy="4495680"/>
            <a:chOff x="2514600" y="1828800"/>
            <a:chExt cx="4495680" cy="4495680"/>
          </a:xfrm>
        </p:grpSpPr>
        <p:sp>
          <p:nvSpPr>
            <p:cNvPr id="580" name=""/>
            <p:cNvSpPr/>
            <p:nvPr/>
          </p:nvSpPr>
          <p:spPr>
            <a:xfrm>
              <a:off x="4495680" y="182880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1" name=""/>
            <p:cNvSpPr/>
            <p:nvPr/>
          </p:nvSpPr>
          <p:spPr>
            <a:xfrm>
              <a:off x="2971800" y="24382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2" name=""/>
            <p:cNvSpPr/>
            <p:nvPr/>
          </p:nvSpPr>
          <p:spPr>
            <a:xfrm>
              <a:off x="601992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3" name=""/>
            <p:cNvSpPr/>
            <p:nvPr/>
          </p:nvSpPr>
          <p:spPr>
            <a:xfrm>
              <a:off x="251460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4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5943600" y="2362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6553080" y="38098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6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124080" y="518148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4495680" y="5791320"/>
              <a:ext cx="457200" cy="457200"/>
            </a:xfrm>
            <a:prstGeom prst="ellipse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7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8" name=""/>
            <p:cNvSpPr/>
            <p:nvPr/>
          </p:nvSpPr>
          <p:spPr>
            <a:xfrm flipV="1">
              <a:off x="4343400" y="5791320"/>
              <a:ext cx="685800" cy="4572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4419720" y="5715000"/>
              <a:ext cx="533160" cy="6094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0" name=""/>
          <p:cNvSpPr/>
          <p:nvPr/>
        </p:nvSpPr>
        <p:spPr>
          <a:xfrm flipV="1">
            <a:off x="3419640" y="2060280"/>
            <a:ext cx="10810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932360" y="206064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6300720" y="2781360"/>
            <a:ext cx="43200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 flipH="1">
            <a:off x="6372000" y="4292640"/>
            <a:ext cx="360360" cy="86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 flipH="1">
            <a:off x="4932000" y="5516640"/>
            <a:ext cx="1079640" cy="433440"/>
          </a:xfrm>
          <a:prstGeom prst="line">
            <a:avLst/>
          </a:prstGeom>
          <a:ln w="936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 flipV="1">
            <a:off x="3492000" y="5516640"/>
            <a:ext cx="1008360" cy="433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 flipV="1">
            <a:off x="2771640" y="4292640"/>
            <a:ext cx="43200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2700360" y="2852640"/>
            <a:ext cx="358920" cy="936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 flipH="1">
            <a:off x="3564000" y="5373720"/>
            <a:ext cx="2448000" cy="0"/>
          </a:xfrm>
          <a:prstGeom prst="line">
            <a:avLst/>
          </a:prstGeom>
          <a:ln w="9360">
            <a:solidFill>
              <a:srgbClr val="000000"/>
            </a:solidFill>
            <a:prstDash val="lg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6588000" y="443700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995640" y="501336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>
            <a:off x="1258920" y="465300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971640" y="306864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2340000" y="191628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5219640" y="1916280"/>
            <a:ext cx="201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6443640" y="3141720"/>
            <a:ext cx="201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Coordinador(6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Los recursos compartidos muchas veces deben ser accedidos “at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micamente”, es decir solo un proceso a la vez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 esto se le menciona como entrar a la región crític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Para garantizar ese acceso único se usan algoritmos de exclusión mutu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demás debe garantizar que todo proceso que pida acceso, eventualmente lo obtiene (Liveness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en sistemas distribui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La concurrencia exige sincroniz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ntre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tiempo en un esquema distribuido es ambigu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s un valor absoluto, preciso ni com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ún a todos lo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Algoritmos distribuid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La informaci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está distribuida en diferentes no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toman decisiones sólo en base a la información loc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Debe evitarse un punto único de fall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existe un reloj comú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Centraliza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e escoge un nodo como coordinador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10" name=""/>
          <p:cNvSpPr/>
          <p:nvPr/>
        </p:nvSpPr>
        <p:spPr>
          <a:xfrm>
            <a:off x="41148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57150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4114800" y="51055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2514600" y="3048120"/>
            <a:ext cx="457200" cy="457200"/>
          </a:xfrm>
          <a:prstGeom prst="ellipse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14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pSp>
        <p:nvGrpSpPr>
          <p:cNvPr id="615" name=""/>
          <p:cNvGrpSpPr/>
          <p:nvPr/>
        </p:nvGrpSpPr>
        <p:grpSpPr>
          <a:xfrm>
            <a:off x="3315240" y="3505320"/>
            <a:ext cx="927360" cy="1523880"/>
            <a:chOff x="3315240" y="3505320"/>
            <a:chExt cx="927360" cy="1523880"/>
          </a:xfrm>
        </p:grpSpPr>
        <p:sp>
          <p:nvSpPr>
            <p:cNvPr id="616" name=""/>
            <p:cNvSpPr/>
            <p:nvPr/>
          </p:nvSpPr>
          <p:spPr>
            <a:xfrm>
              <a:off x="4191120" y="3505320"/>
              <a:ext cx="0" cy="15238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3315240" y="403848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18" name=""/>
          <p:cNvGrpSpPr/>
          <p:nvPr/>
        </p:nvGrpSpPr>
        <p:grpSpPr>
          <a:xfrm>
            <a:off x="4441320" y="3504960"/>
            <a:ext cx="500760" cy="1600200"/>
            <a:chOff x="4441320" y="3504960"/>
            <a:chExt cx="500760" cy="1600200"/>
          </a:xfrm>
        </p:grpSpPr>
        <p:sp>
          <p:nvSpPr>
            <p:cNvPr id="619" name=""/>
            <p:cNvSpPr/>
            <p:nvPr/>
          </p:nvSpPr>
          <p:spPr>
            <a:xfrm flipV="1">
              <a:off x="4495680" y="3504960"/>
              <a:ext cx="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4441320" y="4114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1" name=""/>
          <p:cNvGrpSpPr/>
          <p:nvPr/>
        </p:nvGrpSpPr>
        <p:grpSpPr>
          <a:xfrm>
            <a:off x="4495320" y="3505320"/>
            <a:ext cx="1774800" cy="1600200"/>
            <a:chOff x="4495320" y="3505320"/>
            <a:chExt cx="1774800" cy="1600200"/>
          </a:xfrm>
        </p:grpSpPr>
        <p:sp>
          <p:nvSpPr>
            <p:cNvPr id="622" name=""/>
            <p:cNvSpPr/>
            <p:nvPr/>
          </p:nvSpPr>
          <p:spPr>
            <a:xfrm flipH="1">
              <a:off x="4495320" y="35053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342760" y="3994200"/>
              <a:ext cx="927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olicit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4" name=""/>
          <p:cNvGrpSpPr/>
          <p:nvPr/>
        </p:nvGrpSpPr>
        <p:grpSpPr>
          <a:xfrm>
            <a:off x="4296600" y="3581280"/>
            <a:ext cx="792000" cy="1524240"/>
            <a:chOff x="4296600" y="3581280"/>
            <a:chExt cx="792000" cy="1524240"/>
          </a:xfrm>
        </p:grpSpPr>
        <p:sp>
          <p:nvSpPr>
            <p:cNvPr id="625" name=""/>
            <p:cNvSpPr/>
            <p:nvPr/>
          </p:nvSpPr>
          <p:spPr>
            <a:xfrm>
              <a:off x="4343400" y="3581280"/>
              <a:ext cx="0" cy="15242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4296600" y="3886200"/>
              <a:ext cx="7920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libera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7" name=""/>
          <p:cNvGrpSpPr/>
          <p:nvPr/>
        </p:nvGrpSpPr>
        <p:grpSpPr>
          <a:xfrm>
            <a:off x="4572000" y="3580920"/>
            <a:ext cx="1219320" cy="1600200"/>
            <a:chOff x="4572000" y="3580920"/>
            <a:chExt cx="1219320" cy="1600200"/>
          </a:xfrm>
        </p:grpSpPr>
        <p:sp>
          <p:nvSpPr>
            <p:cNvPr id="628" name=""/>
            <p:cNvSpPr/>
            <p:nvPr/>
          </p:nvSpPr>
          <p:spPr>
            <a:xfrm flipV="1">
              <a:off x="4572000" y="3580920"/>
              <a:ext cx="1219320" cy="1600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051160" y="4357800"/>
              <a:ext cx="500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OK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630" name=""/>
          <p:cNvGraphicFramePr/>
          <p:nvPr/>
        </p:nvGraphicFramePr>
        <p:xfrm>
          <a:off x="4724280" y="5334120"/>
          <a:ext cx="380880" cy="1366560"/>
        </p:xfrm>
        <a:graphic>
          <a:graphicData uri="http://schemas.openxmlformats.org/drawingml/2006/table">
            <a:tbl>
              <a:tblPr/>
              <a:tblGrid>
                <a:gridCol w="38088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oken-Ring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distribuyen los elementos en un anillo lógico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Se circula un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que permite el acceso a la región critic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El 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ke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se libera al abandonar la reg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No cumple la propiedad de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33" name=""/>
          <p:cNvSpPr/>
          <p:nvPr/>
        </p:nvSpPr>
        <p:spPr>
          <a:xfrm>
            <a:off x="3252960" y="4232160"/>
            <a:ext cx="3200400" cy="2210040"/>
          </a:xfrm>
          <a:prstGeom prst="ellipse">
            <a:avLst/>
          </a:prstGeom>
          <a:noFill/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151080" y="513864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335400" y="574992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878280" y="61768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4506840" y="635148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5153040" y="6316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5695920" y="61246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6114960" y="5802480"/>
            <a:ext cx="228600" cy="2286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1" name=""/>
          <p:cNvSpPr/>
          <p:nvPr/>
        </p:nvSpPr>
        <p:spPr>
          <a:xfrm>
            <a:off x="6324480" y="52164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"/>
          <p:cNvSpPr/>
          <p:nvPr/>
        </p:nvSpPr>
        <p:spPr>
          <a:xfrm>
            <a:off x="6140520" y="470052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3" name=""/>
          <p:cNvSpPr/>
          <p:nvPr/>
        </p:nvSpPr>
        <p:spPr>
          <a:xfrm>
            <a:off x="5738760" y="43419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4" name=""/>
          <p:cNvSpPr/>
          <p:nvPr/>
        </p:nvSpPr>
        <p:spPr>
          <a:xfrm>
            <a:off x="5205240" y="41673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5" name=""/>
          <p:cNvSpPr/>
          <p:nvPr/>
        </p:nvSpPr>
        <p:spPr>
          <a:xfrm>
            <a:off x="4664160" y="4114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"/>
          <p:cNvSpPr/>
          <p:nvPr/>
        </p:nvSpPr>
        <p:spPr>
          <a:xfrm>
            <a:off x="4121280" y="421956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7" name=""/>
          <p:cNvSpPr/>
          <p:nvPr/>
        </p:nvSpPr>
        <p:spPr>
          <a:xfrm>
            <a:off x="3684600" y="4411800"/>
            <a:ext cx="228600" cy="228600"/>
          </a:xfrm>
          <a:prstGeom prst="ellipse">
            <a:avLst/>
          </a:prstGeom>
          <a:solidFill>
            <a:srgbClr val="ff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8" name=""/>
          <p:cNvSpPr/>
          <p:nvPr/>
        </p:nvSpPr>
        <p:spPr>
          <a:xfrm>
            <a:off x="3176640" y="4613400"/>
            <a:ext cx="152280" cy="152280"/>
          </a:xfrm>
          <a:prstGeom prst="rect">
            <a:avLst/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9" name=""/>
          <p:cNvSpPr/>
          <p:nvPr/>
        </p:nvSpPr>
        <p:spPr>
          <a:xfrm>
            <a:off x="2796120" y="4156200"/>
            <a:ext cx="73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000" spc="-1" strike="noStrike">
                <a:solidFill>
                  <a:srgbClr val="000000"/>
                </a:solidFill>
                <a:latin typeface="Arial Narrow"/>
              </a:rPr>
              <a:t>toke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0" name=""/>
          <p:cNvSpPr/>
          <p:nvPr/>
        </p:nvSpPr>
        <p:spPr>
          <a:xfrm flipH="1">
            <a:off x="3176640" y="4765680"/>
            <a:ext cx="7632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Enfoque Distribuid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Usando Rel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ojes Lógic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Un proceso que quiere entrar en sección crítica (SC) envía mensaje de solicitud a todos los proceso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Cuando un proceso recibe un mensaje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no está en SC ni quiere entrar envía OK al emiso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ya está en SC no responde y encola el pedid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Si receptor desea entrar, mira marca de tiempo del mensaj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Si menor que marca tiempo de su mensaje de solicitud: envía OK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lnSpc>
                <a:spcPct val="90000"/>
              </a:lnSpc>
              <a:spcBef>
                <a:spcPts val="400"/>
              </a:spcBef>
              <a:buClr>
                <a:srgbClr val="66660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En caso contrario será él quien entre y encole el pedido.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51"/>
              </a:spcBef>
              <a:buClr>
                <a:srgbClr val="99cc00"/>
              </a:buClr>
              <a:buSzPct val="65000"/>
              <a:buFont typeface="Wingdings" charset="2"/>
              <a:buChar char="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Cuando un proceso recibe todos (N-1) los mensajes puede entrar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Garantiza todas las propiedades incluida ordenació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Exclusión mutu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 dos procesos, 0 y 2, quieren entrar en la región crítica a la vez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55" name=""/>
          <p:cNvSpPr/>
          <p:nvPr/>
        </p:nvSpPr>
        <p:spPr>
          <a:xfrm>
            <a:off x="977760" y="36702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6" name=""/>
          <p:cNvSpPr/>
          <p:nvPr/>
        </p:nvSpPr>
        <p:spPr>
          <a:xfrm>
            <a:off x="1025640" y="36306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7" name=""/>
          <p:cNvSpPr/>
          <p:nvPr/>
        </p:nvSpPr>
        <p:spPr>
          <a:xfrm>
            <a:off x="353880" y="48625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"/>
          <p:cNvSpPr/>
          <p:nvPr/>
        </p:nvSpPr>
        <p:spPr>
          <a:xfrm>
            <a:off x="401760" y="48229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9" name=""/>
          <p:cNvSpPr/>
          <p:nvPr/>
        </p:nvSpPr>
        <p:spPr>
          <a:xfrm>
            <a:off x="194796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"/>
          <p:cNvSpPr/>
          <p:nvPr/>
        </p:nvSpPr>
        <p:spPr>
          <a:xfrm>
            <a:off x="19954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"/>
          <p:cNvSpPr/>
          <p:nvPr/>
        </p:nvSpPr>
        <p:spPr>
          <a:xfrm flipH="1">
            <a:off x="652320" y="4070520"/>
            <a:ext cx="400320" cy="801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867960" y="5062680"/>
            <a:ext cx="1050840" cy="252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0" bIns="-21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3" name=""/>
          <p:cNvSpPr/>
          <p:nvPr/>
        </p:nvSpPr>
        <p:spPr>
          <a:xfrm flipH="1" flipV="1">
            <a:off x="1433520" y="4000680"/>
            <a:ext cx="75096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"/>
          <p:cNvSpPr/>
          <p:nvPr/>
        </p:nvSpPr>
        <p:spPr>
          <a:xfrm>
            <a:off x="1346040" y="4141800"/>
            <a:ext cx="665280" cy="7380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5" name=""/>
          <p:cNvSpPr/>
          <p:nvPr/>
        </p:nvSpPr>
        <p:spPr>
          <a:xfrm>
            <a:off x="518760" y="421308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6" name=""/>
          <p:cNvSpPr/>
          <p:nvPr/>
        </p:nvSpPr>
        <p:spPr>
          <a:xfrm>
            <a:off x="1299600" y="4352760"/>
            <a:ext cx="3088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"/>
          <p:cNvSpPr/>
          <p:nvPr/>
        </p:nvSpPr>
        <p:spPr>
          <a:xfrm>
            <a:off x="1865880" y="41306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8" name=""/>
          <p:cNvSpPr/>
          <p:nvPr/>
        </p:nvSpPr>
        <p:spPr>
          <a:xfrm>
            <a:off x="1205640" y="5086440"/>
            <a:ext cx="436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"/>
          <p:cNvSpPr/>
          <p:nvPr/>
        </p:nvSpPr>
        <p:spPr>
          <a:xfrm>
            <a:off x="3824280" y="367200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"/>
          <p:cNvSpPr/>
          <p:nvPr/>
        </p:nvSpPr>
        <p:spPr>
          <a:xfrm>
            <a:off x="3872160" y="36320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"/>
          <p:cNvSpPr/>
          <p:nvPr/>
        </p:nvSpPr>
        <p:spPr>
          <a:xfrm>
            <a:off x="3200400" y="4863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"/>
          <p:cNvSpPr/>
          <p:nvPr/>
        </p:nvSpPr>
        <p:spPr>
          <a:xfrm>
            <a:off x="3248280" y="4824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3" name=""/>
          <p:cNvSpPr/>
          <p:nvPr/>
        </p:nvSpPr>
        <p:spPr>
          <a:xfrm>
            <a:off x="4794120" y="48657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4" name=""/>
          <p:cNvSpPr/>
          <p:nvPr/>
        </p:nvSpPr>
        <p:spPr>
          <a:xfrm>
            <a:off x="4842000" y="4826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"/>
          <p:cNvSpPr/>
          <p:nvPr/>
        </p:nvSpPr>
        <p:spPr>
          <a:xfrm flipV="1">
            <a:off x="3535200" y="4059000"/>
            <a:ext cx="378000" cy="7887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6" name=""/>
          <p:cNvSpPr/>
          <p:nvPr/>
        </p:nvSpPr>
        <p:spPr>
          <a:xfrm>
            <a:off x="3651120" y="5087880"/>
            <a:ext cx="1101960" cy="1584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"/>
          <p:cNvSpPr/>
          <p:nvPr/>
        </p:nvSpPr>
        <p:spPr>
          <a:xfrm flipH="1" flipV="1">
            <a:off x="4279680" y="4002120"/>
            <a:ext cx="750600" cy="8143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"/>
          <p:cNvSpPr/>
          <p:nvPr/>
        </p:nvSpPr>
        <p:spPr>
          <a:xfrm>
            <a:off x="3277440" y="41403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9" name=""/>
          <p:cNvSpPr/>
          <p:nvPr/>
        </p:nvSpPr>
        <p:spPr>
          <a:xfrm>
            <a:off x="3969360" y="507060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"/>
          <p:cNvSpPr/>
          <p:nvPr/>
        </p:nvSpPr>
        <p:spPr>
          <a:xfrm>
            <a:off x="4560120" y="40971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1" name=""/>
          <p:cNvSpPr/>
          <p:nvPr/>
        </p:nvSpPr>
        <p:spPr>
          <a:xfrm>
            <a:off x="3309480" y="333684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"/>
          <p:cNvSpPr/>
          <p:nvPr/>
        </p:nvSpPr>
        <p:spPr>
          <a:xfrm>
            <a:off x="6946920" y="3686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3" name=""/>
          <p:cNvSpPr/>
          <p:nvPr/>
        </p:nvSpPr>
        <p:spPr>
          <a:xfrm>
            <a:off x="6994800" y="36464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4" name=""/>
          <p:cNvSpPr/>
          <p:nvPr/>
        </p:nvSpPr>
        <p:spPr>
          <a:xfrm>
            <a:off x="6323040" y="4878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5" name=""/>
          <p:cNvSpPr/>
          <p:nvPr/>
        </p:nvSpPr>
        <p:spPr>
          <a:xfrm>
            <a:off x="6370920" y="48387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6" name=""/>
          <p:cNvSpPr/>
          <p:nvPr/>
        </p:nvSpPr>
        <p:spPr>
          <a:xfrm>
            <a:off x="7916760" y="4879800"/>
            <a:ext cx="438120" cy="43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7" name=""/>
          <p:cNvSpPr/>
          <p:nvPr/>
        </p:nvSpPr>
        <p:spPr>
          <a:xfrm>
            <a:off x="7964640" y="48402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8" name=""/>
          <p:cNvSpPr/>
          <p:nvPr/>
        </p:nvSpPr>
        <p:spPr>
          <a:xfrm>
            <a:off x="7377120" y="4091040"/>
            <a:ext cx="627120" cy="7635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"/>
          <p:cNvSpPr/>
          <p:nvPr/>
        </p:nvSpPr>
        <p:spPr>
          <a:xfrm>
            <a:off x="7682760" y="4111560"/>
            <a:ext cx="549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O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0" name=""/>
          <p:cNvSpPr/>
          <p:nvPr/>
        </p:nvSpPr>
        <p:spPr>
          <a:xfrm>
            <a:off x="7283160" y="5280120"/>
            <a:ext cx="167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(Entra en R.C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Exclus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Mutua: Comparación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graphicFrame>
        <p:nvGraphicFramePr>
          <p:cNvPr id="692" name=""/>
          <p:cNvGraphicFramePr/>
          <p:nvPr/>
        </p:nvGraphicFramePr>
        <p:xfrm>
          <a:off x="533520" y="1905120"/>
          <a:ext cx="8229600" cy="4599000"/>
        </p:xfrm>
        <a:graphic>
          <a:graphicData uri="http://schemas.openxmlformats.org/drawingml/2006/table">
            <a:tbl>
              <a:tblPr/>
              <a:tblGrid>
                <a:gridCol w="2361960"/>
                <a:gridCol w="1752840"/>
                <a:gridCol w="2057400"/>
                <a:gridCol w="2057400"/>
              </a:tblGrid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lgoritm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Espera en mensaj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roblema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entralizad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coordinador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1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Token-Ring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a ∞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 a n-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Ca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557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Relojes L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ógic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(n-1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</a:t>
                      </a:r>
                      <a:r>
                        <a:rPr b="0" lang="es-ES_tradnl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érdida del token, caída de un proces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Tolerancia a Fall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Redundanci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Canal de comunicación con pérdida: Generales Descoordinad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Verdana"/>
              </a:rPr>
              <a:t>Nodos con fallas: Generales Bizantin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La técnica más usada para enmascarar las fallas es la Redundanci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Verdana"/>
              </a:rPr>
              <a:t>Hay tres tipo de redundancia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información: se agrega información adicional para detectar fallas (código de Hamming, bits de parridad, etc.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De tiempo: una acción se puede repetir si es necesario (modelo de transacciones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Verdana"/>
              </a:rPr>
              <a:t>Física: se adicionan equipos o procesos extras para sustituirlo por el componente que fall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La redundancia física es la más usada para proveer tolerancia a fallas: en biología, aviones, deportes y circuitos electrón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Verdana"/>
              </a:rPr>
              <a:t>El modelo de circuitos electrónicos TMR (Triple Modular Redundancy) es un buen modelo para los sistemas distribuid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Redundancia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699" name=""/>
          <p:cNvSpPr/>
          <p:nvPr/>
        </p:nvSpPr>
        <p:spPr>
          <a:xfrm>
            <a:off x="489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0" name=""/>
          <p:cNvSpPr/>
          <p:nvPr/>
        </p:nvSpPr>
        <p:spPr>
          <a:xfrm>
            <a:off x="651672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"/>
          <p:cNvSpPr/>
          <p:nvPr/>
        </p:nvSpPr>
        <p:spPr>
          <a:xfrm>
            <a:off x="8136000" y="3760920"/>
            <a:ext cx="4762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"/>
          <p:cNvSpPr/>
          <p:nvPr/>
        </p:nvSpPr>
        <p:spPr>
          <a:xfrm>
            <a:off x="5334120" y="4008600"/>
            <a:ext cx="116208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"/>
          <p:cNvSpPr/>
          <p:nvPr/>
        </p:nvSpPr>
        <p:spPr>
          <a:xfrm>
            <a:off x="7010280" y="4008600"/>
            <a:ext cx="116208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"/>
          <p:cNvSpPr/>
          <p:nvPr/>
        </p:nvSpPr>
        <p:spPr>
          <a:xfrm>
            <a:off x="560520" y="4408560"/>
            <a:ext cx="50616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5" name=""/>
          <p:cNvSpPr/>
          <p:nvPr/>
        </p:nvSpPr>
        <p:spPr>
          <a:xfrm>
            <a:off x="539640" y="516564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6" name=""/>
          <p:cNvSpPr/>
          <p:nvPr/>
        </p:nvSpPr>
        <p:spPr>
          <a:xfrm>
            <a:off x="539640" y="5921280"/>
            <a:ext cx="5335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A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7" name=""/>
          <p:cNvSpPr/>
          <p:nvPr/>
        </p:nvSpPr>
        <p:spPr>
          <a:xfrm>
            <a:off x="3348000" y="4444920"/>
            <a:ext cx="42408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"/>
          <p:cNvSpPr/>
          <p:nvPr/>
        </p:nvSpPr>
        <p:spPr>
          <a:xfrm>
            <a:off x="3313080" y="520056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"/>
          <p:cNvSpPr/>
          <p:nvPr/>
        </p:nvSpPr>
        <p:spPr>
          <a:xfrm>
            <a:off x="3313080" y="595800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B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0" name=""/>
          <p:cNvSpPr/>
          <p:nvPr/>
        </p:nvSpPr>
        <p:spPr>
          <a:xfrm>
            <a:off x="6373800" y="4444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1" name=""/>
          <p:cNvSpPr/>
          <p:nvPr/>
        </p:nvSpPr>
        <p:spPr>
          <a:xfrm>
            <a:off x="6373800" y="523728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2" name=""/>
          <p:cNvSpPr/>
          <p:nvPr/>
        </p:nvSpPr>
        <p:spPr>
          <a:xfrm>
            <a:off x="6373800" y="5992920"/>
            <a:ext cx="423720" cy="457200"/>
          </a:xfrm>
          <a:prstGeom prst="ellipse">
            <a:avLst/>
          </a:prstGeom>
          <a:solidFill>
            <a:srgbClr val="00b8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no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3" name=""/>
          <p:cNvSpPr/>
          <p:nvPr/>
        </p:nvSpPr>
        <p:spPr>
          <a:xfrm>
            <a:off x="194328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4" name=""/>
          <p:cNvSpPr/>
          <p:nvPr/>
        </p:nvSpPr>
        <p:spPr>
          <a:xfrm>
            <a:off x="194328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5" name=""/>
          <p:cNvSpPr/>
          <p:nvPr/>
        </p:nvSpPr>
        <p:spPr>
          <a:xfrm flipV="1">
            <a:off x="194328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"/>
          <p:cNvSpPr/>
          <p:nvPr/>
        </p:nvSpPr>
        <p:spPr>
          <a:xfrm>
            <a:off x="194328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7" name=""/>
          <p:cNvSpPr/>
          <p:nvPr/>
        </p:nvSpPr>
        <p:spPr>
          <a:xfrm>
            <a:off x="194328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8" name=""/>
          <p:cNvSpPr/>
          <p:nvPr/>
        </p:nvSpPr>
        <p:spPr>
          <a:xfrm flipV="1">
            <a:off x="194328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9" name=""/>
          <p:cNvSpPr/>
          <p:nvPr/>
        </p:nvSpPr>
        <p:spPr>
          <a:xfrm>
            <a:off x="194328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0" name=""/>
          <p:cNvSpPr/>
          <p:nvPr/>
        </p:nvSpPr>
        <p:spPr>
          <a:xfrm>
            <a:off x="194328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1" name=""/>
          <p:cNvSpPr/>
          <p:nvPr/>
        </p:nvSpPr>
        <p:spPr>
          <a:xfrm flipV="1">
            <a:off x="194328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2" name=""/>
          <p:cNvSpPr/>
          <p:nvPr/>
        </p:nvSpPr>
        <p:spPr>
          <a:xfrm>
            <a:off x="193536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3" name=""/>
          <p:cNvSpPr/>
          <p:nvPr/>
        </p:nvSpPr>
        <p:spPr>
          <a:xfrm>
            <a:off x="193536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"/>
          <p:cNvSpPr/>
          <p:nvPr/>
        </p:nvSpPr>
        <p:spPr>
          <a:xfrm>
            <a:off x="193536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5" name=""/>
          <p:cNvSpPr/>
          <p:nvPr/>
        </p:nvSpPr>
        <p:spPr>
          <a:xfrm>
            <a:off x="489600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6" name=""/>
          <p:cNvSpPr/>
          <p:nvPr/>
        </p:nvSpPr>
        <p:spPr>
          <a:xfrm>
            <a:off x="489600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"/>
          <p:cNvSpPr/>
          <p:nvPr/>
        </p:nvSpPr>
        <p:spPr>
          <a:xfrm flipV="1">
            <a:off x="489600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8" name=""/>
          <p:cNvSpPr/>
          <p:nvPr/>
        </p:nvSpPr>
        <p:spPr>
          <a:xfrm>
            <a:off x="489600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9" name=""/>
          <p:cNvSpPr/>
          <p:nvPr/>
        </p:nvSpPr>
        <p:spPr>
          <a:xfrm>
            <a:off x="489600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0" name=""/>
          <p:cNvSpPr/>
          <p:nvPr/>
        </p:nvSpPr>
        <p:spPr>
          <a:xfrm flipV="1">
            <a:off x="489600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1" name=""/>
          <p:cNvSpPr/>
          <p:nvPr/>
        </p:nvSpPr>
        <p:spPr>
          <a:xfrm>
            <a:off x="489600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2" name=""/>
          <p:cNvSpPr/>
          <p:nvPr/>
        </p:nvSpPr>
        <p:spPr>
          <a:xfrm>
            <a:off x="489600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3" name=""/>
          <p:cNvSpPr/>
          <p:nvPr/>
        </p:nvSpPr>
        <p:spPr>
          <a:xfrm flipV="1">
            <a:off x="489600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4" name=""/>
          <p:cNvSpPr/>
          <p:nvPr/>
        </p:nvSpPr>
        <p:spPr>
          <a:xfrm>
            <a:off x="488844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4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5" name=""/>
          <p:cNvSpPr/>
          <p:nvPr/>
        </p:nvSpPr>
        <p:spPr>
          <a:xfrm>
            <a:off x="488844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5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6" name=""/>
          <p:cNvSpPr/>
          <p:nvPr/>
        </p:nvSpPr>
        <p:spPr>
          <a:xfrm>
            <a:off x="488844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6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7" name=""/>
          <p:cNvSpPr/>
          <p:nvPr/>
        </p:nvSpPr>
        <p:spPr>
          <a:xfrm>
            <a:off x="7883640" y="440064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8" name=""/>
          <p:cNvSpPr/>
          <p:nvPr/>
        </p:nvSpPr>
        <p:spPr>
          <a:xfrm>
            <a:off x="7883640" y="440064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9" name=""/>
          <p:cNvSpPr/>
          <p:nvPr/>
        </p:nvSpPr>
        <p:spPr>
          <a:xfrm flipV="1">
            <a:off x="7883640" y="460656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0" name=""/>
          <p:cNvSpPr/>
          <p:nvPr/>
        </p:nvSpPr>
        <p:spPr>
          <a:xfrm>
            <a:off x="7883640" y="5229360"/>
            <a:ext cx="1440" cy="342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1" name=""/>
          <p:cNvSpPr/>
          <p:nvPr/>
        </p:nvSpPr>
        <p:spPr>
          <a:xfrm>
            <a:off x="7883640" y="5229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"/>
          <p:cNvSpPr/>
          <p:nvPr/>
        </p:nvSpPr>
        <p:spPr>
          <a:xfrm flipV="1">
            <a:off x="7883640" y="5435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3" name=""/>
          <p:cNvSpPr/>
          <p:nvPr/>
        </p:nvSpPr>
        <p:spPr>
          <a:xfrm>
            <a:off x="7883640" y="6021360"/>
            <a:ext cx="1440" cy="343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4" name=""/>
          <p:cNvSpPr/>
          <p:nvPr/>
        </p:nvSpPr>
        <p:spPr>
          <a:xfrm>
            <a:off x="7883640" y="6021360"/>
            <a:ext cx="361800" cy="190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"/>
          <p:cNvSpPr/>
          <p:nvPr/>
        </p:nvSpPr>
        <p:spPr>
          <a:xfrm flipV="1">
            <a:off x="7883640" y="6227280"/>
            <a:ext cx="361800" cy="158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6" name=""/>
          <p:cNvSpPr/>
          <p:nvPr/>
        </p:nvSpPr>
        <p:spPr>
          <a:xfrm>
            <a:off x="7876080" y="444024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7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7" name=""/>
          <p:cNvSpPr/>
          <p:nvPr/>
        </p:nvSpPr>
        <p:spPr>
          <a:xfrm>
            <a:off x="7876080" y="5268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8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"/>
          <p:cNvSpPr/>
          <p:nvPr/>
        </p:nvSpPr>
        <p:spPr>
          <a:xfrm>
            <a:off x="7876080" y="6060960"/>
            <a:ext cx="256680" cy="31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2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Times New Roman"/>
              </a:rPr>
              <a:t>v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"/>
          <p:cNvSpPr/>
          <p:nvPr/>
        </p:nvSpPr>
        <p:spPr>
          <a:xfrm>
            <a:off x="1085760" y="463392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0" name=""/>
          <p:cNvSpPr/>
          <p:nvPr/>
        </p:nvSpPr>
        <p:spPr>
          <a:xfrm>
            <a:off x="1085760" y="5424480"/>
            <a:ext cx="838440" cy="14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"/>
          <p:cNvSpPr/>
          <p:nvPr/>
        </p:nvSpPr>
        <p:spPr>
          <a:xfrm>
            <a:off x="1085760" y="6181560"/>
            <a:ext cx="83844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2" name=""/>
          <p:cNvSpPr/>
          <p:nvPr/>
        </p:nvSpPr>
        <p:spPr>
          <a:xfrm flipV="1">
            <a:off x="2346480" y="462564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3" name=""/>
          <p:cNvSpPr/>
          <p:nvPr/>
        </p:nvSpPr>
        <p:spPr>
          <a:xfrm>
            <a:off x="2346480" y="5427720"/>
            <a:ext cx="933120" cy="3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4" name=""/>
          <p:cNvSpPr/>
          <p:nvPr/>
        </p:nvSpPr>
        <p:spPr>
          <a:xfrm flipV="1">
            <a:off x="2346480" y="6205320"/>
            <a:ext cx="968400" cy="14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5" name=""/>
          <p:cNvSpPr/>
          <p:nvPr/>
        </p:nvSpPr>
        <p:spPr>
          <a:xfrm flipV="1">
            <a:off x="378612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6" name=""/>
          <p:cNvSpPr/>
          <p:nvPr/>
        </p:nvSpPr>
        <p:spPr>
          <a:xfrm flipV="1">
            <a:off x="378612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7" name=""/>
          <p:cNvSpPr/>
          <p:nvPr/>
        </p:nvSpPr>
        <p:spPr>
          <a:xfrm flipV="1">
            <a:off x="3749760" y="6208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8" name=""/>
          <p:cNvSpPr/>
          <p:nvPr/>
        </p:nvSpPr>
        <p:spPr>
          <a:xfrm flipV="1">
            <a:off x="529740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9" name=""/>
          <p:cNvSpPr/>
          <p:nvPr/>
        </p:nvSpPr>
        <p:spPr>
          <a:xfrm flipV="1">
            <a:off x="5297400" y="5416200"/>
            <a:ext cx="1046160" cy="111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0" name=""/>
          <p:cNvSpPr/>
          <p:nvPr/>
        </p:nvSpPr>
        <p:spPr>
          <a:xfrm flipV="1">
            <a:off x="529740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1" name=""/>
          <p:cNvSpPr/>
          <p:nvPr/>
        </p:nvSpPr>
        <p:spPr>
          <a:xfrm flipV="1">
            <a:off x="6846840" y="462564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2" name=""/>
          <p:cNvSpPr/>
          <p:nvPr/>
        </p:nvSpPr>
        <p:spPr>
          <a:xfrm flipV="1">
            <a:off x="6773760" y="541620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3" name=""/>
          <p:cNvSpPr/>
          <p:nvPr/>
        </p:nvSpPr>
        <p:spPr>
          <a:xfrm flipV="1">
            <a:off x="6773760" y="6244920"/>
            <a:ext cx="1046160" cy="111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5640" bIns="-356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4" name=""/>
          <p:cNvSpPr/>
          <p:nvPr/>
        </p:nvSpPr>
        <p:spPr>
          <a:xfrm>
            <a:off x="8286840" y="4627440"/>
            <a:ext cx="457200" cy="18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5" name=""/>
          <p:cNvSpPr/>
          <p:nvPr/>
        </p:nvSpPr>
        <p:spPr>
          <a:xfrm>
            <a:off x="8286840" y="541980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6" name=""/>
          <p:cNvSpPr/>
          <p:nvPr/>
        </p:nvSpPr>
        <p:spPr>
          <a:xfrm>
            <a:off x="8286840" y="6210360"/>
            <a:ext cx="457200" cy="1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7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8" name=""/>
          <p:cNvSpPr/>
          <p:nvPr/>
        </p:nvSpPr>
        <p:spPr>
          <a:xfrm>
            <a:off x="238284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9" name=""/>
          <p:cNvSpPr/>
          <p:nvPr/>
        </p:nvSpPr>
        <p:spPr>
          <a:xfrm>
            <a:off x="3790800" y="4648320"/>
            <a:ext cx="1105200" cy="7999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0" name=""/>
          <p:cNvSpPr/>
          <p:nvPr/>
        </p:nvSpPr>
        <p:spPr>
          <a:xfrm>
            <a:off x="5276880" y="4610160"/>
            <a:ext cx="1066680" cy="8190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1" name=""/>
          <p:cNvSpPr/>
          <p:nvPr/>
        </p:nvSpPr>
        <p:spPr>
          <a:xfrm>
            <a:off x="6819840" y="4648320"/>
            <a:ext cx="1047960" cy="780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2" name=""/>
          <p:cNvSpPr/>
          <p:nvPr/>
        </p:nvSpPr>
        <p:spPr>
          <a:xfrm>
            <a:off x="1085760" y="462924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3" name=""/>
          <p:cNvSpPr/>
          <p:nvPr/>
        </p:nvSpPr>
        <p:spPr>
          <a:xfrm>
            <a:off x="1085760" y="5384880"/>
            <a:ext cx="876240" cy="76176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4" name=""/>
          <p:cNvSpPr/>
          <p:nvPr/>
        </p:nvSpPr>
        <p:spPr>
          <a:xfrm>
            <a:off x="2346480" y="5421240"/>
            <a:ext cx="968400" cy="770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5" name=""/>
          <p:cNvSpPr/>
          <p:nvPr/>
        </p:nvSpPr>
        <p:spPr>
          <a:xfrm>
            <a:off x="3753000" y="5429160"/>
            <a:ext cx="1104840" cy="8002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6" name=""/>
          <p:cNvSpPr/>
          <p:nvPr/>
        </p:nvSpPr>
        <p:spPr>
          <a:xfrm>
            <a:off x="5265720" y="5429160"/>
            <a:ext cx="1104840" cy="8002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7" name=""/>
          <p:cNvSpPr/>
          <p:nvPr/>
        </p:nvSpPr>
        <p:spPr>
          <a:xfrm>
            <a:off x="6800760" y="5448240"/>
            <a:ext cx="1044720" cy="781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8" name=""/>
          <p:cNvSpPr/>
          <p:nvPr/>
        </p:nvSpPr>
        <p:spPr>
          <a:xfrm>
            <a:off x="1085760" y="4629240"/>
            <a:ext cx="895320" cy="15620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9" name=""/>
          <p:cNvSpPr/>
          <p:nvPr/>
        </p:nvSpPr>
        <p:spPr>
          <a:xfrm flipV="1">
            <a:off x="1085760" y="4626000"/>
            <a:ext cx="876240" cy="768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0" name=""/>
          <p:cNvSpPr/>
          <p:nvPr/>
        </p:nvSpPr>
        <p:spPr>
          <a:xfrm flipV="1">
            <a:off x="1047600" y="5387760"/>
            <a:ext cx="876600" cy="7873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1" name=""/>
          <p:cNvSpPr/>
          <p:nvPr/>
        </p:nvSpPr>
        <p:spPr>
          <a:xfrm flipV="1">
            <a:off x="1104840" y="4587480"/>
            <a:ext cx="857160" cy="156852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2" name=""/>
          <p:cNvSpPr/>
          <p:nvPr/>
        </p:nvSpPr>
        <p:spPr>
          <a:xfrm>
            <a:off x="2343240" y="4648320"/>
            <a:ext cx="1009440" cy="160020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3" name=""/>
          <p:cNvSpPr/>
          <p:nvPr/>
        </p:nvSpPr>
        <p:spPr>
          <a:xfrm flipV="1">
            <a:off x="2324160" y="4606560"/>
            <a:ext cx="10476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4" name=""/>
          <p:cNvSpPr/>
          <p:nvPr/>
        </p:nvSpPr>
        <p:spPr>
          <a:xfrm flipV="1">
            <a:off x="2305080" y="5387760"/>
            <a:ext cx="990720" cy="7873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"/>
          <p:cNvSpPr/>
          <p:nvPr/>
        </p:nvSpPr>
        <p:spPr>
          <a:xfrm flipV="1">
            <a:off x="2305080" y="4663800"/>
            <a:ext cx="1047600" cy="158724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6" name=""/>
          <p:cNvSpPr/>
          <p:nvPr/>
        </p:nvSpPr>
        <p:spPr>
          <a:xfrm>
            <a:off x="3772080" y="4648320"/>
            <a:ext cx="1143000" cy="16002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"/>
          <p:cNvSpPr/>
          <p:nvPr/>
        </p:nvSpPr>
        <p:spPr>
          <a:xfrm flipV="1">
            <a:off x="3790800" y="4587840"/>
            <a:ext cx="11242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8" name=""/>
          <p:cNvSpPr/>
          <p:nvPr/>
        </p:nvSpPr>
        <p:spPr>
          <a:xfrm flipV="1">
            <a:off x="3753000" y="5425920"/>
            <a:ext cx="1123920" cy="74952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9" name=""/>
          <p:cNvSpPr/>
          <p:nvPr/>
        </p:nvSpPr>
        <p:spPr>
          <a:xfrm flipV="1">
            <a:off x="3733920" y="4587480"/>
            <a:ext cx="1199880" cy="16448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0" name=""/>
          <p:cNvSpPr/>
          <p:nvPr/>
        </p:nvSpPr>
        <p:spPr>
          <a:xfrm>
            <a:off x="5276880" y="4629240"/>
            <a:ext cx="106668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"/>
          <p:cNvSpPr/>
          <p:nvPr/>
        </p:nvSpPr>
        <p:spPr>
          <a:xfrm flipV="1">
            <a:off x="5276880" y="4606560"/>
            <a:ext cx="1143000" cy="825480"/>
          </a:xfrm>
          <a:prstGeom prst="line">
            <a:avLst/>
          </a:prstGeom>
          <a:ln w="936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2" name=""/>
          <p:cNvSpPr/>
          <p:nvPr/>
        </p:nvSpPr>
        <p:spPr>
          <a:xfrm flipV="1">
            <a:off x="5295960" y="5407200"/>
            <a:ext cx="1066680" cy="806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"/>
          <p:cNvSpPr/>
          <p:nvPr/>
        </p:nvSpPr>
        <p:spPr>
          <a:xfrm flipV="1">
            <a:off x="5295960" y="4645080"/>
            <a:ext cx="1104840" cy="15876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"/>
          <p:cNvSpPr/>
          <p:nvPr/>
        </p:nvSpPr>
        <p:spPr>
          <a:xfrm>
            <a:off x="6781680" y="4591080"/>
            <a:ext cx="1123920" cy="165744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5" name=""/>
          <p:cNvSpPr/>
          <p:nvPr/>
        </p:nvSpPr>
        <p:spPr>
          <a:xfrm flipV="1">
            <a:off x="6781680" y="4572000"/>
            <a:ext cx="1143000" cy="86040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6" name=""/>
          <p:cNvSpPr/>
          <p:nvPr/>
        </p:nvSpPr>
        <p:spPr>
          <a:xfrm flipV="1">
            <a:off x="6819840" y="5425560"/>
            <a:ext cx="1067040" cy="82548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"/>
          <p:cNvSpPr/>
          <p:nvPr/>
        </p:nvSpPr>
        <p:spPr>
          <a:xfrm flipV="1">
            <a:off x="6800760" y="4587480"/>
            <a:ext cx="1104840" cy="1663560"/>
          </a:xfrm>
          <a:prstGeom prst="line">
            <a:avLst/>
          </a:prstGeom>
          <a:ln w="93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8" name=""/>
          <p:cNvSpPr/>
          <p:nvPr/>
        </p:nvSpPr>
        <p:spPr>
          <a:xfrm>
            <a:off x="5800320" y="373392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9" name=""/>
          <p:cNvSpPr/>
          <p:nvPr/>
        </p:nvSpPr>
        <p:spPr>
          <a:xfrm>
            <a:off x="7476840" y="3747960"/>
            <a:ext cx="31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Verdana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municación en gru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507600" y="1599840"/>
            <a:ext cx="846612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comunicación es entre un grupo de proceso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emisor envía, el mensaje lo reciben todos los miembros de u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s grupos se entienden como dinámicos, se pueden crear y destruir grupos. Un proceso puede ser miembro de varios grupos, se puede unir a uno y dejar otr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gunas redes permiten diferentes tipos de broadcasting, lo que facilita la implementación de comunicación en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grupos pueden ser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biertos: no-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errados: solo los miembros pueden enviar al grup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s miembros del grupo pueden ser iguales ( peer) , o bien existe un miembro coordinador o líde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 existir, los envíos se hacen al coordinador, que decide a qué miembro reenvi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Membresía: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se requiere cierto método para la creación y eliminación de grupos, así como permitir a los procesos que se unen o dejen grupos ( mecanismo distribuido vs.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Servidor de grupo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)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Problemas de 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a considerar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Tiempo y estados global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clusión mutua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s de elección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Problemas de coordinació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Operaciones atómicas distribuidas: Transac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: Membresí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 miembro crash -&gt; deja de pertenecer al grupo. Los demás miembros deben descubrir en forma experimental que ya no pertenece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salida o entrada a un grupo debe sincronizarse con el envió de mensajes ( Ex. Cuando se une al grupo debe RX todos los mensajes, como solucionar : cuando se une enviar un mensaje a todos , Hola!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hay muchos procesos que fallan y el grupo no funciona. Se necesita protocolo de reconstrucción del grupo . Algún proceso toma la iniciativa , que pasa si mas de uno lo hace 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spectos de diseño (cont.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Direccionamiento al grupo: 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como especifico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Grup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para que un </a:t>
            </a:r>
            <a:r>
              <a:rPr b="0" i="1" lang="es-ES" sz="2800" spc="-1" strike="noStrike">
                <a:solidFill>
                  <a:srgbClr val="000000"/>
                </a:solidFill>
                <a:latin typeface="Verdana"/>
              </a:rPr>
              <a:t>proceso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le envie un mensaje ?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tomicidad: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cuando se envía un mensaje a un grupo, llega a todos los miembros o no llega a ninguno ( propiedad all-or-nothing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La atomicidad es una propiedad deseable ( facilita la programación de los Sistemas Distribuidos )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Atomicidad 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¿cómo asegurar la atomicidad o TX atómica ( atomacity or Atomic Broadcast )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única forma de garantizar que cada miembro reciba el mensaje es pedirle que devuelva un reconocimiento al recibir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ero ¿y si aun así falla algún host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Una solución [Birman89]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emisor envía un mensaje a todos los miembros. Se setean timers y se reenvía el mensaje en los casos necesari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miembro recibe el mensaje, si lo ha RX ya lo descarta. Si no, lo envía a todos los miembros del grupo (usando también Timers y retransmisiones, RTX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 importa las fallas de red o procesos , En un cierto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T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odos los </a:t>
            </a: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Pi activos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tendrán </a:t>
            </a:r>
            <a:r>
              <a:rPr b="0" i="1" lang="en-US" sz="2000" spc="-1" strike="noStrike">
                <a:solidFill>
                  <a:srgbClr val="000000"/>
                </a:solidFill>
                <a:latin typeface="Verdana"/>
              </a:rPr>
              <a:t>Mi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1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tra propiedad deseable es la del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ordenamiento de mensaj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5 miembros.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,P1,P3 y 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ertenecen a un mismo grup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forma simultanea, los miembros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y 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P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ean enviar un mensaje (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m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 al grupo. Podrían enviarlo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2" name=""/>
          <p:cNvSpPr/>
          <p:nvPr/>
        </p:nvSpPr>
        <p:spPr>
          <a:xfrm>
            <a:off x="1619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3" name=""/>
          <p:cNvSpPr/>
          <p:nvPr/>
        </p:nvSpPr>
        <p:spPr>
          <a:xfrm>
            <a:off x="262728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4" name=""/>
          <p:cNvSpPr/>
          <p:nvPr/>
        </p:nvSpPr>
        <p:spPr>
          <a:xfrm>
            <a:off x="3564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5" name=""/>
          <p:cNvSpPr/>
          <p:nvPr/>
        </p:nvSpPr>
        <p:spPr>
          <a:xfrm>
            <a:off x="4572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6" name=""/>
          <p:cNvSpPr/>
          <p:nvPr/>
        </p:nvSpPr>
        <p:spPr>
          <a:xfrm>
            <a:off x="5580000" y="5084640"/>
            <a:ext cx="576360" cy="45972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"/>
          <p:cNvSpPr/>
          <p:nvPr/>
        </p:nvSpPr>
        <p:spPr>
          <a:xfrm>
            <a:off x="219564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8" name=""/>
          <p:cNvSpPr/>
          <p:nvPr/>
        </p:nvSpPr>
        <p:spPr>
          <a:xfrm>
            <a:off x="1908000" y="4653000"/>
            <a:ext cx="3959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9" name=""/>
          <p:cNvSpPr/>
          <p:nvPr/>
        </p:nvSpPr>
        <p:spPr>
          <a:xfrm rot="10800000">
            <a:off x="2916000" y="5589360"/>
            <a:ext cx="295092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"/>
          <p:cNvSpPr/>
          <p:nvPr/>
        </p:nvSpPr>
        <p:spPr>
          <a:xfrm flipH="1">
            <a:off x="5148000" y="5300640"/>
            <a:ext cx="431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1" name=""/>
          <p:cNvSpPr/>
          <p:nvPr/>
        </p:nvSpPr>
        <p:spPr>
          <a:xfrm rot="10800000">
            <a:off x="1908000" y="5589360"/>
            <a:ext cx="2951280" cy="4316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2" name=""/>
          <p:cNvSpPr/>
          <p:nvPr/>
        </p:nvSpPr>
        <p:spPr>
          <a:xfrm rot="10800000">
            <a:off x="1908000" y="5589720"/>
            <a:ext cx="3959280" cy="901440"/>
          </a:xfrm>
          <a:custGeom>
            <a:avLst/>
            <a:gdLst/>
            <a:ahLst/>
            <a:rect l="l" t="t" r="r" b="b"/>
            <a:pathLst>
              <a:path w="2494" h="272">
                <a:moveTo>
                  <a:pt x="2494" y="272"/>
                </a:moveTo>
                <a:cubicBezTo>
                  <a:pt x="2044" y="136"/>
                  <a:pt x="1595" y="0"/>
                  <a:pt x="1179" y="0"/>
                </a:cubicBezTo>
                <a:cubicBezTo>
                  <a:pt x="763" y="0"/>
                  <a:pt x="212" y="204"/>
                  <a:pt x="0" y="272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"/>
          <p:cNvSpPr/>
          <p:nvPr/>
        </p:nvSpPr>
        <p:spPr>
          <a:xfrm>
            <a:off x="2249280" y="49626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4" name=""/>
          <p:cNvSpPr/>
          <p:nvPr/>
        </p:nvSpPr>
        <p:spPr>
          <a:xfrm>
            <a:off x="3709800" y="436392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5" name=""/>
          <p:cNvSpPr/>
          <p:nvPr/>
        </p:nvSpPr>
        <p:spPr>
          <a:xfrm>
            <a:off x="428616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6" name=""/>
          <p:cNvSpPr/>
          <p:nvPr/>
        </p:nvSpPr>
        <p:spPr>
          <a:xfrm>
            <a:off x="5221080" y="50133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7" name=""/>
          <p:cNvSpPr/>
          <p:nvPr/>
        </p:nvSpPr>
        <p:spPr>
          <a:xfrm>
            <a:off x="3421080" y="59482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8" name=""/>
          <p:cNvSpPr/>
          <p:nvPr/>
        </p:nvSpPr>
        <p:spPr>
          <a:xfrm>
            <a:off x="3840120" y="6491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1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¿cómo reciben los mensajes los miembros 1 y 3?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1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miembro 3 recibe los mensajes en este orde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4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mensaje de 0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No se cumple el ordenamiento de mensajes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P0 y P4 intentan actualizar el mismo  item  los miembros 1 y 3 terminan con distintos valores 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Ordenamiento de Mensajes (cont.2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debe tener una semántica bien definida con respecto al orden de entrega de los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Mi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“ 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La mejor garantía es la entrega inmediata de todos los Mi en orden en que fueron enviados “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 respecto al tiempo Global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 (Global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l ordenamiento no es siempre fácil de implementar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Tiempo Absoluto …. , variantes moderadas 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rdenamiento Consistente (</a:t>
            </a:r>
            <a:r>
              <a:rPr b="0" i="1" lang="es-ES" sz="2000" spc="-1" strike="noStrike">
                <a:solidFill>
                  <a:srgbClr val="000000"/>
                </a:solidFill>
                <a:latin typeface="Verdana"/>
              </a:rPr>
              <a:t>Consistent Time Ordering 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Ma y Mb llegan cercanos en t el sistema elige a uno como el Primero , si no lo era , nadie lo sabe .. El comportamiento no debería depender de el …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“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e garantiza que llegan en el mismo orden a todo el G, pero podría no ser con el que fueron enviad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e han usado otro ordenamientos mas débiles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irtual synchrony (ISI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PlaceHolder 1"/>
          <p:cNvSpPr>
            <a:spLocks noGrp="1"/>
          </p:cNvSpPr>
          <p:nvPr>
            <p:ph type="title"/>
          </p:nvPr>
        </p:nvSpPr>
        <p:spPr>
          <a:xfrm>
            <a:off x="457200" y="277560"/>
            <a:ext cx="8686800" cy="98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000" spc="-1" strike="noStrike">
                <a:solidFill>
                  <a:srgbClr val="999900"/>
                </a:solidFill>
                <a:latin typeface="Garamond"/>
              </a:rPr>
              <a:t>Grupos Solapados  ( Overlapping Group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3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nque se cumpla el ordenamiento de mensajes hay situaciones problemátic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upongamos dos grupos solapados ( G1 y G2). A y D quieren enviar a la vez un mensaje a sus compañeros de gru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5" name=""/>
          <p:cNvSpPr/>
          <p:nvPr/>
        </p:nvSpPr>
        <p:spPr>
          <a:xfrm>
            <a:off x="1577880" y="4859280"/>
            <a:ext cx="540000" cy="53964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6" name=""/>
          <p:cNvSpPr/>
          <p:nvPr/>
        </p:nvSpPr>
        <p:spPr>
          <a:xfrm>
            <a:off x="2846520" y="43480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7" name=""/>
          <p:cNvSpPr/>
          <p:nvPr/>
        </p:nvSpPr>
        <p:spPr>
          <a:xfrm>
            <a:off x="2836800" y="528948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8" name=""/>
          <p:cNvSpPr/>
          <p:nvPr/>
        </p:nvSpPr>
        <p:spPr>
          <a:xfrm>
            <a:off x="4083120" y="4863960"/>
            <a:ext cx="539640" cy="540000"/>
          </a:xfrm>
          <a:prstGeom prst="ellipse">
            <a:avLst/>
          </a:prstGeom>
          <a:solidFill>
            <a:srgbClr val="99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"/>
          <p:cNvSpPr/>
          <p:nvPr/>
        </p:nvSpPr>
        <p:spPr>
          <a:xfrm>
            <a:off x="1390680" y="3657600"/>
            <a:ext cx="2292480" cy="286848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0" name=""/>
          <p:cNvSpPr/>
          <p:nvPr/>
        </p:nvSpPr>
        <p:spPr>
          <a:xfrm>
            <a:off x="2533680" y="3697200"/>
            <a:ext cx="2292480" cy="286884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1" name=""/>
          <p:cNvSpPr/>
          <p:nvPr/>
        </p:nvSpPr>
        <p:spPr>
          <a:xfrm flipV="1">
            <a:off x="2041560" y="4671720"/>
            <a:ext cx="78912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2" name=""/>
          <p:cNvSpPr/>
          <p:nvPr/>
        </p:nvSpPr>
        <p:spPr>
          <a:xfrm>
            <a:off x="2106720" y="5200560"/>
            <a:ext cx="714240" cy="2764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3" name=""/>
          <p:cNvSpPr/>
          <p:nvPr/>
        </p:nvSpPr>
        <p:spPr>
          <a:xfrm flipH="1">
            <a:off x="3423960" y="5241960"/>
            <a:ext cx="649080" cy="287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4" name=""/>
          <p:cNvSpPr/>
          <p:nvPr/>
        </p:nvSpPr>
        <p:spPr>
          <a:xfrm flipH="1" flipV="1">
            <a:off x="3402000" y="4721040"/>
            <a:ext cx="698400" cy="237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5" name=""/>
          <p:cNvSpPr/>
          <p:nvPr/>
        </p:nvSpPr>
        <p:spPr>
          <a:xfrm>
            <a:off x="2262240" y="43704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6" name=""/>
          <p:cNvSpPr/>
          <p:nvPr/>
        </p:nvSpPr>
        <p:spPr>
          <a:xfrm>
            <a:off x="2214360" y="4443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7" name=""/>
          <p:cNvSpPr/>
          <p:nvPr/>
        </p:nvSpPr>
        <p:spPr>
          <a:xfrm>
            <a:off x="3657600" y="450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8" name=""/>
          <p:cNvSpPr/>
          <p:nvPr/>
        </p:nvSpPr>
        <p:spPr>
          <a:xfrm>
            <a:off x="3686040" y="53499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9" name=""/>
          <p:cNvSpPr/>
          <p:nvPr/>
        </p:nvSpPr>
        <p:spPr>
          <a:xfrm>
            <a:off x="2160360" y="528948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0" name=""/>
          <p:cNvSpPr/>
          <p:nvPr/>
        </p:nvSpPr>
        <p:spPr>
          <a:xfrm>
            <a:off x="1908000" y="457200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1" name=""/>
          <p:cNvSpPr/>
          <p:nvPr/>
        </p:nvSpPr>
        <p:spPr>
          <a:xfrm>
            <a:off x="3971520" y="4311720"/>
            <a:ext cx="47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AR" sz="1800" spc="-1" strike="noStrike">
                <a:solidFill>
                  <a:srgbClr val="000000"/>
                </a:solidFill>
                <a:latin typeface="Verdana"/>
              </a:rPr>
              <a:t>G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incomunicad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853" name="" descr=""/>
          <p:cNvPicPr/>
          <p:nvPr/>
        </p:nvPicPr>
        <p:blipFill>
          <a:blip r:embed="rId1"/>
          <a:stretch/>
        </p:blipFill>
        <p:spPr>
          <a:xfrm>
            <a:off x="2195640" y="1989000"/>
            <a:ext cx="4790880" cy="39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999900"/>
                </a:solidFill>
                <a:latin typeface="Garamond"/>
              </a:rPr>
              <a:t>Generales Bizantin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384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El general o sus tenientes es un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Nadie sabe quien es el trai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Verdana"/>
              </a:rPr>
              <a:t>Se necesitan 3n+1 componentes para tolerar n fall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856" name="" descr=""/>
          <p:cNvPicPr/>
          <p:nvPr/>
        </p:nvPicPr>
        <p:blipFill>
          <a:blip r:embed="rId1"/>
          <a:stretch/>
        </p:blipFill>
        <p:spPr>
          <a:xfrm>
            <a:off x="5076720" y="1628640"/>
            <a:ext cx="3425760" cy="3961080"/>
          </a:xfrm>
          <a:prstGeom prst="rect">
            <a:avLst/>
          </a:prstGeom>
          <a:ln w="0">
            <a:noFill/>
          </a:ln>
        </p:spPr>
      </p:pic>
      <p:sp>
        <p:nvSpPr>
          <p:cNvPr id="857" name=""/>
          <p:cNvSpPr/>
          <p:nvPr/>
        </p:nvSpPr>
        <p:spPr>
          <a:xfrm>
            <a:off x="539640" y="5802480"/>
            <a:ext cx="828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LESLIE LAMPORT, ROBERT SHOSTAK, and MARSHALL PEASE. </a:t>
            </a:r>
            <a:r>
              <a:rPr b="0" i="1" lang="es-CL" sz="1400" spc="-1" strike="noStrike">
                <a:solidFill>
                  <a:srgbClr val="000000"/>
                </a:solidFill>
                <a:latin typeface="Times New Roman"/>
              </a:rPr>
              <a:t>The Byzantine Generals Problem</a:t>
            </a:r>
            <a:r>
              <a:rPr b="0" lang="es-CL" sz="1400" spc="-1" strike="noStrike">
                <a:solidFill>
                  <a:srgbClr val="000000"/>
                </a:solidFill>
                <a:latin typeface="Times New Roman"/>
              </a:rPr>
              <a:t>. ACM Transactions on Programming Languages and Systems, Vol. 4, No. 3, July 1982, pp 382-401.</a:t>
            </a:r>
            <a:r>
              <a:rPr b="0" lang="es-CL" sz="1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Transacciones distribuid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onjuntos de operaciones englobadas dentro de un bloque cuya ejecución es complet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Cumplen las propiedades </a:t>
            </a: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ACID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A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tomic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tomicidad): La transacción se realiza completa o no se realiza nada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C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onsistenc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Consistencia): Los estados anterior y posterior a la transacción son estados estables (consistentes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I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solation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Aislamiento): Los estados intermedios de la transacción son sólo visibles dentro de la propia transacción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s-ES_tradnl" sz="2000" spc="-1" strike="noStrike">
                <a:solidFill>
                  <a:srgbClr val="000000"/>
                </a:solidFill>
                <a:latin typeface="Verdana"/>
              </a:rPr>
              <a:t>D</a:t>
            </a:r>
            <a:r>
              <a:rPr b="0" i="1" lang="es-ES_tradnl" sz="2000" spc="-1" strike="noStrike">
                <a:solidFill>
                  <a:srgbClr val="000000"/>
                </a:solidFill>
                <a:latin typeface="Verdana"/>
              </a:rPr>
              <a:t>urability</a:t>
            </a:r>
            <a:r>
              <a:rPr b="0" lang="es-ES_tradnl" sz="2000" spc="-1" strike="noStrike">
                <a:solidFill>
                  <a:srgbClr val="000000"/>
                </a:solidFill>
                <a:latin typeface="Verdana"/>
              </a:rPr>
              <a:t> (Durabilidad): Las modificaciones realizadas por una transacción completada se mantiene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es:</a:t>
            </a:r>
            <a:br>
              <a:rPr sz="4400"/>
            </a:b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¿por qué?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rcRect l="24347" t="46376" r="20925" b="41692"/>
          <a:stretch/>
        </p:blipFill>
        <p:spPr>
          <a:xfrm>
            <a:off x="762120" y="2743200"/>
            <a:ext cx="7924680" cy="244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upongamos que queremos viajar de Santiago a Punta Arena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remos a la agencia de viajes para intentar reservar un billete a Puerto Montt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Luego intentaremos reservar un billete de Puerto Montt a Balmaceda, (en fecha posterior al del primer viaje, naturalmente). Lo conseguim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Intentamos ahora buscar un vuelo de Balmaceda a Punta Arenas. Pero resulta que no hay disponibl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En ese caso deberíamos ser capaces de deshacer lo hecho, las dos reservas anteriores: O SE HACE TODO O NO SE HACE NAD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3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46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jemplo en el ámbito informático: supongamos un banco al que podemos conectarnos por Internet, con la intención de retirar dinero de nuestra cuenta para transferirlo a otra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Retirar(cantidad, cuenta1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Ingresar(cantidad, cuent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¿Qué pasa si la conexión telefónica falla después de la primera operación pero antes de la segunda 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l problema debe resolverse haciendo que ambas acciones constituyan una transacción atómica: o se hacen ambas o no se hace ningun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48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odemos tener tres tipos de almacenamiento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Memoria RAM: se borra al fallar la energía o en un fallo de la máquin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Disco: sobrevive a fallos anteriores pero podría fallar la cabeza lectora del disc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Almacenamiento estable: diseñado para sobrevivir a todo (excepto tal vez a un 11-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macenamiento estable se puede lograr con un par de discos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quiere escribir se escribe primero en el disco 1 y luego en el disco 2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Si el sistema falla tras escribir en la unidad 1, tras recuperar podemos comprobar que ambos discos son inconsistentes. Hacemos entonces que el 2 copie lo distinto en el 1, pues el 1 es siempre el que se modifica prime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80000"/>
              </a:lnSpc>
              <a:spcBef>
                <a:spcPts val="45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uando se detecte error (p.ej. por CRC) en un sector de uno de los discos, se repara con la información del otr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Transacciones atómica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Trabajaremos con estas primitivas de transacción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BEGIN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D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BORT_TRANSAC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n medio de una transacción se podrán realizar diversas operaciones, según la aplicació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s transacciones deberán ser todo o nada y además deben ejecutarse en exclusión mutua unas con otr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9900"/>
                </a:solidFill>
                <a:latin typeface="Garamond"/>
              </a:rPr>
              <a:t>¿Cómo implementar las transacciones atómicas?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6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spacio de trabajo privado: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consiste en mantener una copia de los objetos o memoria que se quiera modifica. Por ejemplo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la transacción implica acceso a un directorio particular, mantenemos una copi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ntentamos llevar a cabo la transacción en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ada falla al final modificamos el origina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Si no, descartamos la copi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itácora (logging)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71" name="PlaceHolder 2"/>
          <p:cNvSpPr>
            <a:spLocks noGrp="1"/>
          </p:cNvSpPr>
          <p:nvPr>
            <p:ph/>
          </p:nvPr>
        </p:nvSpPr>
        <p:spPr>
          <a:xfrm>
            <a:off x="456840" y="1885680"/>
            <a:ext cx="8178840" cy="436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La bitácora es una lista de los cambios que se van realizando sobre cada objeto implicado en la transac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En la lista se incluye el estado anterior y posterior del objet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0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BEGIN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x+1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y=y+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x=y*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Times New Roman"/>
              </a:rPr>
              <a:t>END_TRANSAC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odemos hacer los cambios en los objetos reales, pues con la bitácora tenemos información para deshacer: partimos del final hacia atrás. La bitácora se almacena en almacenamiento establ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872" name=""/>
          <p:cNvGrpSpPr/>
          <p:nvPr/>
        </p:nvGrpSpPr>
        <p:grpSpPr>
          <a:xfrm>
            <a:off x="3742200" y="3305160"/>
            <a:ext cx="4328280" cy="1826640"/>
            <a:chOff x="3742200" y="3305160"/>
            <a:chExt cx="4328280" cy="1826640"/>
          </a:xfrm>
        </p:grpSpPr>
        <p:sp>
          <p:nvSpPr>
            <p:cNvPr id="873" name=""/>
            <p:cNvSpPr/>
            <p:nvPr/>
          </p:nvSpPr>
          <p:spPr>
            <a:xfrm>
              <a:off x="3884760" y="373212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4" name=""/>
            <p:cNvSpPr/>
            <p:nvPr/>
          </p:nvSpPr>
          <p:spPr>
            <a:xfrm>
              <a:off x="3742200" y="330516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5" name=""/>
            <p:cNvSpPr/>
            <p:nvPr/>
          </p:nvSpPr>
          <p:spPr>
            <a:xfrm>
              <a:off x="5429160" y="3747960"/>
              <a:ext cx="98928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6" name=""/>
            <p:cNvSpPr/>
            <p:nvPr/>
          </p:nvSpPr>
          <p:spPr>
            <a:xfrm>
              <a:off x="5286600" y="332100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7" name=""/>
            <p:cNvSpPr/>
            <p:nvPr/>
          </p:nvSpPr>
          <p:spPr>
            <a:xfrm>
              <a:off x="5432400" y="42148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8" name=""/>
            <p:cNvSpPr/>
            <p:nvPr/>
          </p:nvSpPr>
          <p:spPr>
            <a:xfrm>
              <a:off x="6997680" y="373860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0/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9" name=""/>
            <p:cNvSpPr/>
            <p:nvPr/>
          </p:nvSpPr>
          <p:spPr>
            <a:xfrm>
              <a:off x="6855120" y="3311640"/>
              <a:ext cx="1215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Bitácora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0" name=""/>
            <p:cNvSpPr/>
            <p:nvPr/>
          </p:nvSpPr>
          <p:spPr>
            <a:xfrm>
              <a:off x="7000920" y="420516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=0/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1" name=""/>
            <p:cNvSpPr/>
            <p:nvPr/>
          </p:nvSpPr>
          <p:spPr>
            <a:xfrm>
              <a:off x="6991560" y="4672080"/>
              <a:ext cx="988920" cy="459720"/>
            </a:xfrm>
            <a:prstGeom prst="rect">
              <a:avLst/>
            </a:prstGeom>
            <a:noFill/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=1/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Two-phase commit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o de los procesos actúa como coordinado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El coordinador envia un mensaje de preparado a los demás proceso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Cuando el coordinador ha recibido todas las respuestas decide si se lleva a cabo la transacción o n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uno o más procesos no se comprometen (o no responden) la transaccion se </a:t>
            </a: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el coordinador decide que se lleva a cabo la transacción, envía un mensaje notificándolo a los demás proces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Un algoritmo para control de concurrencia en SS.DD se basa en el uso de la </a:t>
            </a: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cerradura (lock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de lectura/escritur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puede ser a todo el fichero o a ciertos registros (granularidad de la cerradura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a cerradura más usada es la de dos fases: primero se va intentando adquirir todas las cerraduras necesarias, y solo entonces se acce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22200" indent="-32220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i no se pudiera acceder a una de las cerraduras, se liberan las ya obtenida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Control optimista de concurrencia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a idea es no hacer nad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 supone que van a producirse pocos conflictos, en la práctica los conflictos son raros, por lo que suele funcionar bie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ero hay que detectar los conflictos. Si se producen hay que deshacer lo hech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Marcas de tiempo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8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Se asocia a cada inicio de transacción (BEGIN_TRANSACTION) una marca de tiempo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uando las transacciones son breves y espaciadas en el tiempo entonces no habrá problem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A veces el orden es incorrecto (se detecta que una transición iniciada posteriormente a la transacción activa ha intentado entrar en el archivo, tenido acceso a éste y ha realizado un compromiso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n ese caso la transición activa se abort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Existe un servidor dictando la hora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Sin embargo existe un retraso variable entre el env</a:t>
            </a:r>
            <a:r>
              <a:rPr b="0" lang="es-ES_tradnl" sz="2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ío y recepción de mensajes producto de la transmisión por red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219320" y="4267080"/>
            <a:ext cx="7467480" cy="2081160"/>
            <a:chOff x="1219320" y="4267080"/>
            <a:chExt cx="7467480" cy="2081160"/>
          </a:xfrm>
        </p:grpSpPr>
        <p:sp>
          <p:nvSpPr>
            <p:cNvPr id="109" name=""/>
            <p:cNvSpPr/>
            <p:nvPr/>
          </p:nvSpPr>
          <p:spPr>
            <a:xfrm>
              <a:off x="121932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5257800" y="4724280"/>
              <a:ext cx="17524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81280" y="5943600"/>
              <a:ext cx="990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2971800" y="4724280"/>
              <a:ext cx="60948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 flipV="1">
              <a:off x="4572000" y="4723920"/>
              <a:ext cx="685800" cy="1219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1219320" y="472428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1219320" y="5943600"/>
              <a:ext cx="5867280" cy="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391520" y="4495680"/>
              <a:ext cx="104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315200" y="5562720"/>
              <a:ext cx="137160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Servido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de tiemp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2721240" y="42670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5083560" y="4281480"/>
              <a:ext cx="38340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261160" y="5181480"/>
              <a:ext cx="9291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pedi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4892760" y="5257800"/>
              <a:ext cx="1017360" cy="405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tiempo</a:t>
              </a:r>
              <a:r>
                <a:rPr b="0" lang="es-ES_tradnl" sz="1800" spc="-1" strike="noStrike" baseline="-25000">
                  <a:solidFill>
                    <a:srgbClr val="000000"/>
                  </a:solidFill>
                  <a:latin typeface="Verdana"/>
                </a:rPr>
                <a:t>S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2" name=""/>
          <p:cNvGrpSpPr/>
          <p:nvPr/>
        </p:nvGrpSpPr>
        <p:grpSpPr>
          <a:xfrm>
            <a:off x="1915200" y="3733920"/>
            <a:ext cx="4853160" cy="609480"/>
            <a:chOff x="1915200" y="3733920"/>
            <a:chExt cx="4853160" cy="609480"/>
          </a:xfrm>
        </p:grpSpPr>
        <p:sp>
          <p:nvSpPr>
            <p:cNvPr id="123" name=""/>
            <p:cNvSpPr/>
            <p:nvPr/>
          </p:nvSpPr>
          <p:spPr>
            <a:xfrm>
              <a:off x="1915200" y="3733920"/>
              <a:ext cx="4853160" cy="368280"/>
            </a:xfrm>
            <a:prstGeom prst="rect">
              <a:avLst/>
            </a:prstGeom>
            <a:solidFill>
              <a:srgbClr val="ffffff"/>
            </a:solidFill>
            <a:ln w="3240">
              <a:solidFill>
                <a:srgbClr val="000000"/>
              </a:solidFill>
              <a:miter/>
            </a:ln>
            <a:effectLst>
              <a:outerShdw dist="107932" dir="2700000" blurRad="0" rotWithShape="0">
                <a:srgbClr val="6666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Medidos con el mismo reloj local del cliente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H="1">
              <a:off x="2971800" y="4114800"/>
              <a:ext cx="45720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800600" y="4114800"/>
              <a:ext cx="30492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Los bloqueos en los ss.dd. son similares a los que ocurren en un sistema uniprocesador, pero son más difíciles de detectar y corregir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Aproximaciones posibles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l algoritmo del avestruz (ignorar el problema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Detección (permitir que ocurran bloqueos, detectarlos e intentar recuperar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Prevención (imponer restricciones para que podamos asegurar que no se van a dar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itarlos (que los procesos hagan una cuidadosa asignación de recursos para que no se den bloqueos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Detección centraliza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da máquina mantiene su gráfica de recursos y proceso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n coordinador recibe (mediante mensajes) esa información. Con la visión global, toma las decis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uando el coordinado detecta un ciclo, elimina los procesos para romper el bloque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uando un proceso debe esperar por un recurso, construye un mensaje especial de exploración, que envía al proceso o procesos que retienen el recurso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consta de tres números: el proceso que espera, el proceso que envía el mensaje y el proceso al cual se enví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[A, A, B] (enviado de A a B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l llegar el mensaje, el receptor comprueba si él también espera a algunos procesos. En ese caso el mensaje se actualiza, conservando el primer campo pero reemplazando el segundo por su propio número de proceso y el tercero por el nº del proceso a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[A, B, C] (Enviado de B a C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l mensaje se reenvía entonces al proceso por el cual espera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999900"/>
                </a:solidFill>
                <a:latin typeface="Garamond"/>
              </a:rPr>
              <a:t>Detección distribuida de bloqueos (algoritmo de Chandy-Misra-Haas)</a:t>
            </a:r>
            <a:endParaRPr b="0" lang="en-US" sz="40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Si un mensaje regresa al emisor original (el proceso enumerado en el primer campo) es que hay un ciclo y el sistema está bloqueado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Verdana"/>
              </a:rPr>
              <a:t>[A, N, A]  ??!!!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4400" spc="-1" strike="noStrike">
                <a:solidFill>
                  <a:srgbClr val="999900"/>
                </a:solidFill>
                <a:latin typeface="Garamond"/>
              </a:rPr>
              <a:t>Bloqueos en SS.DD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01" name=""/>
          <p:cNvSpPr/>
          <p:nvPr/>
        </p:nvSpPr>
        <p:spPr>
          <a:xfrm>
            <a:off x="676440" y="4070520"/>
            <a:ext cx="18921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2" name=""/>
          <p:cNvSpPr/>
          <p:nvPr/>
        </p:nvSpPr>
        <p:spPr>
          <a:xfrm>
            <a:off x="730080" y="437364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3" name=""/>
          <p:cNvSpPr/>
          <p:nvPr/>
        </p:nvSpPr>
        <p:spPr>
          <a:xfrm>
            <a:off x="798840" y="43689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4" name=""/>
          <p:cNvSpPr/>
          <p:nvPr/>
        </p:nvSpPr>
        <p:spPr>
          <a:xfrm>
            <a:off x="140976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5" name=""/>
          <p:cNvSpPr/>
          <p:nvPr/>
        </p:nvSpPr>
        <p:spPr>
          <a:xfrm>
            <a:off x="147816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6" name=""/>
          <p:cNvSpPr/>
          <p:nvPr/>
        </p:nvSpPr>
        <p:spPr>
          <a:xfrm>
            <a:off x="2089080" y="440532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7" name=""/>
          <p:cNvSpPr/>
          <p:nvPr/>
        </p:nvSpPr>
        <p:spPr>
          <a:xfrm>
            <a:off x="2157480" y="44006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8" name=""/>
          <p:cNvSpPr/>
          <p:nvPr/>
        </p:nvSpPr>
        <p:spPr>
          <a:xfrm>
            <a:off x="1177920" y="4572000"/>
            <a:ext cx="2379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9" name=""/>
          <p:cNvSpPr/>
          <p:nvPr/>
        </p:nvSpPr>
        <p:spPr>
          <a:xfrm flipV="1">
            <a:off x="1828800" y="4608360"/>
            <a:ext cx="2509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0" name=""/>
          <p:cNvSpPr/>
          <p:nvPr/>
        </p:nvSpPr>
        <p:spPr>
          <a:xfrm>
            <a:off x="3835440" y="4086360"/>
            <a:ext cx="1692360" cy="1052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1" name=""/>
          <p:cNvSpPr/>
          <p:nvPr/>
        </p:nvSpPr>
        <p:spPr>
          <a:xfrm>
            <a:off x="3889440" y="438948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2" name=""/>
          <p:cNvSpPr/>
          <p:nvPr/>
        </p:nvSpPr>
        <p:spPr>
          <a:xfrm>
            <a:off x="3957840" y="438480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3" name=""/>
          <p:cNvSpPr/>
          <p:nvPr/>
        </p:nvSpPr>
        <p:spPr>
          <a:xfrm>
            <a:off x="4970520" y="41529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4" name=""/>
          <p:cNvSpPr/>
          <p:nvPr/>
        </p:nvSpPr>
        <p:spPr>
          <a:xfrm>
            <a:off x="5024520" y="413856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5" name=""/>
          <p:cNvSpPr/>
          <p:nvPr/>
        </p:nvSpPr>
        <p:spPr>
          <a:xfrm>
            <a:off x="4984920" y="463536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6" name=""/>
          <p:cNvSpPr/>
          <p:nvPr/>
        </p:nvSpPr>
        <p:spPr>
          <a:xfrm>
            <a:off x="5053320" y="4630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7" name=""/>
          <p:cNvSpPr/>
          <p:nvPr/>
        </p:nvSpPr>
        <p:spPr>
          <a:xfrm flipV="1">
            <a:off x="4336920" y="4412880"/>
            <a:ext cx="625680" cy="174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8" name=""/>
          <p:cNvSpPr/>
          <p:nvPr/>
        </p:nvSpPr>
        <p:spPr>
          <a:xfrm>
            <a:off x="4346640" y="4621320"/>
            <a:ext cx="588960" cy="19980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"/>
          <p:cNvSpPr/>
          <p:nvPr/>
        </p:nvSpPr>
        <p:spPr>
          <a:xfrm>
            <a:off x="2517840" y="4608360"/>
            <a:ext cx="1339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0" name=""/>
          <p:cNvSpPr/>
          <p:nvPr/>
        </p:nvSpPr>
        <p:spPr>
          <a:xfrm>
            <a:off x="6756480" y="4089240"/>
            <a:ext cx="1692360" cy="1052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1" name=""/>
          <p:cNvSpPr/>
          <p:nvPr/>
        </p:nvSpPr>
        <p:spPr>
          <a:xfrm>
            <a:off x="6826320" y="41432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2" name=""/>
          <p:cNvSpPr/>
          <p:nvPr/>
        </p:nvSpPr>
        <p:spPr>
          <a:xfrm>
            <a:off x="6880320" y="4129200"/>
            <a:ext cx="336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3" name=""/>
          <p:cNvSpPr/>
          <p:nvPr/>
        </p:nvSpPr>
        <p:spPr>
          <a:xfrm>
            <a:off x="6840360" y="4626000"/>
            <a:ext cx="43848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4" name=""/>
          <p:cNvSpPr/>
          <p:nvPr/>
        </p:nvSpPr>
        <p:spPr>
          <a:xfrm>
            <a:off x="6909120" y="462132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5" name=""/>
          <p:cNvSpPr/>
          <p:nvPr/>
        </p:nvSpPr>
        <p:spPr>
          <a:xfrm>
            <a:off x="7813800" y="4118040"/>
            <a:ext cx="438120" cy="438120"/>
          </a:xfrm>
          <a:prstGeom prst="ellipse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6" name=""/>
          <p:cNvSpPr/>
          <p:nvPr/>
        </p:nvSpPr>
        <p:spPr>
          <a:xfrm>
            <a:off x="7882200" y="41133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7" name=""/>
          <p:cNvSpPr/>
          <p:nvPr/>
        </p:nvSpPr>
        <p:spPr>
          <a:xfrm flipV="1">
            <a:off x="5411880" y="4344840"/>
            <a:ext cx="136512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8" name=""/>
          <p:cNvSpPr/>
          <p:nvPr/>
        </p:nvSpPr>
        <p:spPr>
          <a:xfrm>
            <a:off x="5424480" y="4834080"/>
            <a:ext cx="14270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9" name=""/>
          <p:cNvSpPr/>
          <p:nvPr/>
        </p:nvSpPr>
        <p:spPr>
          <a:xfrm flipV="1">
            <a:off x="7253280" y="4321080"/>
            <a:ext cx="563400" cy="1296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0" name=""/>
          <p:cNvSpPr/>
          <p:nvPr/>
        </p:nvSpPr>
        <p:spPr>
          <a:xfrm>
            <a:off x="-309600" y="3519360"/>
            <a:ext cx="9516960" cy="838440"/>
          </a:xfrm>
          <a:custGeom>
            <a:avLst/>
            <a:gdLst/>
            <a:ahLst/>
            <a:rect l="l" t="t" r="r" b="b"/>
            <a:pathLst>
              <a:path w="5995" h="528">
                <a:moveTo>
                  <a:pt x="5245" y="371"/>
                </a:moveTo>
                <a:cubicBezTo>
                  <a:pt x="5620" y="261"/>
                  <a:pt x="5995" y="152"/>
                  <a:pt x="5245" y="102"/>
                </a:cubicBezTo>
                <a:cubicBezTo>
                  <a:pt x="4495" y="52"/>
                  <a:pt x="1494" y="0"/>
                  <a:pt x="747" y="71"/>
                </a:cubicBezTo>
                <a:cubicBezTo>
                  <a:pt x="0" y="142"/>
                  <a:pt x="760" y="452"/>
                  <a:pt x="763" y="528"/>
                </a:cubicBezTo>
              </a:path>
            </a:pathLst>
          </a:cu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1" name=""/>
          <p:cNvSpPr/>
          <p:nvPr/>
        </p:nvSpPr>
        <p:spPr>
          <a:xfrm>
            <a:off x="2701080" y="423072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2,3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2" name=""/>
          <p:cNvSpPr/>
          <p:nvPr/>
        </p:nvSpPr>
        <p:spPr>
          <a:xfrm>
            <a:off x="5698440" y="4008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4,6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3" name=""/>
          <p:cNvSpPr/>
          <p:nvPr/>
        </p:nvSpPr>
        <p:spPr>
          <a:xfrm>
            <a:off x="5688720" y="444960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5,7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4" name=""/>
          <p:cNvSpPr/>
          <p:nvPr/>
        </p:nvSpPr>
        <p:spPr>
          <a:xfrm>
            <a:off x="3837960" y="31622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(0,8,0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5" name=""/>
          <p:cNvSpPr/>
          <p:nvPr/>
        </p:nvSpPr>
        <p:spPr>
          <a:xfrm>
            <a:off x="1022400" y="514368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6" name=""/>
          <p:cNvSpPr/>
          <p:nvPr/>
        </p:nvSpPr>
        <p:spPr>
          <a:xfrm>
            <a:off x="4070520" y="522144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7" name=""/>
          <p:cNvSpPr/>
          <p:nvPr/>
        </p:nvSpPr>
        <p:spPr>
          <a:xfrm>
            <a:off x="6942240" y="5160960"/>
            <a:ext cx="127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Máquina 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456840" y="1886040"/>
            <a:ext cx="817884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Ejemplo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9900"/>
                </a:solidFill>
                <a:latin typeface="Garamond"/>
              </a:rPr>
              <a:t>Prevención distribuida de bloque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uponemos que existe un SSDD con tiempo global y transacciones atómica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sociamos a cada transacción una marca de tiempo global al momento de su inicio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Cuando un proceso está a punto de bloquearse en espera de un recurso que está usando otro proceso, se comprueba cuál de ellos tiene la marca de tiempo mayo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 el proceso que tiene el quiere el recurso es más joven podemos entonces optar por hacerlo espera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Cristia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Se hace una estimaci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ón del tiempo de propagación como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iempo = tiempo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S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+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puede mejorar si se conoce el tiempo de respuesta del servidor (I),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= (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1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Verdana"/>
                <a:ea typeface="ＭＳ Ｐゴシック"/>
              </a:rPr>
              <a:t>0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-I)/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Se consulta varias veces y se toma aquel tiempo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es el menor, descartando aquellos donde </a:t>
            </a:r>
            <a:r>
              <a:rPr b="0" lang="es-ES_tradnl" sz="24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 supera un cierto límit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Sincronizaci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n de reloj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Algoritmo de Berkeley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l servidor de tiempo es activo: el servidor pregunta a las m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áquinas que tiempo local tiene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01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l servidor calcula un promedio y avisa a los clientes de ajustarse al nuevo horari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30" name=""/>
          <p:cNvGrpSpPr/>
          <p:nvPr/>
        </p:nvGrpSpPr>
        <p:grpSpPr>
          <a:xfrm>
            <a:off x="3321000" y="4114800"/>
            <a:ext cx="2882880" cy="2592360"/>
            <a:chOff x="3321000" y="4114800"/>
            <a:chExt cx="2882880" cy="2592360"/>
          </a:xfrm>
        </p:grpSpPr>
        <p:grpSp>
          <p:nvGrpSpPr>
            <p:cNvPr id="131" name=""/>
            <p:cNvGrpSpPr/>
            <p:nvPr/>
          </p:nvGrpSpPr>
          <p:grpSpPr>
            <a:xfrm>
              <a:off x="4419720" y="4572000"/>
              <a:ext cx="609480" cy="609480"/>
              <a:chOff x="4419720" y="4572000"/>
              <a:chExt cx="609480" cy="609480"/>
            </a:xfrm>
          </p:grpSpPr>
          <p:sp>
            <p:nvSpPr>
              <p:cNvPr id="132" name=""/>
              <p:cNvSpPr/>
              <p:nvPr/>
            </p:nvSpPr>
            <p:spPr>
              <a:xfrm>
                <a:off x="44197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3" name=""/>
              <p:cNvGrpSpPr/>
              <p:nvPr/>
            </p:nvGrpSpPr>
            <p:grpSpPr>
              <a:xfrm>
                <a:off x="4496040" y="4647960"/>
                <a:ext cx="457200" cy="456840"/>
                <a:chOff x="4496040" y="4647960"/>
                <a:chExt cx="457200" cy="456840"/>
              </a:xfrm>
            </p:grpSpPr>
            <p:sp>
              <p:nvSpPr>
                <p:cNvPr id="134" name=""/>
                <p:cNvSpPr/>
                <p:nvPr/>
              </p:nvSpPr>
              <p:spPr>
                <a:xfrm>
                  <a:off x="44960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 flipV="1">
                  <a:off x="47246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47246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37" name=""/>
            <p:cNvGrpSpPr/>
            <p:nvPr/>
          </p:nvGrpSpPr>
          <p:grpSpPr>
            <a:xfrm>
              <a:off x="5181480" y="5715000"/>
              <a:ext cx="609480" cy="609480"/>
              <a:chOff x="5181480" y="5715000"/>
              <a:chExt cx="609480" cy="609480"/>
            </a:xfrm>
          </p:grpSpPr>
          <p:sp>
            <p:nvSpPr>
              <p:cNvPr id="138" name=""/>
              <p:cNvSpPr/>
              <p:nvPr/>
            </p:nvSpPr>
            <p:spPr>
              <a:xfrm>
                <a:off x="518148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39" name=""/>
              <p:cNvGrpSpPr/>
              <p:nvPr/>
            </p:nvGrpSpPr>
            <p:grpSpPr>
              <a:xfrm>
                <a:off x="5257800" y="5790960"/>
                <a:ext cx="457200" cy="457200"/>
                <a:chOff x="5257800" y="5790960"/>
                <a:chExt cx="457200" cy="457200"/>
              </a:xfrm>
            </p:grpSpPr>
            <p:sp>
              <p:nvSpPr>
                <p:cNvPr id="140" name=""/>
                <p:cNvSpPr/>
                <p:nvPr/>
              </p:nvSpPr>
              <p:spPr>
                <a:xfrm>
                  <a:off x="525780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548640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548640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3" name=""/>
            <p:cNvGrpSpPr/>
            <p:nvPr/>
          </p:nvGrpSpPr>
          <p:grpSpPr>
            <a:xfrm>
              <a:off x="3733920" y="5715000"/>
              <a:ext cx="609480" cy="609480"/>
              <a:chOff x="3733920" y="5715000"/>
              <a:chExt cx="609480" cy="609480"/>
            </a:xfrm>
          </p:grpSpPr>
          <p:sp>
            <p:nvSpPr>
              <p:cNvPr id="144" name=""/>
              <p:cNvSpPr/>
              <p:nvPr/>
            </p:nvSpPr>
            <p:spPr>
              <a:xfrm>
                <a:off x="373392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45" name=""/>
              <p:cNvGrpSpPr/>
              <p:nvPr/>
            </p:nvGrpSpPr>
            <p:grpSpPr>
              <a:xfrm>
                <a:off x="3809880" y="5790960"/>
                <a:ext cx="456840" cy="457200"/>
                <a:chOff x="3809880" y="5790960"/>
                <a:chExt cx="456840" cy="457200"/>
              </a:xfrm>
            </p:grpSpPr>
            <p:sp>
              <p:nvSpPr>
                <p:cNvPr id="146" name=""/>
                <p:cNvSpPr/>
                <p:nvPr/>
              </p:nvSpPr>
              <p:spPr>
                <a:xfrm>
                  <a:off x="3809880" y="5790960"/>
                  <a:ext cx="45684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flipH="1" flipV="1">
                  <a:off x="3885840" y="5866920"/>
                  <a:ext cx="15192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 flipV="1">
                  <a:off x="4038120" y="5943240"/>
                  <a:ext cx="22824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49" name=""/>
            <p:cNvSpPr/>
            <p:nvPr/>
          </p:nvSpPr>
          <p:spPr>
            <a:xfrm>
              <a:off x="388620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7242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40384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54864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44874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8768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370188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51498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370836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5029200" y="4800600"/>
              <a:ext cx="71136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32100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5568840" y="46623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5029200" y="4343400"/>
              <a:ext cx="58428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5416560" y="411480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3369600" y="4114800"/>
            <a:ext cx="2758680" cy="2592360"/>
            <a:chOff x="3369600" y="4114800"/>
            <a:chExt cx="2758680" cy="2592360"/>
          </a:xfrm>
        </p:grpSpPr>
        <p:grpSp>
          <p:nvGrpSpPr>
            <p:cNvPr id="164" name=""/>
            <p:cNvGrpSpPr/>
            <p:nvPr/>
          </p:nvGrpSpPr>
          <p:grpSpPr>
            <a:xfrm>
              <a:off x="4405320" y="4572000"/>
              <a:ext cx="609480" cy="609480"/>
              <a:chOff x="4405320" y="4572000"/>
              <a:chExt cx="609480" cy="609480"/>
            </a:xfrm>
          </p:grpSpPr>
          <p:sp>
            <p:nvSpPr>
              <p:cNvPr id="165" name=""/>
              <p:cNvSpPr/>
              <p:nvPr/>
            </p:nvSpPr>
            <p:spPr>
              <a:xfrm>
                <a:off x="4405320" y="4572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66" name=""/>
              <p:cNvGrpSpPr/>
              <p:nvPr/>
            </p:nvGrpSpPr>
            <p:grpSpPr>
              <a:xfrm>
                <a:off x="4481640" y="4647960"/>
                <a:ext cx="457200" cy="456840"/>
                <a:chOff x="4481640" y="4647960"/>
                <a:chExt cx="457200" cy="456840"/>
              </a:xfrm>
            </p:grpSpPr>
            <p:sp>
              <p:nvSpPr>
                <p:cNvPr id="167" name=""/>
                <p:cNvSpPr/>
                <p:nvPr/>
              </p:nvSpPr>
              <p:spPr>
                <a:xfrm>
                  <a:off x="4481640" y="4647960"/>
                  <a:ext cx="457200" cy="45684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"/>
                <p:cNvSpPr/>
                <p:nvPr/>
              </p:nvSpPr>
              <p:spPr>
                <a:xfrm flipV="1">
                  <a:off x="4710240" y="4647960"/>
                  <a:ext cx="0" cy="22824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"/>
                <p:cNvSpPr/>
                <p:nvPr/>
              </p:nvSpPr>
              <p:spPr>
                <a:xfrm>
                  <a:off x="4710240" y="4876200"/>
                  <a:ext cx="228600" cy="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0" name=""/>
            <p:cNvGrpSpPr/>
            <p:nvPr/>
          </p:nvGrpSpPr>
          <p:grpSpPr>
            <a:xfrm>
              <a:off x="5167440" y="5715000"/>
              <a:ext cx="609480" cy="609480"/>
              <a:chOff x="5167440" y="5715000"/>
              <a:chExt cx="609480" cy="609480"/>
            </a:xfrm>
          </p:grpSpPr>
          <p:sp>
            <p:nvSpPr>
              <p:cNvPr id="171" name=""/>
              <p:cNvSpPr/>
              <p:nvPr/>
            </p:nvSpPr>
            <p:spPr>
              <a:xfrm>
                <a:off x="5167440" y="5715000"/>
                <a:ext cx="60948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2" name=""/>
              <p:cNvGrpSpPr/>
              <p:nvPr/>
            </p:nvGrpSpPr>
            <p:grpSpPr>
              <a:xfrm>
                <a:off x="5243760" y="5790960"/>
                <a:ext cx="457200" cy="457200"/>
                <a:chOff x="5243760" y="5790960"/>
                <a:chExt cx="457200" cy="45720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524376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5472360" y="601956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"/>
                <p:cNvSpPr/>
                <p:nvPr/>
              </p:nvSpPr>
              <p:spPr>
                <a:xfrm>
                  <a:off x="5472360" y="6019560"/>
                  <a:ext cx="228600" cy="763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520" bIns="2952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6" name=""/>
            <p:cNvGrpSpPr/>
            <p:nvPr/>
          </p:nvGrpSpPr>
          <p:grpSpPr>
            <a:xfrm>
              <a:off x="3719520" y="5715000"/>
              <a:ext cx="609840" cy="609480"/>
              <a:chOff x="3719520" y="5715000"/>
              <a:chExt cx="609840" cy="609480"/>
            </a:xfrm>
          </p:grpSpPr>
          <p:sp>
            <p:nvSpPr>
              <p:cNvPr id="177" name=""/>
              <p:cNvSpPr/>
              <p:nvPr/>
            </p:nvSpPr>
            <p:spPr>
              <a:xfrm>
                <a:off x="3719520" y="5715000"/>
                <a:ext cx="60984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78" name=""/>
              <p:cNvGrpSpPr/>
              <p:nvPr/>
            </p:nvGrpSpPr>
            <p:grpSpPr>
              <a:xfrm>
                <a:off x="3795840" y="5790960"/>
                <a:ext cx="457200" cy="457200"/>
                <a:chOff x="3795840" y="5790960"/>
                <a:chExt cx="457200" cy="45720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3795840" y="5790960"/>
                  <a:ext cx="45720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 flipH="1" flipV="1">
                  <a:off x="3871800" y="5866920"/>
                  <a:ext cx="152280" cy="15228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 flipV="1">
                  <a:off x="4024440" y="5943240"/>
                  <a:ext cx="22860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182" name=""/>
            <p:cNvSpPr/>
            <p:nvPr/>
          </p:nvSpPr>
          <p:spPr>
            <a:xfrm>
              <a:off x="3872160" y="5410080"/>
              <a:ext cx="1828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71024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02444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547236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447336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437364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68784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2:5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513540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69432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flipH="1">
              <a:off x="5014440" y="4800600"/>
              <a:ext cx="71100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369600" y="474480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1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5554440" y="473076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2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015160" y="4343400"/>
              <a:ext cx="58392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366880" y="4114800"/>
              <a:ext cx="3117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3244320" y="4114800"/>
            <a:ext cx="2812320" cy="2592360"/>
            <a:chOff x="3244320" y="4114800"/>
            <a:chExt cx="2812320" cy="2592360"/>
          </a:xfrm>
        </p:grpSpPr>
        <p:grpSp>
          <p:nvGrpSpPr>
            <p:cNvPr id="197" name=""/>
            <p:cNvGrpSpPr/>
            <p:nvPr/>
          </p:nvGrpSpPr>
          <p:grpSpPr>
            <a:xfrm>
              <a:off x="5105160" y="5721120"/>
              <a:ext cx="609120" cy="609480"/>
              <a:chOff x="5105160" y="5721120"/>
              <a:chExt cx="609120" cy="609480"/>
            </a:xfrm>
          </p:grpSpPr>
          <p:sp>
            <p:nvSpPr>
              <p:cNvPr id="198" name=""/>
              <p:cNvSpPr/>
              <p:nvPr/>
            </p:nvSpPr>
            <p:spPr>
              <a:xfrm>
                <a:off x="51051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199" name=""/>
              <p:cNvGrpSpPr/>
              <p:nvPr/>
            </p:nvGrpSpPr>
            <p:grpSpPr>
              <a:xfrm>
                <a:off x="5181120" y="5797080"/>
                <a:ext cx="456480" cy="457560"/>
                <a:chOff x="5181120" y="5797080"/>
                <a:chExt cx="456480" cy="457560"/>
              </a:xfrm>
            </p:grpSpPr>
            <p:sp>
              <p:nvSpPr>
                <p:cNvPr id="200" name=""/>
                <p:cNvSpPr/>
                <p:nvPr/>
              </p:nvSpPr>
              <p:spPr>
                <a:xfrm>
                  <a:off x="51811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 flipV="1">
                  <a:off x="54093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54093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03" name=""/>
            <p:cNvGrpSpPr/>
            <p:nvPr/>
          </p:nvGrpSpPr>
          <p:grpSpPr>
            <a:xfrm>
              <a:off x="4419360" y="4502160"/>
              <a:ext cx="609120" cy="609480"/>
              <a:chOff x="4419360" y="4502160"/>
              <a:chExt cx="609120" cy="609480"/>
            </a:xfrm>
          </p:grpSpPr>
          <p:sp>
            <p:nvSpPr>
              <p:cNvPr id="204" name=""/>
              <p:cNvSpPr/>
              <p:nvPr/>
            </p:nvSpPr>
            <p:spPr>
              <a:xfrm>
                <a:off x="4419360" y="450216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05" name=""/>
              <p:cNvGrpSpPr/>
              <p:nvPr/>
            </p:nvGrpSpPr>
            <p:grpSpPr>
              <a:xfrm>
                <a:off x="4495320" y="4578120"/>
                <a:ext cx="456480" cy="457560"/>
                <a:chOff x="4495320" y="4578120"/>
                <a:chExt cx="456480" cy="457560"/>
              </a:xfrm>
            </p:grpSpPr>
            <p:sp>
              <p:nvSpPr>
                <p:cNvPr id="206" name=""/>
                <p:cNvSpPr/>
                <p:nvPr/>
              </p:nvSpPr>
              <p:spPr>
                <a:xfrm>
                  <a:off x="4495320" y="457848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 flipV="1">
                  <a:off x="4723560" y="457812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4723560" y="480708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209" name=""/>
            <p:cNvSpPr/>
            <p:nvPr/>
          </p:nvSpPr>
          <p:spPr>
            <a:xfrm>
              <a:off x="3871800" y="5410080"/>
              <a:ext cx="1828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4709880" y="518148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402408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5472000" y="5410080"/>
              <a:ext cx="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4473000" y="5365800"/>
              <a:ext cx="54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red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4372920" y="419076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687120" y="63388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5135040" y="6324480"/>
              <a:ext cx="635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3:0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69396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 flipH="1">
              <a:off x="5014800" y="4800600"/>
              <a:ext cx="710640" cy="914400"/>
            </a:xfrm>
            <a:custGeom>
              <a:avLst/>
              <a:gdLst/>
              <a:ahLst/>
              <a:rect l="l" t="t" r="r" b="b"/>
              <a:pathLst>
                <a:path w="448" h="576">
                  <a:moveTo>
                    <a:pt x="448" y="0"/>
                  </a:moveTo>
                  <a:cubicBezTo>
                    <a:pt x="288" y="24"/>
                    <a:pt x="128" y="48"/>
                    <a:pt x="64" y="144"/>
                  </a:cubicBezTo>
                  <a:cubicBezTo>
                    <a:pt x="0" y="240"/>
                    <a:pt x="32" y="408"/>
                    <a:pt x="64" y="57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244320" y="4744800"/>
              <a:ext cx="5738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1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5540760" y="4730760"/>
              <a:ext cx="5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-2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5014800" y="4343400"/>
              <a:ext cx="583560" cy="380880"/>
            </a:xfrm>
            <a:custGeom>
              <a:avLst/>
              <a:gdLst/>
              <a:ahLst/>
              <a:rect l="l" t="t" r="r" b="b"/>
              <a:pathLst>
                <a:path w="368" h="240">
                  <a:moveTo>
                    <a:pt x="0" y="240"/>
                  </a:moveTo>
                  <a:cubicBezTo>
                    <a:pt x="152" y="212"/>
                    <a:pt x="304" y="184"/>
                    <a:pt x="336" y="144"/>
                  </a:cubicBezTo>
                  <a:cubicBezTo>
                    <a:pt x="368" y="104"/>
                    <a:pt x="248" y="0"/>
                    <a:pt x="192" y="0"/>
                  </a:cubicBezTo>
                  <a:cubicBezTo>
                    <a:pt x="136" y="0"/>
                    <a:pt x="68" y="72"/>
                    <a:pt x="0" y="144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393880" y="4114800"/>
              <a:ext cx="4428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_tradnl" sz="1800" spc="-1" strike="noStrike">
                  <a:solidFill>
                    <a:srgbClr val="000000"/>
                  </a:solidFill>
                  <a:latin typeface="Verdana"/>
                </a:rPr>
                <a:t>+5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3" name=""/>
            <p:cNvGrpSpPr/>
            <p:nvPr/>
          </p:nvGrpSpPr>
          <p:grpSpPr>
            <a:xfrm>
              <a:off x="3733560" y="5721120"/>
              <a:ext cx="609120" cy="609480"/>
              <a:chOff x="3733560" y="5721120"/>
              <a:chExt cx="609120" cy="609480"/>
            </a:xfrm>
          </p:grpSpPr>
          <p:sp>
            <p:nvSpPr>
              <p:cNvPr id="224" name=""/>
              <p:cNvSpPr/>
              <p:nvPr/>
            </p:nvSpPr>
            <p:spPr>
              <a:xfrm>
                <a:off x="3733560" y="5721120"/>
                <a:ext cx="609120" cy="609480"/>
              </a:xfrm>
              <a:prstGeom prst="rect">
                <a:avLst/>
              </a:prstGeom>
              <a:solidFill>
                <a:srgbClr val="cccc6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25" name=""/>
              <p:cNvGrpSpPr/>
              <p:nvPr/>
            </p:nvGrpSpPr>
            <p:grpSpPr>
              <a:xfrm>
                <a:off x="3809520" y="5797080"/>
                <a:ext cx="456480" cy="457560"/>
                <a:chOff x="3809520" y="5797080"/>
                <a:chExt cx="456480" cy="457560"/>
              </a:xfrm>
            </p:grpSpPr>
            <p:sp>
              <p:nvSpPr>
                <p:cNvPr id="226" name=""/>
                <p:cNvSpPr/>
                <p:nvPr/>
              </p:nvSpPr>
              <p:spPr>
                <a:xfrm>
                  <a:off x="3809520" y="5797440"/>
                  <a:ext cx="456480" cy="457200"/>
                </a:xfrm>
                <a:prstGeom prst="ellipse">
                  <a:avLst/>
                </a:prstGeom>
                <a:solidFill>
                  <a:srgbClr val="99cc00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V="1">
                  <a:off x="4037760" y="5797080"/>
                  <a:ext cx="75960" cy="22860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"/>
                <p:cNvSpPr/>
                <p:nvPr/>
              </p:nvSpPr>
              <p:spPr>
                <a:xfrm>
                  <a:off x="4037760" y="6026040"/>
                  <a:ext cx="151920" cy="7596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160" bIns="2916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999900"/>
                </a:solidFill>
                <a:latin typeface="Garamond"/>
              </a:rPr>
              <a:t>Relojes L</a:t>
            </a:r>
            <a:r>
              <a:rPr b="0" lang="es-ES_tradnl" sz="4400" spc="-1" strike="noStrike">
                <a:solidFill>
                  <a:srgbClr val="999900"/>
                </a:solidFill>
                <a:latin typeface="Garamond"/>
                <a:ea typeface="ＭＳ Ｐゴシック"/>
              </a:rPr>
              <a:t>ógicos</a:t>
            </a:r>
            <a:endParaRPr b="0" lang="en-US" sz="4400" spc="-1" strike="noStrike">
              <a:solidFill>
                <a:srgbClr val="999900"/>
              </a:solidFill>
              <a:latin typeface="Garamond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</a:rPr>
              <a:t>En muchas ocasiones es necesario que las </a:t>
            </a: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máquinas concuerden en un horario, pero no que ese horario sea el horario real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lnSpc>
                <a:spcPct val="90000"/>
              </a:lnSpc>
              <a:spcBef>
                <a:spcPts val="499"/>
              </a:spcBef>
              <a:buClr>
                <a:srgbClr val="999900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Convencionalmente llamados relojes lógico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amport mostró (1978) que si dos procesos no interactúan no es necesario que sus relojes estén sincronizados ya que esta falta de sincronización no es observ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666600"/>
              </a:buClr>
              <a:buSzPct val="75000"/>
              <a:buFont typeface="Wingdings" charset="2"/>
              <a:buChar char="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ún más, él postuló que usualmente es irrelevante que dos procesos concuerden en que tiempo es, sino más bien en orden los eventos ocurren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1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15T16:38:17Z</dcterms:created>
  <dc:creator>Facultad de Ingenieria</dc:creator>
  <dc:description/>
  <dc:language>en-US</dc:language>
  <cp:lastModifiedBy>Usuario de Office 2004 Test Drive</cp:lastModifiedBy>
  <dcterms:modified xsi:type="dcterms:W3CDTF">2009-01-23T16:05:42Z</dcterms:modified>
  <cp:revision>130</cp:revision>
  <dc:subject/>
  <dc:title>Sistemas Distribuídos</dc:title>
</cp:coreProperties>
</file>