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8573-5362-41D5-9140-05826A13F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7F63-41C9-45E9-BD19-5C0E3C28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56EF-D53E-45DD-932D-80832B9DC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9DAB-FBEC-4C34-B608-F48B2FE78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0C99-83E7-4B4C-8FEC-B088986C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A57D-27C6-47C2-BE65-E4951255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6748-50E1-4AC7-BBE3-EBE8E605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DAAF-3D24-4BFD-B656-0D322442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86E4-B67D-4694-94A8-380A4B24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94EB-E4BA-4431-A924-5DB6B017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3FCC-BAAF-45B8-A551-3BFEED0E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99C7-0A09-4B80-8E28-5FD0DE02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A7A9-C133-444E-A1C8-4EF0AA4B07D7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Group 38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Rectangle 7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10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Group 37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Rectangle 8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9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0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1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2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3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4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5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6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7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18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19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0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1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2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3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4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5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6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7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28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29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0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1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Rectangle 32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Rectangle 33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Rectangle 34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Rectangle 35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Rectangle 36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Schilling%20simulaci&#243;n.ppt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E2E7CA6-2911-4DEB-9385-93548D9E0F50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63E/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1295280" y="3276720"/>
            <a:ext cx="563904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fmartine@ing.uchile.c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: Alvaro Muñoz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98211A2-8DFF-426C-9CFA-7B2CEA079E16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9" name="Object 1024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Rectangle 1031"/>
          <p:cNvSpPr/>
          <p:nvPr/>
        </p:nvSpPr>
        <p:spPr>
          <a:xfrm>
            <a:off x="776160" y="1066680"/>
            <a:ext cx="41007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Qué se le puede pedir a estos modelitos urbanos?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0" dur="1" fill="hold"/>
                                  <p:tgtEl>
                                    <p:spTgt spid="1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FE21021-DAF3-445A-8038-7B1BD02478D4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6633"/>
                </a:solidFill>
                <a:latin typeface="Times New Roman"/>
              </a:rPr>
              <a:t>1.1. AGENTES: muy variados y complet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33000" y="205740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USU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HOGARES Y FIR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INDIVIDUOS - ACTIVIDADES - VIA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OPERADO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ERCADO INMOBILI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RANSPO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ES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NORMATIVA, REGULACIONES E INCENTIVOS ECONÓM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81E1999-4C3C-4F0C-9D08-06961B80F652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6633"/>
                </a:solidFill>
                <a:latin typeface="Times New Roman"/>
              </a:rPr>
              <a:t>1.2. ENFOQUE</a:t>
            </a: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 : microeconómico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Todos los agentes tienen preferencias individuales definidas por su ambient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ero, se pueden agrupar en categorías socioeconomicas homogeneas (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h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as preferencias se definen sobre los atributos de los bienes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z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agentes son racionales: máx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1CC4EC9-9D8F-4198-A4F2-FB73627407EE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1.3. ATRIBUTOS: múltiples y variado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atributos son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múltip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scrib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a propiedad (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v): </a:t>
            </a:r>
            <a:r>
              <a:rPr b="0" i="1" lang="es-CL" sz="2800" spc="-1" strike="noStrike">
                <a:solidFill>
                  <a:srgbClr val="00ff66"/>
                </a:solidFill>
                <a:latin typeface="Times New Roman"/>
              </a:rPr>
              <a:t>terreno, vivienda, vist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..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a localización (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 :  </a:t>
            </a:r>
            <a:r>
              <a:rPr b="0" i="1" lang="es-CL" sz="2800" spc="-1" strike="noStrike">
                <a:solidFill>
                  <a:srgbClr val="00ff66"/>
                </a:solidFill>
                <a:latin typeface="Times New Roman"/>
              </a:rPr>
              <a:t>barrio, accesibilidad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s-CL" sz="2800" spc="-1" strike="noStrike">
                <a:solidFill>
                  <a:srgbClr val="00ff66"/>
                </a:solidFill>
                <a:latin typeface="Times New Roman"/>
              </a:rPr>
              <a:t>atractivi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penden del sistema de transpor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penden de la localización: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externalidades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por economías de aglomeración, ambiente construido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2CDE274-076D-489F-9C3A-993D6D07F726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1.4. EL MERCADO: especulativo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Bien </a:t>
            </a:r>
            <a:r>
              <a:rPr b="0" i="1" lang="es-CL" sz="3200" spc="-1" strike="noStrike">
                <a:solidFill>
                  <a:srgbClr val="00ff66"/>
                </a:solidFill>
                <a:latin typeface="Times New Roman"/>
              </a:rPr>
              <a:t>cuasi-único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: localización captura las ventajas de localización o externalida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bien transado es la </a:t>
            </a:r>
            <a:r>
              <a:rPr b="0" i="1" lang="es-CL" sz="3200" spc="-1" strike="noStrike">
                <a:solidFill>
                  <a:srgbClr val="00ff66"/>
                </a:solidFill>
                <a:latin typeface="Times New Roman"/>
              </a:rPr>
              <a:t>local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método de transacción es el </a:t>
            </a:r>
            <a:r>
              <a:rPr b="0" i="1" lang="es-CL" sz="3200" spc="-1" strike="noStrike">
                <a:solidFill>
                  <a:srgbClr val="00ff66"/>
                </a:solidFill>
                <a:latin typeface="Times New Roman"/>
              </a:rPr>
              <a:t>rem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Todos los agentes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compiten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por una localización (exepto regulacion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alor de la propiedad o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renta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consistente con el mercado de rem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Aceptar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especulación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2B82BBF-4B93-4D6B-8D8C-4B6269AA5E08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1.5. POLÍTICAS: integrable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Planos regulad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año de predio, máx. o mí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nsidad de constr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sos permitidos (resid., indust., comerci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altura máxi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ncentivos: subsidios e impues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Sensible a políticas de transpor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egulación óptima en US&amp;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Aspectos administrativo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Clases seman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Una auxiliar semanal con control de lectu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Nota final 70% controles, 30% lectu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1502919-3CA2-4ACD-B6E3-9926EBEEF9D8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C687200-1AD4-422A-991F-CABFEE579B2B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6633"/>
                </a:solidFill>
                <a:latin typeface="Times New Roman"/>
              </a:rPr>
              <a:t>Temas urbanos: li</a:t>
            </a:r>
            <a:r>
              <a:rPr b="0" lang="es-ES" sz="3200" spc="-1" strike="noStrike">
                <a:solidFill>
                  <a:srgbClr val="ff6633"/>
                </a:solidFill>
                <a:latin typeface="Times New Roman"/>
              </a:rPr>
              <a:t>star y ordenar, identificar desafíos para la economía urbana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57040" y="205092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8cf4ea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8cf4ea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8cf4ea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8cf4ea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F9F1C39-849D-44C5-AD13-24815FEF8AEC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cf4ea"/>
                </a:solidFill>
                <a:latin typeface="Times New Roman"/>
              </a:rPr>
              <a:t>Los temas urbano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suelo urbano: uso y regul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límite urba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Valor del sue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ocalización residencial, servicios, comercio, industria, educación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sarrollo urbano - oferta inmobili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gregación/atra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ccesibilidad, Transpo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OTROS: sociales, económicos, ambiental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2CA17ED-1A8B-45A3-8FEB-B5E3F9C051F1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cf4ea"/>
                </a:solidFill>
                <a:latin typeface="Times New Roman"/>
              </a:rPr>
              <a:t>Complejidad: interaccion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0" name="AutoShape 6">
            <a:hlinkClick r:id="rId1"/>
          </p:cNvPr>
          <p:cNvSpPr/>
          <p:nvPr/>
        </p:nvSpPr>
        <p:spPr>
          <a:xfrm>
            <a:off x="2700360" y="2997360"/>
            <a:ext cx="3024000" cy="1511280"/>
          </a:xfrm>
          <a:custGeom>
            <a:avLst/>
            <a:gdLst>
              <a:gd name="textAreaLeft" fmla="*/ 97920 w 3024000"/>
              <a:gd name="textAreaRight" fmla="*/ 2926080 w 3024000"/>
              <a:gd name="textAreaTop" fmla="*/ 97920 h 1511280"/>
              <a:gd name="textAreaBottom" fmla="*/ 1413360 h 1511280"/>
            </a:gdLst>
            <a:ahLst/>
            <a:rect l="textAreaLeft" t="textAreaTop" r="textAreaRight" b="textAreaBottom"/>
            <a:pathLst>
              <a:path w="43215" h="21600">
                <a:moveTo>
                  <a:pt x="0" y="0"/>
                </a:moveTo>
                <a:lnTo>
                  <a:pt x="43215" y="0"/>
                </a:lnTo>
                <a:lnTo>
                  <a:pt x="43215" y="21600"/>
                </a:lnTo>
                <a:lnTo>
                  <a:pt x="0" y="21600"/>
                </a:lnTo>
                <a:close/>
              </a:path>
              <a:path fill="lightenLess" w="43215" h="21600">
                <a:moveTo>
                  <a:pt x="0" y="0"/>
                </a:moveTo>
                <a:lnTo>
                  <a:pt x="43215" y="0"/>
                </a:lnTo>
                <a:lnTo>
                  <a:pt x="41815" y="1400"/>
                </a:lnTo>
                <a:lnTo>
                  <a:pt x="1400" y="1400"/>
                </a:lnTo>
                <a:close/>
              </a:path>
              <a:path fill="darken" w="43215" h="21600">
                <a:moveTo>
                  <a:pt x="43215" y="0"/>
                </a:moveTo>
                <a:lnTo>
                  <a:pt x="43215" y="21600"/>
                </a:lnTo>
                <a:lnTo>
                  <a:pt x="41815" y="20200"/>
                </a:lnTo>
                <a:lnTo>
                  <a:pt x="41815" y="1400"/>
                </a:lnTo>
                <a:close/>
              </a:path>
              <a:path fill="darkenLess" w="43215" h="21600">
                <a:moveTo>
                  <a:pt x="432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15" y="20200"/>
                </a:lnTo>
                <a:close/>
              </a:path>
              <a:path fill="lighten" w="432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15" h="21600">
                <a:moveTo>
                  <a:pt x="14601" y="3794"/>
                </a:moveTo>
                <a:lnTo>
                  <a:pt x="28614" y="10800"/>
                </a:lnTo>
                <a:lnTo>
                  <a:pt x="14601" y="17806"/>
                </a:lnTo>
                <a:close/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5401E61-46B4-44AD-A81D-ADF9171A4F5C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39640" y="2276640"/>
            <a:ext cx="8305920" cy="151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Modelamiento del problem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57811AA-BB04-4B4F-9B09-6BB9A4CF352A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Object 1024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1027"/>
          <p:cNvSpPr/>
          <p:nvPr/>
        </p:nvSpPr>
        <p:spPr>
          <a:xfrm>
            <a:off x="838080" y="609480"/>
            <a:ext cx="410076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¡Hola...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yo me llamo Tomás !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(el preguntón)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8cf4ea"/>
                </a:solidFill>
                <a:latin typeface="Times New Roman"/>
              </a:rPr>
              <a:t>¿Que vamos a ver aquí?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0" dur="1" fill="hold"/>
                                  <p:tgtEl>
                                    <p:spTgt spid="9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7BCDC79-6380-4D98-BCA3-84418AD04BC7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Introducción: conteni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523520" y="137160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. 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Descripción general del merc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I.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Interacción Transporte y Uso del su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I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Comportamiento Microeconómico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  del Consumidor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V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Demanda a Corto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.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Oferta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Equilib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.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El Modelo MUSS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I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. La Aplicación del Mod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8000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D197FB7-A99D-4356-9381-D642A25DF7A2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5400" spc="-1" strike="noStrike">
                <a:solidFill>
                  <a:srgbClr val="8cf4ea"/>
                </a:solidFill>
                <a:latin typeface="Times New Roman"/>
              </a:rPr>
              <a:t>Módulo 1</a:t>
            </a: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Descripción general del mercad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cp:keywords/>
  <dc:language>en-US</dc:language>
  <cp:lastModifiedBy>Francisco Martinez</cp:lastModifiedBy>
  <dcterms:modified xsi:type="dcterms:W3CDTF">2009-07-27T14:10:02Z</dcterms:modified>
  <cp:revision>78</cp:revision>
  <dc:subject/>
  <dc:title>General</dc:title>
</cp:coreProperties>
</file>