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74A-5D7A-4EB1-B909-EA984AB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17A-AFE9-4818-9CC8-E3EAABC3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505-78C3-45CE-A694-1A5700C3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D66-038C-4555-8CD9-89EA34B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52B-4142-4518-B87E-B3AEB30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265-7D4A-4FC3-9790-5630572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BD3-2567-4219-8A97-336B8982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276-F039-4718-8FDE-DB3409B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CF8-DE3E-4D5D-9559-43E31B49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558-1709-4BCD-B0AF-FBF5378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D1A-D911-4C9B-99E9-50B218E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2D4-7F21-4E4A-B237-ED098C3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AA9-2540-4367-BA50-8EACBA73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09T13:07:54Z</dcterms:modified>
  <cp:revision>31</cp:revision>
  <dc:subject/>
  <dc:title>EL63A-Taller de Proyecto en Control II</dc:title>
</cp:coreProperties>
</file>