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2346-5071-41B5-8FFA-56840282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DCB-1BFD-43B5-82C5-8F83F3A2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DEA-3634-4E8D-A87D-955A56B9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20F-58BC-45C6-A47E-8B01B36C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2AD-8B87-45E6-A329-BAD9558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8E6-9E52-4F00-A574-181C5B3E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E8D-F965-416A-9AF4-296962C5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9B5-39C3-432B-A6EC-D6320775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E02-3F98-40C2-B8AA-E2598883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27F-3739-47BA-AFF4-FE4F9B4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1FF-2BD1-4109-816D-242D7975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968-4AA0-4294-9042-6DFD4AB5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FBF6-8FE7-4E29-BEC5-F56176F3B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á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ident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y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2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2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2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2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17T13:15:36Z</dcterms:modified>
  <cp:revision>39</cp:revision>
  <dc:subject/>
  <dc:title>EL63A-Taller de Proyecto en Control II</dc:title>
</cp:coreProperties>
</file>