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0518-EC78-4045-9CED-A25965791211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F183-83E5-48DE-B87D-2BD414396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7F10-1294-4005-AE6A-B901BB107EA8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437F-9E35-4D28-B698-7CF139665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6F4-09E5-4315-AF87-427E974A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768-BB8B-4315-87D9-336DCEBB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505-C4C0-4EDE-8B7A-963CC0A5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032-3D45-4F47-B392-76C098BA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6A8-E83A-485F-8EC2-8754EB28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ABA-8094-4974-B8C1-860AB035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BEE-B8A1-49A2-A9CD-9A1E4574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D11-EE3E-471A-A507-33247E59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775-0C37-46C6-8154-8BD743ED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E27-F6DC-4C84-A22E-DF8DBB53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0B9-6010-42BF-9144-F2899298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1D4-50F0-479C-83BB-0DCC43F1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2151-F36A-4FDB-9A90-EDDA821331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1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104" name="Rectangle 16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4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0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5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47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9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0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2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4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vion 7572on"/>
          <p:cNvPicPr/>
          <p:nvPr/>
        </p:nvPicPr>
        <p:blipFill>
          <a:blip r:embed="rId2"/>
          <a:stretch/>
        </p:blipFill>
        <p:spPr>
          <a:xfrm>
            <a:off x="2048040" y="1719360"/>
            <a:ext cx="509580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1_FCFM_apaisado_Oficial_JPG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28-3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aja Negra cvr2ae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transbordador-discovery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2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11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0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6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s-E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TA PROYECT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ORME: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 inform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orme fin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: 50% (se desprende de los infor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ibilidad de construcción maquet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ridad diseño fin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riginalidad y util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agen2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magen1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BS00580_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75" name="Line 14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temperatura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3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14" descr="Estufa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sebastian.barrios</cp:lastModifiedBy>
  <dcterms:modified xsi:type="dcterms:W3CDTF">2010-08-31T14:02:17Z</dcterms:modified>
  <cp:revision>61</cp:revision>
  <dc:subject/>
  <dc:title>EI1B2 Introducción a la Ingeneiría II</dc:title>
</cp:coreProperties>
</file>