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458-4F48-4964-8180-B1014E9B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3D6-637C-46F6-9055-7DFA26B7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E5C-5164-4AC0-BE60-242DF6FE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E28-09EB-4E42-AAAC-2E3CC8A9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36D-9ECB-42F5-ADEE-EA8FE34E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62C-9B77-4FC3-B297-22567937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6BD-C91F-4518-8AE0-A74968F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F82-C53B-46C6-B4AD-470DF7A1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DE2-4580-4D0C-B3D5-0488DC9B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E11-6C08-4523-9A4E-EA8FA6B6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8A5-0262-45AF-B217-2366CB8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243-449B-4693-AC8A-48B9EE33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C35B-67F8-4BAC-9C6B-9D9915183F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06T20:43:10Z</dcterms:modified>
  <cp:revision>30</cp:revision>
  <dc:subject/>
  <dc:title>EL63A-Taller de Proyecto en Control II</dc:title>
</cp:coreProperties>
</file>