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5.wmf" ContentType="image/x-wmf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B580-A742-4462-AA75-AC2C46AA842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CBA1-ED34-45BB-BD1A-195FF153C80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8A9-14A1-433B-8686-ED1E2FD942D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965-4A14-49C2-BFEE-901D40C3775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71A-C291-4E44-8166-4BEE7B23C84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65D2-BC09-4F0E-8686-849B61D02FC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1FC3-AF84-4450-BE64-29DA26B84C4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C01A-6AFE-48C5-99AC-E18A62361E1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1BE-4EFB-43F5-8C40-69464F9F45A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8D0-072C-47A0-9E9B-8B65594DCC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845-2636-484F-A4F1-1CFCC457E60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669-FBE3-4684-A3D5-08DB96D75E8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B71-D41B-4946-A9AE-CDEC2E8F25A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FFDB-D111-40A5-96B1-EB1C469CFA6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45F-EEAC-41B6-A4F0-F481A251C9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4B16-3729-4972-A349-103B374189F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3B4A-8559-4538-A415-00B934AE44C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F7F-85EF-44EA-B5CF-F6272004299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8A28-B564-434B-A206-AE1164D32D5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78BA-B041-4820-AEC9-3C167362B09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532-F977-40A8-B9F3-C7C5413F526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1D38-BBAC-4268-838C-CD4793D5AD0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E97-D5BE-49CA-BC28-C06A9A13044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9ACC-7CB8-4175-9AC7-B91378B3D3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B3D-D71E-4787-AFDE-C8CB08E406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557B-667C-48CA-B4E4-9C1B8AA60DE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116-44F0-4E20-A451-6A58B78C5E6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90F-2FA3-4DBF-AD32-053A46CCBB3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3E8-02D5-42F9-B53D-CE4396BFF48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1279-4A59-4C43-976F-66EE12BA27A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B5D-82BE-4381-B269-22235D3F13D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B4E7-D12E-4640-A51A-600150E63F5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DE1B-99D4-4AA6-94B0-F516A26C14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119C-38DC-4E03-84A9-4A50CC59837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716-A476-4510-85CB-B9439D8F65B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AD1-BDF6-4427-840B-7E4777CE06D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BA8-DEBA-4C7A-B4E7-4A466E04652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EC3E-DC8B-4842-B05E-CDDD3EFBC71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1A4-1C84-419D-9644-C67A060A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3B7-A936-4E46-B6D8-B26FFC45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BB8-75D0-4009-97C6-E7C942D5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F79-B689-4670-822D-1EB6F16C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513-E0B4-4E16-BEEB-D13B70DF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DB2-0B72-47A0-9FE7-158072E2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C82F-F745-47C6-8EFE-EAC416AA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489A-6FB2-441E-8C62-6F90562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B0E-EE17-447C-9125-DE14B3C6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412F-2C53-49F8-9FD2-4B4F567F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CFB5-582E-45F0-93E2-0C3876E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253-F0FB-4FED-BEE6-A83D8E9A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0A8-CC5B-4C1D-90E1-121F8F89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3F7F-9D89-4798-87ED-402E9485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8B7-3459-4D59-BAAA-2F4E11B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ADE-D733-4174-874B-5682C93E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DD6-39B6-4148-AB2F-794F6432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8C17-571F-4FFF-A368-E3CF4D3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3534-7476-4189-9599-89542633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A63B-5C9F-43C3-B70D-F097781B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E885-F60E-4EBF-A2D2-EE06740C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8E10-AD7C-48F9-ACDB-9F015BB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040-1FEC-4766-8AE3-DDBFC4DB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8B7F-2F4F-4227-87D1-3F2D796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2450-60EA-471D-8168-9B103D0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6B0C-9A9A-46F3-B082-EC4DD72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A383-89EB-4ECC-9728-C4562F4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A719-2C92-4C30-808A-A8ECE9B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628C-BB72-4DD9-9414-AD9D2279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8A02-5097-46A0-A023-7577453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D2D6-BAD2-4F0B-BBBC-4435F905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96EE-6BB6-45CB-AA30-72114811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171E-3C56-45E1-9BDF-876DD20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332-AA72-44E1-87AC-43418AD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DE63-1C3D-4DEA-9315-7F31468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EE9F-5E52-4337-8A91-0807504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A399-F1A2-4C14-891B-AA780DF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26DC-5592-4718-AF15-0361E9A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B43E-B510-4A5F-9396-14057F0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273B-EAEF-4BA9-8BC2-15FC06A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B80E-91A7-4BD1-BE82-489F3F2D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ED54-9D3F-4FDA-A3BC-2A7CC574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8544-82CD-408C-9F2F-80B898D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B0ED-B338-4122-AA3D-BA42E5A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E8A-1F25-431A-BB9F-0809AE2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79AD-68B0-433E-BEA4-C213F8F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A622-3671-43FF-BACF-F1B610F7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4406-E1EA-4859-A950-6FCA2CAF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6E19-38EC-433A-B138-CDC9233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2A4C-0A90-4FDD-92BC-D44F9E0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69F8-8AA9-4212-A38D-C96A951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0BA2-4540-4958-AF9D-D534131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EA574-16D9-4691-A0D2-D042FB2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4FCB-0DCB-4DBA-AF6E-62D42DB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7F94-A52F-4648-86CD-A799ADDC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4DB-1D2B-480B-8E29-E48E4D7E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A175-13F9-4486-8DA4-67680BDF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DA3D-7268-41DD-9C35-8B1C46B5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E929-B236-4E37-AA71-0A7FCCDD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EF2D-A841-4039-A75B-EB76A646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E7AF-264B-4E74-AE7C-A58002C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192A-793D-478D-BB58-55D1EC5D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30D3-9757-4CA3-950A-6000D64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7D3A-0686-4DA0-BF14-2CA9EA1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A6E19-7E73-4793-B675-EF0974E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CA221-7680-484B-9D46-FFF567A3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C48-ED8B-4E6A-B768-6732927E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0547-F8C6-416C-9D53-5850E7F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61F1E-AA5A-4822-B709-8A49B54D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03C2-3146-4895-90B3-34AEF213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859A0-A056-4240-B9F5-3FC2D3A0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B1DB-B6B4-418B-871C-A68F7CA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58D0-B642-4E7B-8FAC-9CF9772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F207-6E5F-4A48-BF75-9D10988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25D6-9957-45A4-8223-1F0DFEA2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9032-EA25-44BA-BA97-43AE87B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8AAA-ACA5-4B8B-AA1E-0A0E6B4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F0B-46F0-4455-AF07-2B1EC7C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ACC4-4203-416D-91A3-9A56067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180B-0A43-4B43-AF08-220FE58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0121-3C00-4531-B8F4-A42C4080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0B49-5D89-4502-9201-B7E79E5E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B2B3-3F52-4D4E-8DF3-CAB77474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3AA12-CD9B-4955-849F-025C478C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4A84-FCA1-4CB4-87FB-F92FAFD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AD53-B4C8-4783-8D18-9946953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8A55-5D32-4145-B119-0B101C35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957F8-D163-4D65-AD79-80EEF90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46D-F32F-474B-83E9-52AE872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8F6C-60DB-42C8-8587-DF13763E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A183-E4D9-4985-AD62-AD13AAF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5411-788D-4846-9212-DE153DD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A1DB4-772B-425A-AD54-9FD5E5E4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3F4CB-4BC9-4891-98BB-DB90502F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411F-45AF-48BB-A28E-B4F3DE6A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38A5E-98F4-48A5-84E1-78B885F2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80B-F3A6-4B66-A945-45075E1BFC45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BAE-12B4-4F9D-963A-FE4FD64F0F6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5DE1-D636-4716-B6BE-7615292D3E6D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714C-C868-444C-B199-4C5F790ED5A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3483-F519-488A-82D2-3461E8B6BA1F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29F5-96D3-4054-B771-47437527C82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D00-5C49-45D2-B611-3A1C1CA878DD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693-BB57-4C8C-87B5-688794D0AF45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35692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2 Métodos experimental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ón: se mide N veces una cantidad física, entonces su promedio se define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643040" y="2143080"/>
                <a:ext cx="6300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500280" y="3643200"/>
            <a:ext cx="510876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9 Conector recto"/>
          <p:cNvSpPr/>
          <p:nvPr/>
        </p:nvSpPr>
        <p:spPr>
          <a:xfrm flipH="1">
            <a:off x="6357960" y="3786120"/>
            <a:ext cx="1440" cy="221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285840" y="42148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=(10.1 + 3*10.2 + 4*10.3 + 3*10.4 +4*10.5 + 5*10.6 + 1*10.7)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1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: cómo medir “mej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el promedio de un muestreo se acerca al promedio de toda la pobl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3749760" y="2286000"/>
            <a:ext cx="5394240" cy="3357720"/>
          </a:xfrm>
          <a:prstGeom prst="rect">
            <a:avLst/>
          </a:prstGeom>
          <a:ln w="0">
            <a:noFill/>
          </a:ln>
        </p:spPr>
      </p:pic>
      <p:sp>
        <p:nvSpPr>
          <p:cNvPr id="422" name="4 CuadroTexto"/>
          <p:cNvSpPr/>
          <p:nvPr/>
        </p:nvSpPr>
        <p:spPr>
          <a:xfrm>
            <a:off x="214200" y="2428920"/>
            <a:ext cx="307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más mida más confianza puedo tener en mis resultados; ejemplo: tirar una moneda cara vs. s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celación de los err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Flecha abajo"/>
          <p:cNvSpPr/>
          <p:nvPr/>
        </p:nvSpPr>
        <p:spPr>
          <a:xfrm>
            <a:off x="1428840" y="485784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6 CuadroTexto"/>
          <p:cNvSpPr/>
          <p:nvPr/>
        </p:nvSpPr>
        <p:spPr>
          <a:xfrm>
            <a:off x="4214880" y="5929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da vez acercarse más al “verdadero” valor promedio; ejemplo: 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3857760" y="5357880"/>
            <a:ext cx="25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uch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8 CuadroTexto"/>
          <p:cNvSpPr/>
          <p:nvPr/>
        </p:nvSpPr>
        <p:spPr>
          <a:xfrm>
            <a:off x="6429240" y="5357880"/>
            <a:ext cx="250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oc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4500720" y="257184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3822840" y="3000240"/>
            <a:ext cx="1071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750096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6357960" y="2928960"/>
            <a:ext cx="107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572314"/>
                </a:solidFill>
                <a:latin typeface="Gill Sans MT"/>
              </a:rPr>
              <a:t>Efecto de la estadística</a:t>
            </a:r>
            <a:br>
              <a:rPr sz="3900"/>
            </a:b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cancelación de errores aleatorio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319640" cy="3273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4633920" y="1644480"/>
            <a:ext cx="4321080" cy="3273480"/>
          </a:xfrm>
          <a:prstGeom prst="rect">
            <a:avLst/>
          </a:prstGeom>
          <a:ln w="0">
            <a:noFill/>
          </a:ln>
        </p:spPr>
      </p:pic>
      <p:sp>
        <p:nvSpPr>
          <p:cNvPr id="434" name="6 CuadroTexto"/>
          <p:cNvSpPr/>
          <p:nvPr/>
        </p:nvSpPr>
        <p:spPr>
          <a:xfrm>
            <a:off x="6480" y="164304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7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7 CuadroTexto"/>
          <p:cNvSpPr/>
          <p:nvPr/>
        </p:nvSpPr>
        <p:spPr>
          <a:xfrm>
            <a:off x="4364280" y="171468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8 CuadroTexto"/>
          <p:cNvSpPr/>
          <p:nvPr/>
        </p:nvSpPr>
        <p:spPr>
          <a:xfrm>
            <a:off x="396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9 CuadroTexto"/>
          <p:cNvSpPr/>
          <p:nvPr/>
        </p:nvSpPr>
        <p:spPr>
          <a:xfrm>
            <a:off x="3861720" y="420372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4744080" y="422604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1 CuadroTexto"/>
          <p:cNvSpPr/>
          <p:nvPr/>
        </p:nvSpPr>
        <p:spPr>
          <a:xfrm>
            <a:off x="860184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42480" y="4643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ps: cuenta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3 CuadroTexto"/>
          <p:cNvSpPr/>
          <p:nvPr/>
        </p:nvSpPr>
        <p:spPr>
          <a:xfrm>
            <a:off x="1084320" y="1487520"/>
            <a:ext cx="272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4 CuadroTexto"/>
          <p:cNvSpPr/>
          <p:nvPr/>
        </p:nvSpPr>
        <p:spPr>
          <a:xfrm>
            <a:off x="5299920" y="1487520"/>
            <a:ext cx="285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0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16 CuadroTexto"/>
          <p:cNvSpPr/>
          <p:nvPr/>
        </p:nvSpPr>
        <p:spPr>
          <a:xfrm>
            <a:off x="1086480" y="42148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7 CuadroTexto"/>
          <p:cNvSpPr/>
          <p:nvPr/>
        </p:nvSpPr>
        <p:spPr>
          <a:xfrm>
            <a:off x="5872680" y="42274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8 CuadroTexto"/>
          <p:cNvSpPr/>
          <p:nvPr/>
        </p:nvSpPr>
        <p:spPr>
          <a:xfrm>
            <a:off x="357120" y="55008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Entre más midamos menor la dispersión de los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9 Elipse"/>
          <p:cNvSpPr/>
          <p:nvPr/>
        </p:nvSpPr>
        <p:spPr>
          <a:xfrm>
            <a:off x="2071800" y="5952960"/>
            <a:ext cx="2357280" cy="90504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Vari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9 CuadroTexto"/>
          <p:cNvSpPr/>
          <p:nvPr/>
        </p:nvSpPr>
        <p:spPr>
          <a:xfrm>
            <a:off x="1143000" y="114300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el cuadrado de las desviaciones de las mediciones con respecto al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medio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ersión es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umar los cuadrados de las desviaciones ayuda a que estas no se canc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5037120" y="2928960"/>
                <a:ext cx="4106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857840" cy="749520"/>
          </a:xfrm>
          <a:prstGeom prst="rect">
            <a:avLst/>
          </a:prstGeom>
          <a:ln w="0">
            <a:noFill/>
          </a:ln>
        </p:spPr>
      </p:pic>
      <p:sp>
        <p:nvSpPr>
          <p:cNvPr id="451" name="5 Rectángulo"/>
          <p:cNvSpPr/>
          <p:nvPr/>
        </p:nvSpPr>
        <p:spPr>
          <a:xfrm>
            <a:off x="2143080" y="3143160"/>
            <a:ext cx="500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6 Cerrar llave"/>
          <p:cNvSpPr/>
          <p:nvPr/>
        </p:nvSpPr>
        <p:spPr>
          <a:xfrm rot="5400000">
            <a:off x="1999800" y="342900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La desviación estándar, 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9 CuadroTexto"/>
          <p:cNvSpPr/>
          <p:nvPr/>
        </p:nvSpPr>
        <p:spPr>
          <a:xfrm>
            <a:off x="1143000" y="9288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la raíz cuadrada de l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Importa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i N &gt;&gt;1 entonces N-1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N (fórmula dada en el apu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fleja la diferencia en la precisión con que se midan diferentes muestreos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2357280" y="2071800"/>
                <a:ext cx="4961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Representación del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valor promedio y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0920" y="1285920"/>
          <a:ext cx="8642160" cy="171432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nz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viación estadístic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885960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CuadroTexto"/>
          <p:cNvSpPr/>
          <p:nvPr/>
        </p:nvSpPr>
        <p:spPr>
          <a:xfrm>
            <a:off x="5286240" y="478620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úmero de ocur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 CuadroTexto"/>
          <p:cNvSpPr/>
          <p:nvPr/>
        </p:nvSpPr>
        <p:spPr>
          <a:xfrm>
            <a:off x="2428920" y="392904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 CuadroTexto"/>
          <p:cNvSpPr/>
          <p:nvPr/>
        </p:nvSpPr>
        <p:spPr>
          <a:xfrm>
            <a:off x="7072200" y="371484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9 CuadroTexto"/>
          <p:cNvSpPr/>
          <p:nvPr/>
        </p:nvSpPr>
        <p:spPr>
          <a:xfrm>
            <a:off x="1214280" y="5643720"/>
            <a:ext cx="314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viación del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0 CuadroTexto"/>
          <p:cNvSpPr/>
          <p:nvPr/>
        </p:nvSpPr>
        <p:spPr>
          <a:xfrm>
            <a:off x="1187280" y="3209760"/>
            <a:ext cx="6357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Gran número de me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0 CuadroTexto"/>
          <p:cNvSpPr/>
          <p:nvPr/>
        </p:nvSpPr>
        <p:spPr>
          <a:xfrm>
            <a:off x="1104480" y="4071960"/>
            <a:ext cx="1301040" cy="52056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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1 CuadroTexto"/>
          <p:cNvSpPr/>
          <p:nvPr/>
        </p:nvSpPr>
        <p:spPr>
          <a:xfrm>
            <a:off x="6906240" y="4071960"/>
            <a:ext cx="785880" cy="3682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Symbol"/>
                <a:ea typeface="Symbol"/>
              </a:rPr>
              <a:t>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467" name="2 CuadroTexto"/>
          <p:cNvSpPr/>
          <p:nvPr/>
        </p:nvSpPr>
        <p:spPr>
          <a:xfrm>
            <a:off x="1191960" y="1143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promedio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istribución Gaussiana, z=x-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</a:t>
            </a:r>
            <a:r>
              <a:rPr b="0" lang="es-MX" sz="1000" spc="-1" strike="noStrike">
                <a:solidFill>
                  <a:srgbClr val="572314"/>
                </a:solidFill>
                <a:latin typeface="Gill Sans MT"/>
              </a:rPr>
              <a:t>verdadero valor medio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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4 CuadroTexto"/>
          <p:cNvSpPr/>
          <p:nvPr/>
        </p:nvSpPr>
        <p:spPr>
          <a:xfrm>
            <a:off x="968760" y="5429160"/>
            <a:ext cx="78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68.3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95.4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 Cerrar llave"/>
          <p:cNvSpPr/>
          <p:nvPr/>
        </p:nvSpPr>
        <p:spPr>
          <a:xfrm rot="5400000">
            <a:off x="2161080" y="3947040"/>
            <a:ext cx="357480" cy="7495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49520"/>
              <a:gd name="textAreaBottom" fmla="*/ 740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9"/>
                  <a:pt x="10800" y="858"/>
                </a:cubicBezTo>
                <a:lnTo>
                  <a:pt x="10800" y="9942"/>
                </a:lnTo>
                <a:cubicBezTo>
                  <a:pt x="10800" y="10371"/>
                  <a:pt x="16200" y="10800"/>
                  <a:pt x="21600" y="10800"/>
                </a:cubicBezTo>
                <a:cubicBezTo>
                  <a:pt x="16200" y="10800"/>
                  <a:pt x="10800" y="11229"/>
                  <a:pt x="10800" y="11658"/>
                </a:cubicBezTo>
                <a:lnTo>
                  <a:pt x="10800" y="20742"/>
                </a:lnTo>
                <a:cubicBezTo>
                  <a:pt x="10800" y="211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 CuadroTexto"/>
          <p:cNvSpPr/>
          <p:nvPr/>
        </p:nvSpPr>
        <p:spPr>
          <a:xfrm>
            <a:off x="205200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 Cerrar llave"/>
          <p:cNvSpPr/>
          <p:nvPr/>
        </p:nvSpPr>
        <p:spPr>
          <a:xfrm rot="5400000">
            <a:off x="6786000" y="3571920"/>
            <a:ext cx="357480" cy="15001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8 CuadroTexto"/>
          <p:cNvSpPr/>
          <p:nvPr/>
        </p:nvSpPr>
        <p:spPr>
          <a:xfrm>
            <a:off x="669528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CuadroTexto"/>
          <p:cNvSpPr/>
          <p:nvPr/>
        </p:nvSpPr>
        <p:spPr>
          <a:xfrm>
            <a:off x="6429240" y="2786040"/>
            <a:ext cx="1143000" cy="7333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0 CuadroTexto"/>
          <p:cNvSpPr/>
          <p:nvPr/>
        </p:nvSpPr>
        <p:spPr>
          <a:xfrm>
            <a:off x="1857240" y="2643120"/>
            <a:ext cx="1000440" cy="6415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1 CuadroTexto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Cuantific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 CuadroTexto"/>
          <p:cNvSpPr/>
          <p:nvPr/>
        </p:nvSpPr>
        <p:spPr>
          <a:xfrm>
            <a:off x="928800" y="750960"/>
            <a:ext cx="82152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absolut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valor de la desviación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rela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/&lt;C&gt; =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/&lt;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centaje” de confiabilidad de las me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57120" y="3857760"/>
            <a:ext cx="4643640" cy="2786040"/>
          </a:xfrm>
          <a:prstGeom prst="rect">
            <a:avLst/>
          </a:prstGeom>
          <a:ln w="0">
            <a:noFill/>
          </a:ln>
        </p:spPr>
      </p:pic>
      <p:sp>
        <p:nvSpPr>
          <p:cNvPr id="479" name="6 CuadroTexto"/>
          <p:cNvSpPr/>
          <p:nvPr/>
        </p:nvSpPr>
        <p:spPr>
          <a:xfrm>
            <a:off x="535788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i el o los datos caen fuera del error estadístico uno podría pensar en elimin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7 Rectángulo"/>
          <p:cNvSpPr/>
          <p:nvPr/>
        </p:nvSpPr>
        <p:spPr>
          <a:xfrm>
            <a:off x="5500800" y="4500720"/>
            <a:ext cx="3143160" cy="2000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9 Conector recto"/>
          <p:cNvSpPr/>
          <p:nvPr/>
        </p:nvSpPr>
        <p:spPr>
          <a:xfrm flipV="1">
            <a:off x="5857920" y="4785840"/>
            <a:ext cx="2357280" cy="1357560"/>
          </a:xfrm>
          <a:prstGeom prst="line">
            <a:avLst/>
          </a:prstGeom>
          <a:ln w="38160">
            <a:solidFill>
              <a:srgbClr val="3891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0 Multiplicar"/>
          <p:cNvSpPr/>
          <p:nvPr/>
        </p:nvSpPr>
        <p:spPr>
          <a:xfrm>
            <a:off x="6072120" y="6000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1 Multiplicar"/>
          <p:cNvSpPr/>
          <p:nvPr/>
        </p:nvSpPr>
        <p:spPr>
          <a:xfrm>
            <a:off x="6286680" y="557208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2 Multiplicar"/>
          <p:cNvSpPr/>
          <p:nvPr/>
        </p:nvSpPr>
        <p:spPr>
          <a:xfrm>
            <a:off x="6786720" y="564372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3 Multiplicar"/>
          <p:cNvSpPr/>
          <p:nvPr/>
        </p:nvSpPr>
        <p:spPr>
          <a:xfrm>
            <a:off x="7072200" y="550080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4 Multiplicar"/>
          <p:cNvSpPr/>
          <p:nvPr/>
        </p:nvSpPr>
        <p:spPr>
          <a:xfrm>
            <a:off x="5857920" y="614376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5 Multiplicar"/>
          <p:cNvSpPr/>
          <p:nvPr/>
        </p:nvSpPr>
        <p:spPr>
          <a:xfrm>
            <a:off x="7286760" y="528624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6 Multiplicar"/>
          <p:cNvSpPr/>
          <p:nvPr/>
        </p:nvSpPr>
        <p:spPr>
          <a:xfrm>
            <a:off x="7429680" y="492912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7 Multiplicar"/>
          <p:cNvSpPr/>
          <p:nvPr/>
        </p:nvSpPr>
        <p:spPr>
          <a:xfrm>
            <a:off x="7858080" y="592920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8 Multiplicar"/>
          <p:cNvSpPr/>
          <p:nvPr/>
        </p:nvSpPr>
        <p:spPr>
          <a:xfrm>
            <a:off x="8072280" y="4857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9 Elipse"/>
          <p:cNvSpPr/>
          <p:nvPr/>
        </p:nvSpPr>
        <p:spPr>
          <a:xfrm>
            <a:off x="7715160" y="5786280"/>
            <a:ext cx="500040" cy="5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0 Forma libre"/>
          <p:cNvSpPr/>
          <p:nvPr/>
        </p:nvSpPr>
        <p:spPr>
          <a:xfrm>
            <a:off x="5964120" y="4678200"/>
            <a:ext cx="2238480" cy="1603440"/>
          </a:xfrm>
          <a:prstGeom prst="pie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1 CuadroTexto"/>
          <p:cNvSpPr/>
          <p:nvPr/>
        </p:nvSpPr>
        <p:spPr>
          <a:xfrm>
            <a:off x="6649920" y="6143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3 CuadroTexto"/>
          <p:cNvSpPr/>
          <p:nvPr/>
        </p:nvSpPr>
        <p:spPr>
          <a:xfrm rot="16200000">
            <a:off x="5176800" y="51170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liminando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1000080" y="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Propag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"/>
              <p:cNvSpPr txBox="1"/>
              <p:nvPr/>
            </p:nvSpPr>
            <p:spPr>
              <a:xfrm>
                <a:off x="0" y="960480"/>
                <a:ext cx="9144000" cy="59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cac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s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ión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lt;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Δ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8 CuadroTexto"/>
          <p:cNvSpPr/>
          <p:nvPr/>
        </p:nvSpPr>
        <p:spPr>
          <a:xfrm>
            <a:off x="428760" y="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CuadroTexto"/>
          <p:cNvSpPr/>
          <p:nvPr/>
        </p:nvSpPr>
        <p:spPr>
          <a:xfrm>
            <a:off x="1143000" y="1143000"/>
            <a:ext cx="7429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872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son todos los números que -que contados desde la izquierda- se conocen exactamente, sumando una más que se puede conocer “más o menos”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¿cuán seguro estamos de nuestras medi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8 CuadroTexto"/>
          <p:cNvSpPr/>
          <p:nvPr/>
        </p:nvSpPr>
        <p:spPr>
          <a:xfrm>
            <a:off x="1143000" y="1071720"/>
            <a:ext cx="785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¿Cómo medimos?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Ale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varianza y 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idades: cantidades relevante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8 CuadroTexto"/>
          <p:cNvSpPr/>
          <p:nvPr/>
        </p:nvSpPr>
        <p:spPr>
          <a:xfrm>
            <a:off x="1000080" y="0"/>
            <a:ext cx="7072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¿cuán preciso puedodar el núm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9 CuadroTexto"/>
          <p:cNvSpPr/>
          <p:nvPr/>
        </p:nvSpPr>
        <p:spPr>
          <a:xfrm>
            <a:off x="1143000" y="1500120"/>
            <a:ext cx="742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900 ó también 1580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00: cuatro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… 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0000"/>
                </a:solidFill>
                <a:latin typeface="Arial"/>
              </a:rPr>
              <a:t>157900±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72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: 6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glas simples para las cifras significativas</a:t>
            </a:r>
            <a:br>
              <a:rPr sz="3200"/>
            </a:b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donde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92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572314"/>
                </a:solidFill>
                <a:latin typeface="Gill Sans MT"/>
              </a:rPr>
              <a:t>Cantidades relevantes en Fís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286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istanc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Otras: fuerza, temperatura, resistencia, corriente, voltaje, energía, pres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kilógramo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7" name="Picture 4" descr="307px-CGKilogram"/>
          <p:cNvPicPr/>
          <p:nvPr/>
        </p:nvPicPr>
        <p:blipFill>
          <a:blip r:embed="rId1"/>
          <a:stretch/>
        </p:blipFill>
        <p:spPr>
          <a:xfrm>
            <a:off x="357120" y="1357200"/>
            <a:ext cx="3900600" cy="2857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4429080" y="2428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K (Prototipo Internacional del kilógramo, por sus siglas en 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ura=diámetro=39.17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ación de Pt e Ir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2"/>
          <a:stretch/>
        </p:blipFill>
        <p:spPr>
          <a:xfrm>
            <a:off x="1214280" y="4500720"/>
            <a:ext cx="6969240" cy="18572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1928880" y="6488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numérica representa el logaritmo del número mos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6 CuadroTexto"/>
          <p:cNvSpPr/>
          <p:nvPr/>
        </p:nvSpPr>
        <p:spPr>
          <a:xfrm>
            <a:off x="1518840" y="564372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357200" y="6143760"/>
            <a:ext cx="32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mas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onector recto"/>
          <p:cNvSpPr/>
          <p:nvPr/>
        </p:nvSpPr>
        <p:spPr>
          <a:xfrm>
            <a:off x="1785960" y="6084720"/>
            <a:ext cx="250020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15080" y="6026040"/>
            <a:ext cx="179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ilog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00080" y="1447560"/>
            <a:ext cx="79344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longitud del trayecto recorrido en el vacío por la luz durante un tiempo de 1/299 792 458 de segundo (unidad de tiemp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 distancia la recorre la luz e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,34 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3571920"/>
            <a:ext cx="7394760" cy="2428920"/>
          </a:xfrm>
          <a:prstGeom prst="rect">
            <a:avLst/>
          </a:prstGeom>
          <a:ln w="0">
            <a:noFill/>
          </a:ln>
        </p:spPr>
      </p:pic>
      <p:sp>
        <p:nvSpPr>
          <p:cNvPr id="518" name="4 CuadroTexto"/>
          <p:cNvSpPr/>
          <p:nvPr/>
        </p:nvSpPr>
        <p:spPr>
          <a:xfrm>
            <a:off x="1304640" y="5214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71720" y="576108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6 Conector recto"/>
          <p:cNvSpPr/>
          <p:nvPr/>
        </p:nvSpPr>
        <p:spPr>
          <a:xfrm>
            <a:off x="2395440" y="5675400"/>
            <a:ext cx="128592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7429680" y="56437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microelectrónica la unidad más usada es el </a:t>
            </a:r>
            <a:r>
              <a:rPr b="0" lang="es-ES" sz="2800" spc="-1" strike="noStrike">
                <a:solidFill>
                  <a:srgbClr val="ff3300"/>
                </a:solidFill>
                <a:latin typeface="Gill Sans MT"/>
              </a:rPr>
              <a:t>nanómet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nanómetro = 1 nm = 1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9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átomo de hidróge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~ 0.1 nm = 1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Å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jemplos: Transist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Core2 820 millones de transistores, Distancia característica 45n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iPod: medio de almacenamiento memorias flash, 65-130 n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4" name="Picture 4" descr="250px-Transistor-photo"/>
          <p:cNvPicPr/>
          <p:nvPr/>
        </p:nvPicPr>
        <p:blipFill>
          <a:blip r:embed="rId1"/>
          <a:stretch/>
        </p:blipFill>
        <p:spPr>
          <a:xfrm>
            <a:off x="6516720" y="5373720"/>
            <a:ext cx="2381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Ti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572314"/>
                </a:solidFill>
                <a:latin typeface="Gill Sans MT"/>
              </a:rPr>
              <a:t>Unidad SI = segun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18 CuadroTexto"/>
          <p:cNvSpPr/>
          <p:nvPr/>
        </p:nvSpPr>
        <p:spPr>
          <a:xfrm>
            <a:off x="1143000" y="128592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segundo es la duración de 9.192.631.770 periodo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ición entre dos niveles hiperfinos del estado de energía mínimo del átomo de Cesio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: GPS, redes de telefonía, calibracio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85920" y="3143160"/>
            <a:ext cx="7472160" cy="2500560"/>
          </a:xfrm>
          <a:prstGeom prst="rect">
            <a:avLst/>
          </a:prstGeom>
          <a:ln w="0">
            <a:noFill/>
          </a:ln>
        </p:spPr>
      </p:pic>
      <p:sp>
        <p:nvSpPr>
          <p:cNvPr id="528" name="4 CuadroTexto"/>
          <p:cNvSpPr/>
          <p:nvPr/>
        </p:nvSpPr>
        <p:spPr>
          <a:xfrm>
            <a:off x="1304640" y="50007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895480" y="5559480"/>
            <a:ext cx="385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7 Conector recto"/>
          <p:cNvSpPr/>
          <p:nvPr/>
        </p:nvSpPr>
        <p:spPr>
          <a:xfrm>
            <a:off x="3286080" y="5454720"/>
            <a:ext cx="300060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7358040" y="53578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Tempera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medición de la intensidad térmica unidad es kelvin, 0 k = -273.15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5286240" cy="1513080"/>
          </a:xfrm>
          <a:prstGeom prst="rect">
            <a:avLst/>
          </a:prstGeom>
          <a:ln w="0">
            <a:noFill/>
          </a:ln>
        </p:spPr>
      </p:pic>
      <p:sp>
        <p:nvSpPr>
          <p:cNvPr id="534" name="4 CuadroTexto"/>
          <p:cNvSpPr/>
          <p:nvPr/>
        </p:nvSpPr>
        <p:spPr>
          <a:xfrm>
            <a:off x="2090520" y="2928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714760" y="335772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temperatur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Conector recto"/>
          <p:cNvSpPr/>
          <p:nvPr/>
        </p:nvSpPr>
        <p:spPr>
          <a:xfrm>
            <a:off x="3429000" y="3286080"/>
            <a:ext cx="136836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500880" y="321480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500040" y="385776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Pres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fuerza ejercida por unidad de área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idad es 1 Pascale = 1 N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2"/>
          <a:stretch/>
        </p:blipFill>
        <p:spPr>
          <a:xfrm>
            <a:off x="4200480" y="4381560"/>
            <a:ext cx="4943520" cy="2476440"/>
          </a:xfrm>
          <a:prstGeom prst="rect">
            <a:avLst/>
          </a:prstGeom>
          <a:ln w="0">
            <a:noFill/>
          </a:ln>
        </p:spPr>
      </p:pic>
      <p:sp>
        <p:nvSpPr>
          <p:cNvPr id="541" name="19 Conector recto"/>
          <p:cNvSpPr/>
          <p:nvPr/>
        </p:nvSpPr>
        <p:spPr>
          <a:xfrm>
            <a:off x="4883040" y="6067440"/>
            <a:ext cx="262728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240160" y="6118200"/>
            <a:ext cx="235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2714760" y="2357280"/>
            <a:ext cx="3929040" cy="12146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d0d0d"/>
                </a:solidFill>
                <a:latin typeface="Gill Sans MT"/>
              </a:rPr>
              <a:t>Fuerzas</a:t>
            </a:r>
            <a:br>
              <a:rPr sz="4300"/>
            </a:b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Unidad SI =kg*m/s</a:t>
            </a:r>
            <a:r>
              <a:rPr b="0" lang="es-ES" sz="2000" spc="-1" strike="noStrike" baseline="30000">
                <a:solidFill>
                  <a:srgbClr val="0d0d0d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=Newton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so de las un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214200" y="928800"/>
            <a:ext cx="8929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ntender las relaciones entre varias unidades de medida y de ahí su significad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eleración m/s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=(m/s)/s =variación de la velocidad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valuar si una ecuación está bien definida:  no se suman papas con peras… A= b+c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Fijarse que muchas cantidades no tienen dimensiones: variable x en log(x), e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si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0 CuadroTexto"/>
          <p:cNvSpPr/>
          <p:nvPr/>
        </p:nvSpPr>
        <p:spPr>
          <a:xfrm>
            <a:off x="1071720" y="1357200"/>
            <a:ext cx="403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Valor: 134…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7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Incertidumbre ±0.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219640" y="92880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379" name="4 Rectángulo"/>
          <p:cNvSpPr/>
          <p:nvPr/>
        </p:nvSpPr>
        <p:spPr>
          <a:xfrm>
            <a:off x="687600" y="52149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7 Conector recto de flecha"/>
          <p:cNvCxnSpPr/>
          <p:nvPr/>
        </p:nvCxnSpPr>
        <p:spPr>
          <a:xfrm flipH="1">
            <a:off x="2142360" y="2676600"/>
            <a:ext cx="71532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1" name="10 Conector recto de flecha"/>
          <p:cNvCxnSpPr/>
          <p:nvPr/>
        </p:nvCxnSpPr>
        <p:spPr>
          <a:xfrm>
            <a:off x="3357720" y="2676600"/>
            <a:ext cx="7149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2" name="12 Flecha abajo"/>
          <p:cNvSpPr/>
          <p:nvPr/>
        </p:nvSpPr>
        <p:spPr>
          <a:xfrm>
            <a:off x="2928960" y="346248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1 CuadroTexto"/>
          <p:cNvSpPr/>
          <p:nvPr/>
        </p:nvSpPr>
        <p:spPr>
          <a:xfrm>
            <a:off x="1071720" y="214200"/>
            <a:ext cx="80722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Hoy hemos discu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r conlleva siempre una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aleatorios: tratamiento estadístico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medio, varianza y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re más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mi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enor es la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pers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mis datos </a:t>
            </a:r>
            <a:r>
              <a:rPr b="1" lang="es-MX" sz="4400" spc="-1" strike="noStrike">
                <a:solidFill>
                  <a:srgbClr val="ff0000"/>
                </a:solidFill>
                <a:latin typeface="Arial"/>
              </a:rPr>
              <a:t>↔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ifras significativas y 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unidades utilizada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2 Flecha curvada hacia la derecha"/>
          <p:cNvSpPr/>
          <p:nvPr/>
        </p:nvSpPr>
        <p:spPr>
          <a:xfrm>
            <a:off x="0" y="2924280"/>
            <a:ext cx="1071720" cy="29289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631800 h 2928960"/>
              <a:gd name="textAreaBottom" fmla="*/ 21632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9" stAng="-5400000" swAng="-5400000"/>
                <a:lnTo>
                  <a:pt x="0" y="11294"/>
                </a:lnTo>
                <a:arcTo wR="21600" hR="9319" stAng="10800000" swAng="-3545976"/>
                <a:lnTo>
                  <a:pt x="16200" y="21304"/>
                </a:lnTo>
                <a:lnTo>
                  <a:pt x="21600" y="19625"/>
                </a:lnTo>
                <a:lnTo>
                  <a:pt x="16200" y="17353"/>
                </a:lnTo>
                <a:lnTo>
                  <a:pt x="16200" y="18341"/>
                </a:lnTo>
                <a:arcTo wR="21600" hR="9319" stAng="7254024" swAng="3388032"/>
                <a:lnTo>
                  <a:pt x="122" y="10306"/>
                </a:lnTo>
                <a:arcTo wR="21600" hR="9319" stAng="-10642056" swAng="5242056"/>
                <a:close/>
              </a:path>
              <a:path fill="darkenLess" w="21600" h="21600">
                <a:moveTo>
                  <a:pt x="21600" y="0"/>
                </a:moveTo>
                <a:arcTo wR="21600" hR="9319" stAng="-5400000" swAng="-5400000"/>
                <a:lnTo>
                  <a:pt x="0" y="9319"/>
                </a:lnTo>
                <a:arcTo wR="21600" hR="9319" stAng="10800000" swAng="-157944"/>
                <a:lnTo>
                  <a:pt x="122" y="10306"/>
                </a:lnTo>
                <a:arcTo wR="21600" hR="9319" stAng="-10642056" swAng="5242056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3572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3 Sistemas extendid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Definición de centro de mas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8 CuadroTexto"/>
          <p:cNvSpPr/>
          <p:nvPr/>
        </p:nvSpPr>
        <p:spPr>
          <a:xfrm>
            <a:off x="1143000" y="107172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on los sistemas extend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sa y centro de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perimento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¿Qué son los sistemas extendido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53" name="Picture 6" descr="car"/>
          <p:cNvPicPr/>
          <p:nvPr/>
        </p:nvPicPr>
        <p:blipFill>
          <a:blip r:embed="rId1"/>
          <a:stretch/>
        </p:blipFill>
        <p:spPr>
          <a:xfrm>
            <a:off x="1258920" y="2492280"/>
            <a:ext cx="7416720" cy="13636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97164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artículas “no interactuando” entre ellas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6589080" y="46530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1908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0"/>
          <p:cNvSpPr/>
          <p:nvPr/>
        </p:nvSpPr>
        <p:spPr>
          <a:xfrm>
            <a:off x="2195640" y="306864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1"/>
          <p:cNvSpPr/>
          <p:nvPr/>
        </p:nvSpPr>
        <p:spPr>
          <a:xfrm>
            <a:off x="226836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"/>
          <p:cNvSpPr/>
          <p:nvPr/>
        </p:nvSpPr>
        <p:spPr>
          <a:xfrm>
            <a:off x="161928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2700360" y="2924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4"/>
          <p:cNvSpPr/>
          <p:nvPr/>
        </p:nvSpPr>
        <p:spPr>
          <a:xfrm>
            <a:off x="2987640" y="3429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3132000" y="299736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"/>
          <p:cNvSpPr/>
          <p:nvPr/>
        </p:nvSpPr>
        <p:spPr>
          <a:xfrm>
            <a:off x="334800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7"/>
          <p:cNvSpPr/>
          <p:nvPr/>
        </p:nvSpPr>
        <p:spPr>
          <a:xfrm>
            <a:off x="2050920" y="3141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2340000" y="3284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9"/>
          <p:cNvSpPr/>
          <p:nvPr/>
        </p:nvSpPr>
        <p:spPr>
          <a:xfrm>
            <a:off x="2556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0"/>
          <p:cNvSpPr/>
          <p:nvPr/>
        </p:nvSpPr>
        <p:spPr>
          <a:xfrm>
            <a:off x="2916360" y="3213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1"/>
          <p:cNvSpPr/>
          <p:nvPr/>
        </p:nvSpPr>
        <p:spPr>
          <a:xfrm>
            <a:off x="3132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2"/>
          <p:cNvSpPr/>
          <p:nvPr/>
        </p:nvSpPr>
        <p:spPr>
          <a:xfrm>
            <a:off x="2556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 y centro de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4"/>
              <p:cNvSpPr txBox="1"/>
              <p:nvPr/>
            </p:nvSpPr>
            <p:spPr>
              <a:xfrm>
                <a:off x="1143000" y="1484280"/>
                <a:ext cx="38322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932360" y="3860640"/>
                <a:ext cx="244944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3" name="AutoShape 8"/>
          <p:cNvSpPr/>
          <p:nvPr/>
        </p:nvSpPr>
        <p:spPr>
          <a:xfrm>
            <a:off x="3635280" y="3284640"/>
            <a:ext cx="1152720" cy="2881080"/>
          </a:xfrm>
          <a:custGeom>
            <a:avLst/>
            <a:gdLst>
              <a:gd name="textAreaLeft" fmla="*/ 0 w 1152720"/>
              <a:gd name="textAreaRight" fmla="*/ 416160 w 11527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5 Forma libre"/>
          <p:cNvSpPr/>
          <p:nvPr/>
        </p:nvSpPr>
        <p:spPr>
          <a:xfrm>
            <a:off x="6715080" y="1214280"/>
            <a:ext cx="2000160" cy="1857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6 Rectángulo"/>
          <p:cNvGrpSpPr/>
          <p:nvPr/>
        </p:nvGrpSpPr>
        <p:grpSpPr>
          <a:xfrm>
            <a:off x="7400880" y="1682640"/>
            <a:ext cx="195480" cy="268560"/>
            <a:chOff x="7400880" y="1682640"/>
            <a:chExt cx="195480" cy="268560"/>
          </a:xfrm>
        </p:grpSpPr>
        <p:pic>
          <p:nvPicPr>
            <p:cNvPr id="576" name="6 Rectángulo" descr=""/>
            <p:cNvPicPr/>
            <p:nvPr/>
          </p:nvPicPr>
          <p:blipFill>
            <a:blip r:embed="rId1"/>
            <a:stretch/>
          </p:blipFill>
          <p:spPr>
            <a:xfrm>
              <a:off x="7400880" y="1682640"/>
              <a:ext cx="19548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29680" y="171468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7 CuadroTexto"/>
          <p:cNvSpPr/>
          <p:nvPr/>
        </p:nvSpPr>
        <p:spPr>
          <a:xfrm>
            <a:off x="7301520" y="13572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13 Conector recto de flecha"/>
          <p:cNvCxnSpPr/>
          <p:nvPr/>
        </p:nvCxnSpPr>
        <p:spPr>
          <a:xfrm flipV="1">
            <a:off x="6500880" y="1642320"/>
            <a:ext cx="216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0" name="15 Conector recto de flecha"/>
          <p:cNvCxnSpPr/>
          <p:nvPr/>
        </p:nvCxnSpPr>
        <p:spPr>
          <a:xfrm>
            <a:off x="6500880" y="3141720"/>
            <a:ext cx="16437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1" name="17 Conector recto de flecha"/>
          <p:cNvCxnSpPr/>
          <p:nvPr/>
        </p:nvCxnSpPr>
        <p:spPr>
          <a:xfrm flipH="1">
            <a:off x="6000120" y="3141360"/>
            <a:ext cx="500760" cy="501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82" name="Object 9"/>
              <p:cNvSpPr txBox="1"/>
              <p:nvPr/>
            </p:nvSpPr>
            <p:spPr>
              <a:xfrm>
                <a:off x="6103800" y="3355920"/>
                <a:ext cx="397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0"/>
              <p:cNvSpPr txBox="1"/>
              <p:nvPr/>
            </p:nvSpPr>
            <p:spPr>
              <a:xfrm>
                <a:off x="6072120" y="1662120"/>
                <a:ext cx="39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8053560" y="289080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85" name="23 Conector recto de flecha"/>
          <p:cNvCxnSpPr/>
          <p:nvPr/>
        </p:nvCxnSpPr>
        <p:spPr>
          <a:xfrm flipV="1">
            <a:off x="6500880" y="192816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24 Conector recto de flecha"/>
          <p:cNvCxnSpPr/>
          <p:nvPr/>
        </p:nvCxnSpPr>
        <p:spPr>
          <a:xfrm flipV="1">
            <a:off x="6500520" y="214272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26 Y"/>
          <p:cNvSpPr/>
          <p:nvPr/>
        </p:nvSpPr>
        <p:spPr>
          <a:xfrm>
            <a:off x="7858080" y="2000160"/>
            <a:ext cx="214200" cy="214560"/>
          </a:xfrm>
          <a:prstGeom prst="flowChartSummingJunction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uadroTexto"/>
          <p:cNvSpPr/>
          <p:nvPr/>
        </p:nvSpPr>
        <p:spPr>
          <a:xfrm>
            <a:off x="8058960" y="18572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2"/>
              <p:cNvSpPr txBox="1"/>
              <p:nvPr/>
            </p:nvSpPr>
            <p:spPr>
              <a:xfrm>
                <a:off x="6858000" y="1714680"/>
                <a:ext cx="396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3"/>
              <p:cNvSpPr txBox="1"/>
              <p:nvPr/>
            </p:nvSpPr>
            <p:spPr>
              <a:xfrm>
                <a:off x="7429680" y="2308320"/>
                <a:ext cx="753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35 CuadroTexto"/>
          <p:cNvSpPr/>
          <p:nvPr/>
        </p:nvSpPr>
        <p:spPr>
          <a:xfrm>
            <a:off x="4572000" y="528624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Posición promedio ponderada de la mas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 de cálcu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se ubicará en el eje entre las dos partícu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0 y 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 d y 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2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d/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 se encuentra siempre más cerca de la partícula más m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de un objeto simétrico se ubica  sobre el eje de simetría y sobre cualquier plano de simetr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Picture 2" descr="mhtml:file://C:\Users\jlisoni\Documents\Cursos\clases\semana%203\Dinámica%20de%20un%20sistema%20de%20partículas.mht!http://www.sc.ehu.es/sbweb/fisica/dinamica/con_mlineal/dinamica/choques2.gif"/>
          <p:cNvPicPr/>
          <p:nvPr/>
        </p:nvPicPr>
        <p:blipFill>
          <a:blip r:embed="rId1"/>
          <a:stretch/>
        </p:blipFill>
        <p:spPr>
          <a:xfrm>
            <a:off x="357120" y="2286000"/>
            <a:ext cx="4032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: explosión de un proyecti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ire no opone resitenc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Fuerza externa=grave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tes de la explosión el proyectil tiene una trayectoria paraból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l explo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Explosión=fuerzas inter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No afectan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CM continúa la trayectoria paraból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6 Forma libre"/>
          <p:cNvSpPr/>
          <p:nvPr/>
        </p:nvSpPr>
        <p:spPr>
          <a:xfrm>
            <a:off x="214200" y="2286000"/>
            <a:ext cx="3272040" cy="1514520"/>
          </a:xfrm>
          <a:prstGeom prst="pie">
            <a:avLst/>
          </a:prstGeom>
          <a:noFill/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8 Conector recto"/>
          <p:cNvSpPr/>
          <p:nvPr/>
        </p:nvSpPr>
        <p:spPr>
          <a:xfrm>
            <a:off x="3500280" y="3000240"/>
            <a:ext cx="85752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 Explosión 1"/>
          <p:cNvSpPr/>
          <p:nvPr/>
        </p:nvSpPr>
        <p:spPr>
          <a:xfrm>
            <a:off x="3000240" y="2500200"/>
            <a:ext cx="928800" cy="1071720"/>
          </a:xfrm>
          <a:prstGeom prst="irregularSeal1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1 Flecha abajo"/>
          <p:cNvSpPr/>
          <p:nvPr/>
        </p:nvSpPr>
        <p:spPr>
          <a:xfrm>
            <a:off x="6500880" y="39290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2 Flecha abajo"/>
          <p:cNvSpPr/>
          <p:nvPr/>
        </p:nvSpPr>
        <p:spPr>
          <a:xfrm>
            <a:off x="6500880" y="4714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3 CuadroTexto"/>
          <p:cNvSpPr/>
          <p:nvPr/>
        </p:nvSpPr>
        <p:spPr>
          <a:xfrm>
            <a:off x="4076280" y="3214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erimento 2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4 de Agos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771800" cy="2590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5429160" y="500040"/>
            <a:ext cx="3419640" cy="3371760"/>
          </a:xfrm>
          <a:prstGeom prst="rect">
            <a:avLst/>
          </a:prstGeom>
          <a:ln w="0">
            <a:noFill/>
          </a:ln>
        </p:spPr>
      </p:pic>
      <p:sp>
        <p:nvSpPr>
          <p:cNvPr id="606" name="3 Marcador de texto"/>
          <p:cNvSpPr/>
          <p:nvPr/>
        </p:nvSpPr>
        <p:spPr>
          <a:xfrm>
            <a:off x="1285920" y="4214880"/>
            <a:ext cx="73580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nsor de fuerza: trans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arjeta de adquisi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alibración sensor: Voltaje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álisis estadístico de un conjunto de datos: tensión de corte de un h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entarios al laboratorio anter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2 CuadroTexto"/>
          <p:cNvSpPr/>
          <p:nvPr/>
        </p:nvSpPr>
        <p:spPr>
          <a:xfrm>
            <a:off x="214200" y="67140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clu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significa repetir los resultos obte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la Real Academia Española de la Lengua (www.rae.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in y terminación de al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terminar y resolver sobre lo que se ha tra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Inferir, deducir una verdad de otras que se admiten, demuestran o presup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ncer a alguien con la razón, de modo que no tenga qué responder ni re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mplos tomados del infor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. 1 si, aunque es una distancia considerable para un ángulo pequeño, la cual en distancias aún mayores sería aún más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obtuvimos por conclusión que el ángulo es un factor determinante a la hora de lanzar un proyectil puesto que las componentes horizontales y verticales varían considerabl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pudimos observar que al modificar el ángulo de lanzamiento cambia la trayectoria y el punto de impacto ya que cambian las (componentes) velocidades y la altur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endencia era esperable, ya que a mayor peso, mayor es la fuerza ejercida por la gravedad la que es opuesta a la fuerza que realiza la cuerda, por lo que mayor es el tiempo en alcanzar el equilibrio de las fuer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valu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56840" y="1600200"/>
            <a:ext cx="7358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30 de Agosto a las 16:15 hrs: ejercic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Será una tarea para la c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Unidad 1, Unidad 2 y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scritos: 9/10, 6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xperimentales (en sesión de laboratorio): 21/09, 23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Ejercicios (durante clase auxiliar): </a:t>
            </a:r>
            <a:r>
              <a:rPr b="0" i="1" lang="es-ES" sz="3200" spc="-1" strike="noStrike">
                <a:solidFill>
                  <a:srgbClr val="ff0000"/>
                </a:solidFill>
                <a:latin typeface="Gill Sans MT"/>
              </a:rPr>
              <a:t>30/08</a:t>
            </a: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, 27/09, 18/10, 15/11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 Rectángulo"/>
          <p:cNvSpPr/>
          <p:nvPr/>
        </p:nvSpPr>
        <p:spPr>
          <a:xfrm>
            <a:off x="360720" y="600084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8 Elipse"/>
          <p:cNvSpPr/>
          <p:nvPr/>
        </p:nvSpPr>
        <p:spPr>
          <a:xfrm>
            <a:off x="6234120" y="5810400"/>
            <a:ext cx="2297160" cy="90468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643720" y="2428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"/>
          <p:cNvPicPr/>
          <p:nvPr/>
        </p:nvPicPr>
        <p:blipFill>
          <a:blip r:embed="rId3"/>
          <a:stretch/>
        </p:blipFill>
        <p:spPr>
          <a:xfrm>
            <a:off x="7143840" y="285840"/>
            <a:ext cx="1000080" cy="5263920"/>
          </a:xfrm>
          <a:prstGeom prst="rect">
            <a:avLst/>
          </a:prstGeom>
          <a:ln w="0">
            <a:noFill/>
          </a:ln>
        </p:spPr>
      </p:pic>
      <p:sp>
        <p:nvSpPr>
          <p:cNvPr id="389" name="13 Flecha izquierda y derecha"/>
          <p:cNvSpPr/>
          <p:nvPr/>
        </p:nvSpPr>
        <p:spPr>
          <a:xfrm>
            <a:off x="3571920" y="2928960"/>
            <a:ext cx="1785960" cy="121428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¿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4 CuadroTexto"/>
          <p:cNvSpPr/>
          <p:nvPr/>
        </p:nvSpPr>
        <p:spPr>
          <a:xfrm>
            <a:off x="23400" y="500076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tura del termómetro 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mucho menos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 CuadroTexto"/>
          <p:cNvSpPr/>
          <p:nvPr/>
        </p:nvSpPr>
        <p:spPr>
          <a:xfrm>
            <a:off x="2946600" y="13572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sist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 CuadroTexto"/>
          <p:cNvSpPr/>
          <p:nvPr/>
        </p:nvSpPr>
        <p:spPr>
          <a:xfrm>
            <a:off x="3300480" y="55008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ale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5 Llamada de flecha izquierda y derecha"/>
          <p:cNvGrpSpPr/>
          <p:nvPr/>
        </p:nvGrpSpPr>
        <p:grpSpPr>
          <a:xfrm>
            <a:off x="3852720" y="1994040"/>
            <a:ext cx="1652760" cy="3443040"/>
            <a:chOff x="3852720" y="1994040"/>
            <a:chExt cx="1652760" cy="3443040"/>
          </a:xfrm>
        </p:grpSpPr>
        <p:pic>
          <p:nvPicPr>
            <p:cNvPr id="395" name="5 Llamada de flecha izquierda y derecha" descr=""/>
            <p:cNvPicPr/>
            <p:nvPr/>
          </p:nvPicPr>
          <p:blipFill>
            <a:blip r:embed="rId1"/>
            <a:stretch/>
          </p:blipFill>
          <p:spPr>
            <a:xfrm>
              <a:off x="3852720" y="1994040"/>
              <a:ext cx="165276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 rot="16200000">
              <a:off x="3855240" y="2891160"/>
              <a:ext cx="164916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10 CuadroTexto"/>
          <p:cNvSpPr/>
          <p:nvPr/>
        </p:nvSpPr>
        <p:spPr>
          <a:xfrm>
            <a:off x="1738440" y="300024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inherentes y que van asociados a cualquier cantidad que se m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siste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uadroTexto"/>
          <p:cNvSpPr/>
          <p:nvPr/>
        </p:nvSpPr>
        <p:spPr>
          <a:xfrm>
            <a:off x="1143000" y="1357200"/>
            <a:ext cx="7705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sistemátic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aquellos que se producen siempre de igual modo en una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 típico: el instrumento que se usó para medir tiene algú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balanza digital está descalib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Puse mal la hora d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persona que mide siempre comete el mismo error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rror de paral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 CuadroTexto"/>
          <p:cNvSpPr/>
          <p:nvPr/>
        </p:nvSpPr>
        <p:spPr>
          <a:xfrm>
            <a:off x="1143000" y="5286240"/>
            <a:ext cx="7715160" cy="137376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se hacen muchas mediciones este error siempre va de alguna manera propagarse en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6715080" y="2928960"/>
            <a:ext cx="219096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5 CuadroTexto" descr=""/>
          <p:cNvPicPr/>
          <p:nvPr/>
        </p:nvPicPr>
        <p:blipFill>
          <a:blip r:embed="rId2"/>
          <a:stretch/>
        </p:blipFill>
        <p:spPr>
          <a:xfrm>
            <a:off x="152280" y="420840"/>
            <a:ext cx="9446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0 CuadroTexto"/>
          <p:cNvSpPr/>
          <p:nvPr/>
        </p:nvSpPr>
        <p:spPr>
          <a:xfrm>
            <a:off x="1152360" y="1274760"/>
            <a:ext cx="7705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aleatori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son eventos fortuitos, inevitables y de difíci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Entre más precisión tiene mi instrumento más probable es que dos mediciones sucesivas no conlleven al mism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sistema no midió porque hubo caída de 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Vibraciones: medidor de masa de microg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CuadroTexto"/>
          <p:cNvSpPr/>
          <p:nvPr/>
        </p:nvSpPr>
        <p:spPr>
          <a:xfrm>
            <a:off x="1071720" y="5429160"/>
            <a:ext cx="7786440" cy="10688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 se hacen muchas mediciones los errores aleatorios se cance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4 CuadroTexto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950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CuadroTexto"/>
          <p:cNvSpPr/>
          <p:nvPr/>
        </p:nvSpPr>
        <p:spPr>
          <a:xfrm>
            <a:off x="1000080" y="0"/>
            <a:ext cx="8143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Arial"/>
              </a:rPr>
              <a:t>Más de una res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Arial"/>
              </a:rPr>
              <a:t>Dispersión de valores me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 CuadroTexto"/>
          <p:cNvSpPr/>
          <p:nvPr/>
        </p:nvSpPr>
        <p:spPr>
          <a:xfrm>
            <a:off x="1143000" y="142884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el error aleatorio es tan pequeño que no lo detectamos entonces no nos preocupa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r mi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do cocinamos: pizca, 1 taz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ciones científicas: buscamos tener “confiabilidad” en nuestr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ción de una cantidad depende de muchas otros valores que a su vez también tiene u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quiero saber cuando se disuelven 10 g de sal en 100 ml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antidad a determinar es una 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saber cuanto es la vida media de una ampo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Flecha abajo"/>
          <p:cNvSpPr/>
          <p:nvPr/>
        </p:nvSpPr>
        <p:spPr>
          <a:xfrm>
            <a:off x="4143240" y="378612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6 CuadroTexto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944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CuadroTexto"/>
          <p:cNvSpPr/>
          <p:nvPr/>
        </p:nvSpPr>
        <p:spPr>
          <a:xfrm>
            <a:off x="928800" y="114300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element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Población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no se refiere a personas necesariamente, pero al universo completo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s similare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e estoy analiz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edian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número que se encuentra en medio de una lista de nú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ang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diferencia entre el máximo y mínimo valor del conjunto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10-08-23T21:22:15Z</dcterms:modified>
  <cp:revision>238</cp:revision>
  <dc:subject/>
  <dc:title>Diapositiva 1</dc:title>
</cp:coreProperties>
</file>