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124-0782-43D1-85B4-A42D9AAC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4600-08E3-4F8C-90A5-895194D4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A0D-D045-46B4-8E62-190F9D3A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1AE-99B9-4FAE-B67C-EB6F6F86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B80-0D70-4BC5-9047-99D8D2F3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5DD-CC76-47BA-8670-0669BDD0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8EF-0BB1-48B6-8220-38C1B11F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FBD-84D3-437C-8E3B-50043EFA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4B5-BF70-433B-93E1-D8DEE15F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998-FF41-4917-9E14-656A0714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6FF-4DC2-4345-89B5-35B90336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377-FD36-453B-9DC0-B3407DE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74A-1D5F-45AA-9A06-25DCE7F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8B2-12B0-417E-A860-E3BF931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0B2-604A-4F7D-A4E5-ABB6108BB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ng Agencies, Credit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083280" cy="218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87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72428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4800600" cy="224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752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8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581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3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70172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hat Is I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768760"/>
            <a:ext cx="855972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ertainty in a counterparty’s abilit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ingness to meet its contractu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44520" y="3911760"/>
            <a:ext cx="6578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is Guy Going To Pay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90EE2807-0E7C-4D86-B606-54117F93F9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ublicly traded bonds are assigned a “credit risk rating” by a rating agency, such as Standard &amp; Poors (S&amp;P), Moody’s, F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ar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grade – top four rating categories (AAA, AA, A &amp; B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k or high yield – everything below investment grade (BB, B, CCC, CC, D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219320"/>
            <a:ext cx="601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dy’s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: (i) investment grade/ junk  (ii) Exp Loss vs Prob of Default  (iii) only capture 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3640" y="804960"/>
            <a:ext cx="29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440" y="804960"/>
            <a:ext cx="29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560" y="1436760"/>
            <a:ext cx="37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1436760"/>
            <a:ext cx="36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920" y="1893960"/>
            <a:ext cx="7718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9920" y="1893960"/>
            <a:ext cx="65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2880" y="1893960"/>
            <a:ext cx="19101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qu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7280" y="1893960"/>
            <a:ext cx="23641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gations;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risk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bankruptcy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d short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12193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2960" y="1893960"/>
            <a:ext cx="771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39640" y="1893960"/>
            <a:ext cx="655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9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469800"/>
            <a:ext cx="458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ng-Term Senior Debt Rat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2193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6337440"/>
            <a:ext cx="6299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Moody’s; Cantor and Parker; Caouette, Altman and Naraya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ody’s Ideal 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235240"/>
            <a:ext cx="657864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1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4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560" y="1719360"/>
            <a:ext cx="42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 year (%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 year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very Rat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158920"/>
            <a:ext cx="703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Recovered after the tragedy (Moody’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440" y="3073320"/>
            <a:ext cx="8407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Bank Loans        71.2 %     (St. Dev. = 21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Public Bonds      63.5 %     (26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Unsecured Public Bonds  47.5 %     (26.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d Public Bonds         28.3 %     (20.1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AF6C190E-32FB-4D11-8985-CDFA55DD32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ADB7335-E58B-42E0-9379-BA2F4FEF75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5"/>
          <p:cNvSpPr/>
          <p:nvPr/>
        </p:nvSpPr>
        <p:spPr>
          <a:xfrm rot="21270000">
            <a:off x="1837800" y="3341520"/>
            <a:ext cx="4873680" cy="45720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5"/>
          <p:cNvSpPr/>
          <p:nvPr/>
        </p:nvSpPr>
        <p:spPr>
          <a:xfrm rot="21270000">
            <a:off x="1833480" y="2406240"/>
            <a:ext cx="3952800" cy="11001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 Bonds;  AAA Corporate;  Junk (B)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3733920"/>
            <a:ext cx="28954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3352320"/>
            <a:ext cx="24382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038120" y="2743200"/>
            <a:ext cx="3812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E46697B0-F8A7-4E28-8861-AB84DD1534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0800" y="3200400"/>
                <a:ext cx="37195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3716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5867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discount rate)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government (risk free) securities;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pread, for others (the lower the rating, the higher the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62120" y="28954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038480"/>
                <a:ext cx="36831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(“interest rat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7960" y="5257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i                i +1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46280" y="2558880"/>
                <a:ext cx="31575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03440" y="3809880"/>
            <a:ext cx="65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sh flow at time i;  P= Price of Bond; Y=Yield to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342900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5181480"/>
                <a:ext cx="815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8128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29000" y="5486400"/>
                <a:ext cx="5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10080" y="495288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concept tries to capture the “maturity” or the “average maturity” (How long does it take to get the money back, sort of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95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it happen to the price of a bond if there is a change in interest r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8195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   D* = D/ ( 1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3352680"/>
                <a:ext cx="1790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280" y="34128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uration (D), it is easy to estimate the change in price of a bond, if we have a change in interest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we know the duration (D), the price (P), and the change in interest rates  (        ), we can estimate the change in price using the following approxi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1371600"/>
                <a:ext cx="533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7200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ximation comes from expressing the price of a bo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4952880"/>
                <a:ext cx="1904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9718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omputing the  derivative of P with respect to y (that is,  dP/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304920"/>
                <a:ext cx="5021280" cy="60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D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1055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dP/dy= -P 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 = modified 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33520"/>
            <a:ext cx="41907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include the second term in the Taylor’s expansion (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e can get a more accurate estimat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- P  D*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+  (1/2)  P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onv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0477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029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4495680"/>
                <a:ext cx="5029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09-30T21:25:53Z</dcterms:modified>
  <cp:revision>76</cp:revision>
  <dc:subject/>
  <dc:title>Slide 1</dc:title>
</cp:coreProperties>
</file>