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FCA0-56C0-4B94-856B-A3A165C88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B411-5338-4C03-A06D-3A7F9EE3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2C6D-04E5-4D7E-B1A1-64FAC5D3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2EC7-DC12-47C6-B733-B699648B4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C4A1-26CB-40A6-9229-387CDB79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BC75-C5BC-4BA5-9661-E0415FA4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BE5F-5DEE-4A0D-8EF4-99030BC8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280A-EF30-410F-8213-B1E5AD79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9E31-C530-48BE-8258-684BF85F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2A82-8EC7-420E-9AB4-83CF55C5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C207-B106-4194-A4BF-0AF45BEC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B9AA-1F6E-4FD0-B303-7923A7F5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96B9-6795-4E70-9FBF-5FE6471FB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0" y="2362320"/>
            <a:ext cx="510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uation of Companies With Lever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2881440" cy="3909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791320" y="914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276360" y="1143000"/>
            <a:ext cx="2361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18288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perpetual cash flows   PV of Perp = (CF)/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352680" y="20574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2743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evered equity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2057040" y="2209320"/>
            <a:ext cx="2590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3733920"/>
            <a:ext cx="4343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 of Tax Shield =  T x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Debt /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=   T x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352320" y="342864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638680"/>
            <a:ext cx="5867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OF THE FI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NPV (with no debt)   +  PV of financing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 1015  +  216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143000" y="4343400"/>
            <a:ext cx="1447920" cy="1371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609480"/>
            <a:ext cx="76197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TE Approa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(AKA Residual CF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e CFs to levered 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, estimate required return on 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PV  CFs to equity + value of Deb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2971800" cy="3657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10080" y="457200"/>
            <a:ext cx="289584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left after paying the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x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721 x. 08 = 57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504960" y="83808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24280" y="2209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he equity gets after paying taxes (0.3 x 87.32 =  26.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3504960" y="205704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34290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3276720"/>
            <a:ext cx="4876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return on levered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(1 – T) (D/E) 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3504960" y="266652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46483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of levered equity  61.12/ .12 =  510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3505320" y="3200400"/>
            <a:ext cx="18288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57913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OF THE FI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Debt (721) +   Lev Equity (510.25) =   1231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447920" y="4114440"/>
            <a:ext cx="1447560" cy="1676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609480"/>
            <a:ext cx="76197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ACC Approa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e CFs to both, debt and equity, comb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e W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PV CFs using W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324480" y="3808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of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667240" cy="3528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>
            <a:off x="2819520" y="685800"/>
            <a:ext cx="3504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12952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(OR Cost) of levered equity (from previous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2819160" y="1599840"/>
            <a:ext cx="2819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57800" y="3352680"/>
            <a:ext cx="34290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CC = (1- T)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/V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E/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819160" y="2209680"/>
            <a:ext cx="23619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41911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ax C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895480" y="2514600"/>
            <a:ext cx="14479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579132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OF THE FI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Free CFs to Firm/ WACC  =  101.5/ 0.08 = 1231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990720" y="3885840"/>
            <a:ext cx="1295280" cy="198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00200" y="1447920"/>
            <a:ext cx="2209680" cy="304776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1447920"/>
            <a:ext cx="2210040" cy="304776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3657600"/>
            <a:ext cx="2210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1040" y="99072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ts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57800" y="2514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3886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895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952880"/>
            <a:ext cx="6629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A COMPANY  ?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( From a  financial point of view  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00200" y="1447920"/>
            <a:ext cx="2209680" cy="304776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1447920"/>
            <a:ext cx="2210040" cy="304776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3657600"/>
            <a:ext cx="2210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01040" y="99072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ts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2514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3886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2895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4952880"/>
            <a:ext cx="6629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: A machine that generates cash flows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More Interesting Question : How Much Would You Pay For A Given Machi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14400" y="990720"/>
            <a:ext cx="73152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oadly Speak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will consider 3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ws To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V [Adjusted Present Valu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990720"/>
            <a:ext cx="3962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ACC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red Asset Valu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800600" y="1752480"/>
                <a:ext cx="27432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CF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ACC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609480" y="3657600"/>
            <a:ext cx="44960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CF = after-tax cash flow to both debt and levered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CC = weighted average cost of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990720"/>
            <a:ext cx="3962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to Equity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red Equity Value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521240" y="1752480"/>
                <a:ext cx="20826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CF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609480" y="3657600"/>
            <a:ext cx="449604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F = after-tax and after-interest cash flow to levered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required return on levered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14400" y="990720"/>
            <a:ext cx="3962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PV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V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133720" y="1828800"/>
                <a:ext cx="211752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UCF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609480" y="3657600"/>
            <a:ext cx="449604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CF   = after-tax cash flow to unlevered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required return on unlevered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95680" y="22096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PV of financing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4724640" cy="2600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724280" y="4572000"/>
            <a:ext cx="3886200" cy="1355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638680" y="3886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3520" y="609480"/>
            <a:ext cx="761976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PV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first that this is an all equity (no debt) fi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the benefits of the financing strategy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8:35:00Z</dcterms:created>
  <dc:creator>VCHARLIN</dc:creator>
  <dc:description/>
  <dc:language>en-US</dc:language>
  <cp:lastModifiedBy> </cp:lastModifiedBy>
  <dcterms:modified xsi:type="dcterms:W3CDTF">2010-10-27T00:39:57Z</dcterms:modified>
  <cp:revision>67</cp:revision>
  <dc:subject/>
  <dc:title>Slide 1</dc:title>
</cp:coreProperties>
</file>