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B12-FB35-458C-AE2A-759EDBA9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A20-25E5-4D90-AB76-47573068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50E-8CCB-4368-81AA-1A0D43E1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72D-FF67-46FB-988C-25E59CA9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9E5-0804-4030-AFFB-8DE4BE5F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CA1-890F-4FEE-9FDC-0A48A95A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314-18DF-470B-893F-A111C3CF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BED-0BB6-4E47-80FA-DD059756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F64-010E-4C5D-9261-A24CC4A8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711-DD79-46A2-8A13-3874D3D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CA6-87C9-48DF-9E47-239A6D6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6AD-AF5B-4072-9D76-4EEBA4C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47EB-6FAB-44DE-9EF4-972A77577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 Under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79240" y="2743200"/>
            <a:ext cx="3978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3FBD-4A1F-4683-956D-E0D54CD9CCE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14600" y="1935000"/>
            <a:ext cx="5627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i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or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 Put (option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1074-792D-4474-8671-914E2721B14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28640" y="1976040"/>
            <a:ext cx="697248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nes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-of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119E-E212-4C5F-B644-C676BAD7691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1440" y="28080"/>
            <a:ext cx="7315200" cy="17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37920" y="1371600"/>
            <a:ext cx="372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of o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28720" y="137160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Stock price at option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value of dividends during opti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-free rate for matur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t.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A3BD-A1C0-4FCD-B3A7-0285EE4F2A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200" y="514080"/>
            <a:ext cx="782964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, in the price of an option, when one variable increases, and all the others remain una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71640" y="1571400"/>
            <a:ext cx="3892320" cy="39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1422360" y="2819520"/>
            <a:ext cx="670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1422360" y="2122560"/>
            <a:ext cx="6694560" cy="3579840"/>
            <a:chOff x="1422360" y="2122560"/>
            <a:chExt cx="6694560" cy="3579840"/>
          </a:xfrm>
        </p:grpSpPr>
        <p:sp>
          <p:nvSpPr>
            <p:cNvPr id="307" name="Rectangle 5"/>
            <p:cNvSpPr/>
            <p:nvPr/>
          </p:nvSpPr>
          <p:spPr>
            <a:xfrm>
              <a:off x="1428840" y="21225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1422360" y="2819520"/>
              <a:ext cx="6694560" cy="2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1428840" y="56991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9"/>
          <p:cNvSpPr/>
          <p:nvPr/>
        </p:nvSpPr>
        <p:spPr>
          <a:xfrm>
            <a:off x="3246120" y="2235240"/>
            <a:ext cx="36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531680" y="22352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817960" y="22352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7108200" y="2235240"/>
            <a:ext cx="42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1"/>
          <p:cNvGrpSpPr/>
          <p:nvPr/>
        </p:nvGrpSpPr>
        <p:grpSpPr>
          <a:xfrm>
            <a:off x="1218960" y="2235240"/>
            <a:ext cx="1670400" cy="3419640"/>
            <a:chOff x="1218960" y="2235240"/>
            <a:chExt cx="1670400" cy="3419640"/>
          </a:xfrm>
        </p:grpSpPr>
        <p:sp>
          <p:nvSpPr>
            <p:cNvPr id="315" name="Rectangle 13"/>
            <p:cNvSpPr/>
            <p:nvPr/>
          </p:nvSpPr>
          <p:spPr>
            <a:xfrm>
              <a:off x="1218960" y="2235240"/>
              <a:ext cx="1670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0"/>
            <p:cNvGrpSpPr/>
            <p:nvPr/>
          </p:nvGrpSpPr>
          <p:grpSpPr>
            <a:xfrm>
              <a:off x="1607040" y="2867040"/>
              <a:ext cx="511560" cy="2787840"/>
              <a:chOff x="1607040" y="2867040"/>
              <a:chExt cx="511560" cy="278784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1615680" y="2867040"/>
                <a:ext cx="50292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1608480" y="3309840"/>
                <a:ext cx="452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6"/>
              <p:cNvSpPr/>
              <p:nvPr/>
            </p:nvSpPr>
            <p:spPr>
              <a:xfrm>
                <a:off x="1607760" y="37530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7"/>
              <p:cNvSpPr/>
              <p:nvPr/>
            </p:nvSpPr>
            <p:spPr>
              <a:xfrm>
                <a:off x="1607040" y="4194000"/>
                <a:ext cx="4269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1608120" y="4635360"/>
                <a:ext cx="3398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9"/>
              <p:cNvSpPr/>
              <p:nvPr/>
            </p:nvSpPr>
            <p:spPr>
              <a:xfrm>
                <a:off x="1608120" y="507852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Rectangle 22"/>
          <p:cNvSpPr/>
          <p:nvPr/>
        </p:nvSpPr>
        <p:spPr>
          <a:xfrm>
            <a:off x="319032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577620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712296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448416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8"/>
          <p:cNvGrpSpPr/>
          <p:nvPr/>
        </p:nvGrpSpPr>
        <p:grpSpPr>
          <a:xfrm>
            <a:off x="3285720" y="3733920"/>
            <a:ext cx="1701000" cy="576360"/>
            <a:chOff x="3285720" y="3733920"/>
            <a:chExt cx="1701000" cy="576360"/>
          </a:xfrm>
        </p:grpSpPr>
        <p:sp>
          <p:nvSpPr>
            <p:cNvPr id="328" name="Rectangle 26"/>
            <p:cNvSpPr/>
            <p:nvPr/>
          </p:nvSpPr>
          <p:spPr>
            <a:xfrm>
              <a:off x="328572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7"/>
            <p:cNvSpPr/>
            <p:nvPr/>
          </p:nvSpPr>
          <p:spPr>
            <a:xfrm>
              <a:off x="457956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29"/>
          <p:cNvSpPr/>
          <p:nvPr/>
        </p:nvSpPr>
        <p:spPr>
          <a:xfrm>
            <a:off x="577620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707004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19032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448416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577620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707004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319032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453528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77620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712296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9"/>
          <p:cNvSpPr/>
          <p:nvPr/>
        </p:nvSpPr>
        <p:spPr>
          <a:xfrm>
            <a:off x="453528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324144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2912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2"/>
          <p:cNvSpPr/>
          <p:nvPr/>
        </p:nvSpPr>
        <p:spPr>
          <a:xfrm>
            <a:off x="707004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"/>
          <p:cNvSpPr/>
          <p:nvPr/>
        </p:nvSpPr>
        <p:spPr>
          <a:xfrm>
            <a:off x="324144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448416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582912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707004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8"/>
          <p:cNvSpPr/>
          <p:nvPr/>
        </p:nvSpPr>
        <p:spPr>
          <a:xfrm>
            <a:off x="701028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DD0B-0C8B-4024-A82F-E35F934CB38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76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                      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6019920"/>
            <a:ext cx="3733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increases in value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14400" y="3352680"/>
            <a:ext cx="243828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5791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decreases in value if D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657600" y="5486400"/>
            <a:ext cx="13716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533520"/>
            <a:ext cx="670536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Useful Relationship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all option can never be worth more than th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581280"/>
            <a:ext cx="19051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62120" y="533520"/>
            <a:ext cx="6705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ut option can never be worth more than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vs Europea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92280" y="1600200"/>
            <a:ext cx="59594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is worth at least as much as the corresponding Europe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6889-2274-4C28-83F8-8BD5D7BBB7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43000" y="1143000"/>
            <a:ext cx="5410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European put we know that at maturity the put option cannot be worth more than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 then, that today, the price cannot be more than the present value of K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 K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Call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–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8D4D-0600-4475-BFED-3F1FE9AAE1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n optio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t is an option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uropean option can be exercised only at the end of it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can be exercised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C6CB-D131-466B-BB43-FA30FD39AC7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505320"/>
            <a:ext cx="670572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A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, I will exercise the option (spend K) and now I have a stock whose value is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K    there is no point in exercising the option (option=worthless); so I end up with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3505320"/>
            <a:ext cx="6705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(at time  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the value of portfolio (B), at time = T, is obviously, 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4876920"/>
            <a:ext cx="8153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, (A) is more valuable than (B) at maturity  ((in other words, B can be equal to A but never more)), therefore, in the absence of arbitrage opportunities the same situation has to be valid today (time = 0); namely, (A) is more valuable than (B)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–rT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gt;  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Put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–rT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5CB0-D447-418A-B05E-B2E5C3D6BE9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] a European put option + on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]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3505320"/>
            <a:ext cx="670572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D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 for position [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 K, I will exercise the option (sell the stock at  K) and now I have a portfolio  whose  value is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    there is no point in exercising the option (option=worthless); so I end up with a value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C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19320" y="1295280"/>
            <a:ext cx="6476760" cy="71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reasoning similar to the one employed before 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C is worth more than portfolio D (whose value, at T,  is K no matter what); and thus, the same should hold at time = 0 (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 + 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&g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Value of A and C Portfol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28840" y="2143080"/>
          <a:ext cx="6095880" cy="2600280"/>
        </p:xfrm>
        <a:graphic>
          <a:graphicData uri="http://schemas.openxmlformats.org/drawingml/2006/table">
            <a:tbl>
              <a:tblPr/>
              <a:tblGrid>
                <a:gridCol w="1285920"/>
                <a:gridCol w="2286000"/>
                <a:gridCol w="1285920"/>
                <a:gridCol w="12380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g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l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−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− 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53DE-0E80-4F81-A4B8-640AF83794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=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5105520"/>
            <a:ext cx="7696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European (CANNOT be exercised before T), thus, since the value of the two portfolios( A and B)  is the same at time = T, they must have the same value today (time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so-called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Put-Call Par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ortfolios are worth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therefore be worth the same today. This means that (today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5400" spc="-1" strike="noStrike" baseline="30000">
                <a:solidFill>
                  <a:srgbClr val="000000"/>
                </a:solidFill>
                <a:latin typeface="Times New Roman"/>
              </a:rPr>
              <a:t> -rT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BECD-5302-45B8-B7B4-28BA08913A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Options; 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76520" y="3962160"/>
            <a:ext cx="2514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ut-Call Parity Theorem (OR Result) Is Only Valid For EUROPEAN Options; For AMERICAN Options We Can Show That For The Case In Which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CE09-9AC8-451E-865E-0DF2000F9E7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815328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&lt;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&l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38080" y="685800"/>
            <a:ext cx="769644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vidends are included (D is the PV of the Dividend during the life of the option) then we h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14520" y="2124000"/>
            <a:ext cx="581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10EF-2A74-4D8C-ABA9-B80C1768115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Cal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one European call option: option price = $5, strike price = $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567080" y="2819520"/>
            <a:ext cx="6638040" cy="3200040"/>
            <a:chOff x="1567080" y="2819520"/>
            <a:chExt cx="6638040" cy="3200040"/>
          </a:xfrm>
        </p:grpSpPr>
        <p:sp>
          <p:nvSpPr>
            <p:cNvPr id="52" name="Line 5"/>
            <p:cNvSpPr/>
            <p:nvPr/>
          </p:nvSpPr>
          <p:spPr>
            <a:xfrm>
              <a:off x="1981080" y="2842200"/>
              <a:ext cx="0" cy="317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2428920" y="524772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 flipV="1">
              <a:off x="2298600" y="5095080"/>
              <a:ext cx="5724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"/>
            <p:cNvSpPr/>
            <p:nvPr/>
          </p:nvSpPr>
          <p:spPr>
            <a:xfrm flipH="1" flipV="1">
              <a:off x="2359080" y="5098320"/>
              <a:ext cx="6192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9"/>
            <p:cNvSpPr/>
            <p:nvPr/>
          </p:nvSpPr>
          <p:spPr>
            <a:xfrm flipH="1" flipV="1">
              <a:off x="2209320" y="5096520"/>
              <a:ext cx="81000" cy="28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 flipH="1">
              <a:off x="2160360" y="5113080"/>
              <a:ext cx="6012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 flipH="1">
              <a:off x="1976040" y="52509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989000" y="4547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1994040" y="3841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1987560" y="31503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5336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32194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39006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45910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52768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>
              <a:off x="59580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66438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1990800" y="59436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H="1">
              <a:off x="1976040" y="559800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>
              <a:off x="2571840" y="5572080"/>
              <a:ext cx="211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 flipV="1">
              <a:off x="4643280" y="3215160"/>
              <a:ext cx="2211480" cy="236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1567080" y="29134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1567080" y="36532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586160" y="43570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1681200" y="5018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1604880" y="53690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23245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0103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367704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4"/>
            <p:cNvSpPr/>
            <p:nvPr/>
          </p:nvSpPr>
          <p:spPr>
            <a:xfrm>
              <a:off x="4329720" y="4687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50155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6"/>
            <p:cNvSpPr/>
            <p:nvPr/>
          </p:nvSpPr>
          <p:spPr>
            <a:xfrm>
              <a:off x="57013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63871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8"/>
            <p:cNvSpPr/>
            <p:nvPr/>
          </p:nvSpPr>
          <p:spPr>
            <a:xfrm>
              <a:off x="2118240" y="28195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6108120" y="437652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Slide Number Placeholder 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ABBB-02CD-4B71-A164-FCD6A9D0B7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all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one European call option: option price = $5, strike price =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492560" y="2619360"/>
            <a:ext cx="6626520" cy="3413880"/>
            <a:chOff x="1492560" y="2619360"/>
            <a:chExt cx="6626520" cy="3413880"/>
          </a:xfrm>
        </p:grpSpPr>
        <p:sp>
          <p:nvSpPr>
            <p:cNvPr id="91" name="Rectangle 5"/>
            <p:cNvSpPr/>
            <p:nvPr/>
          </p:nvSpPr>
          <p:spPr>
            <a:xfrm>
              <a:off x="1492560" y="55785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1492560" y="490212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1492560" y="418140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1681200" y="35193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1681200" y="31971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1981080" y="2708280"/>
              <a:ext cx="0" cy="319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2428920" y="371484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2298600" y="3565440"/>
              <a:ext cx="5724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H="1" flipV="1">
              <a:off x="2359080" y="3568680"/>
              <a:ext cx="619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H="1" flipV="1">
              <a:off x="2209320" y="3566880"/>
              <a:ext cx="8100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2160360" y="3583080"/>
              <a:ext cx="601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976040" y="3718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25336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32194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9006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45910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52768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>
              <a:off x="59580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>
              <a:off x="66438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>
              <a:off x="1990800" y="4395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23436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30294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37152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4329720" y="379584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50155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57013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3871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118240" y="261936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6022080" y="380520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 flipH="1">
              <a:off x="1980720" y="33908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>
              <a:off x="1992240" y="50878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>
              <a:off x="1994040" y="57769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500200" y="3429000"/>
              <a:ext cx="2071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4581360" y="3400560"/>
              <a:ext cx="2426040" cy="242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4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0A6-388A-4DD7-BB93-879674ECCA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Put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567080" y="2709720"/>
            <a:ext cx="6638040" cy="3132360"/>
            <a:chOff x="1567080" y="2709720"/>
            <a:chExt cx="6638040" cy="3132360"/>
          </a:xfrm>
        </p:grpSpPr>
        <p:sp>
          <p:nvSpPr>
            <p:cNvPr id="129" name="Line 5"/>
            <p:cNvSpPr/>
            <p:nvPr/>
          </p:nvSpPr>
          <p:spPr>
            <a:xfrm>
              <a:off x="1981080" y="2732040"/>
              <a:ext cx="0" cy="31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2428920" y="508968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V="1">
              <a:off x="2298600" y="493668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H="1" flipV="1">
              <a:off x="2357280" y="494136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 flipH="1" flipV="1">
              <a:off x="2209320" y="493668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H="1">
              <a:off x="2157480" y="495468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H="1">
              <a:off x="1976040" y="50896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1989000" y="4400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994040" y="3710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1987560" y="3033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25336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>
              <a:off x="32194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>
              <a:off x="39006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5910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52768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5958000" y="50166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66438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>
              <a:off x="1989000" y="5767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 flipH="1">
              <a:off x="1976040" y="542916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1567080" y="2801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1567080" y="352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1586160" y="4214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1681200" y="486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604880" y="53546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44215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371988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"/>
            <p:cNvSpPr/>
            <p:nvPr/>
          </p:nvSpPr>
          <p:spPr>
            <a:xfrm>
              <a:off x="30434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2"/>
            <p:cNvSpPr/>
            <p:nvPr/>
          </p:nvSpPr>
          <p:spPr>
            <a:xfrm>
              <a:off x="23641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3"/>
            <p:cNvSpPr/>
            <p:nvPr/>
          </p:nvSpPr>
          <p:spPr>
            <a:xfrm>
              <a:off x="51008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4"/>
            <p:cNvSpPr/>
            <p:nvPr/>
          </p:nvSpPr>
          <p:spPr>
            <a:xfrm>
              <a:off x="575820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5"/>
            <p:cNvSpPr/>
            <p:nvPr/>
          </p:nvSpPr>
          <p:spPr>
            <a:xfrm>
              <a:off x="6387120" y="51102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6"/>
            <p:cNvSpPr/>
            <p:nvPr/>
          </p:nvSpPr>
          <p:spPr>
            <a:xfrm>
              <a:off x="2118240" y="27097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7"/>
            <p:cNvSpPr/>
            <p:nvPr/>
          </p:nvSpPr>
          <p:spPr>
            <a:xfrm>
              <a:off x="6108120" y="423396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>
              <a:off x="1922040" y="55436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9"/>
            <p:cNvSpPr/>
            <p:nvPr/>
          </p:nvSpPr>
          <p:spPr>
            <a:xfrm>
              <a:off x="4643280" y="5572080"/>
              <a:ext cx="269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0"/>
            <p:cNvSpPr/>
            <p:nvPr/>
          </p:nvSpPr>
          <p:spPr>
            <a:xfrm flipH="1" flipV="1">
              <a:off x="2401920" y="3363480"/>
              <a:ext cx="2225520" cy="2225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6D5-7CE4-4F29-89CB-1B772C9EBB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Put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486080" y="2541600"/>
            <a:ext cx="6785640" cy="3535920"/>
            <a:chOff x="1486080" y="2541600"/>
            <a:chExt cx="6785640" cy="3535920"/>
          </a:xfrm>
        </p:grpSpPr>
        <p:sp>
          <p:nvSpPr>
            <p:cNvPr id="169" name="Rectangle 5"/>
            <p:cNvSpPr/>
            <p:nvPr/>
          </p:nvSpPr>
          <p:spPr>
            <a:xfrm>
              <a:off x="1487880" y="562284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486080" y="49449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487880" y="42591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1480" y="3105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1981080" y="2541600"/>
              <a:ext cx="0" cy="330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2428920" y="380376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V="1">
              <a:off x="2298600" y="365076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 flipH="1" flipV="1">
              <a:off x="2357280" y="365580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 flipV="1">
              <a:off x="2209320" y="365076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H="1">
              <a:off x="2157480" y="366876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 flipH="1">
              <a:off x="1976040" y="38037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1989000" y="3114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5336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2194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39006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45910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52768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5958000" y="3730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6438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1989000" y="4481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 flipH="1">
              <a:off x="1976040" y="34560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6"/>
            <p:cNvSpPr/>
            <p:nvPr/>
          </p:nvSpPr>
          <p:spPr>
            <a:xfrm>
              <a:off x="1681200" y="357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43833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368964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011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2327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50709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575172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3"/>
            <p:cNvSpPr/>
            <p:nvPr/>
          </p:nvSpPr>
          <p:spPr>
            <a:xfrm>
              <a:off x="6379200" y="3813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4"/>
            <p:cNvSpPr/>
            <p:nvPr/>
          </p:nvSpPr>
          <p:spPr>
            <a:xfrm>
              <a:off x="2118240" y="268128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5"/>
            <p:cNvSpPr/>
            <p:nvPr/>
          </p:nvSpPr>
          <p:spPr>
            <a:xfrm>
              <a:off x="6174720" y="294804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>
              <a:off x="1922040" y="333072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4618080" y="3327480"/>
              <a:ext cx="201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 flipH="1">
              <a:off x="2395080" y="3340080"/>
              <a:ext cx="2235240" cy="213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1989000" y="51674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1989000" y="58482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34B6-6DC1-422B-BC9E-63097A69A7C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0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1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1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2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2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C1AD-5321-4D76-B5E9-6156169D61D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4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5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5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6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6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3069-447A-4E13-A5D9-03CE1761B2D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 </cp:lastModifiedBy>
  <dcterms:modified xsi:type="dcterms:W3CDTF">2010-11-07T15:36:13Z</dcterms:modified>
  <cp:revision>107</cp:revision>
  <dc:subject/>
  <dc:title>Slide 1</dc:title>
</cp:coreProperties>
</file>