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AB8D-4FD1-4677-9673-B7264671A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744A02-3325-41B2-AFA8-AEDFC5C86D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503734-E9F1-4F23-B898-38B468A641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4E0C03-1918-42DF-8377-8A9D0B4848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D24DCC-5EED-4BE8-8FDB-4C56437B8A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3E0D22-118A-469B-A6AA-2FBAD371A9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8C45E0-45A2-4021-AA82-6CBD850F0A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BCF9D0-8B38-42C0-8656-376B2FEBAD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1AC9E9-C63C-4BBF-A8F8-6FACB5F0EF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E65F9C-0990-4746-8459-EF54898AF9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38CDB8-7460-45F0-8AE5-B9AD8C0248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2A6-978A-48F9-BD68-E869C25A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BA9D-2F12-41B1-9748-18E69DE7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439-D853-42B0-9D27-69628B21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08D-6D4B-42F9-8DBA-66F309BE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277-0664-4A5A-BBE7-93B17D7D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B32-1406-491C-913B-94BBECAC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4B8-ADBA-41DF-8D1E-F48E025F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C28-071C-4A26-ADB0-AB629503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A5A-41C8-49EC-94ED-C35A0C99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325-61AE-421D-91D6-E2A6F57E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220-49FF-4E3E-83CD-3888DAF8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C93-340B-42F2-B6DA-03BD89B8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3FDC-5A33-4EB4-BB61-ED72FEF2D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RIVATIVES: Valuation Methods and Some Extra Stu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19360" y="57909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John C. Hull, Options, Futures and Other Derivatives, Prentice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573440" cy="323064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50C8-18DF-4643-8392-803341E2C56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447920" y="3048120"/>
            <a:ext cx="259056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3341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.5073 x 0 + .4927 x 5.45] exp{-.10 x .0833}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867280"/>
            <a:ext cx="102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86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point in exercising the option at this node (S=K=50), thus early exercise is useless, better to wait, therefore, value is 2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24280" cy="358164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4F2B-2EED-4DD8-BFED-E7CCAF6FE24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05120" y="3352680"/>
            <a:ext cx="19810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029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5073 x 5.45  +  .4927 x 14.64)    exp{ -.10 x .083 }  =   9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5627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rly exercise, generates 50 – 39.69 =  10.31; thus, the option should be exercised, the correct value for the option at the node is 10.31  (10.31 &gt; 9.9, implies that it is better to exercise NOW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24280" cy="358164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EB5B-712B-48DE-BDAF-AA33D4400DA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81080" y="342864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02920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5073 x 6.38  +  .4927 x 14.64)    exp{ -.10 x .083 }  =   10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556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, it is not always better to exercise the option when the option is in the money…            50 - 39.69  = 10.31…    better NOT TO exercised at that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 of Delta at time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, that is, the sensitivity of the option price w/r to S [stock pric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85800" y="1676520"/>
                <a:ext cx="4800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lt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BF8F-4BB5-48FD-AC6A-2C1C0529C61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95480" y="2057400"/>
            <a:ext cx="5335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04960" y="2057400"/>
            <a:ext cx="22860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590920"/>
            <a:ext cx="12956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352680" y="2590920"/>
            <a:ext cx="76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52480" y="1371600"/>
            <a:ext cx="62485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Black-Sc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ack-Scholes Formul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739800" y="1949400"/>
                <a:ext cx="766440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5CC6-06A9-4AEE-BEBD-419B8EAC07E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probability that a normally distributed variable with a mean of zero and a standard deviation of 1 is less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749E-C3F5-4998-B033-235578657A8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1371600"/>
            <a:ext cx="62485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Monte Car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838080"/>
            <a:ext cx="807696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TE CARLO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ly on the risk-neutral appro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nerate a random path and then calculate the payoff of the option at time t=T; we discount the value using the risk-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ormal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Generate a random path for S in a risk-neutr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) Determine the payoff at time t =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i) Repeat the previous steps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ii) Calculate the mean of the payoffs (from the many path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iiii) “Bring the mean” to t= 0 using the 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1600" y="1447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[Exp Mean S]  S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qr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26708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denotes the price of a stock that it does not pay a dividend between [0, T], the [Exp Mean S] = risk free rate.  Otherwise, see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43000" y="1904760"/>
            <a:ext cx="167652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2971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sample from a distribution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334120" y="1752120"/>
            <a:ext cx="12189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CA58-C6E2-4F44-BA67-CB2234E8C85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1600200"/>
            <a:ext cx="4647960" cy="37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uropean options, method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merican options, we need to take care of an additional compl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1219320"/>
            <a:ext cx="6400800" cy="23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3-year American put option (non-dividend-paying stock) than can be exercised at the end of year 1, 2, or 3.  Risk-free rate= 6%;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.00;  K= 1.1  (We also know the volatilit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implicity, we will assume that we did a “mini Monte Carlo” (only 8 pa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4120" y="838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flows had the option been exercised at t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86200" y="1676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86200" y="14479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86200" y="16002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885840" y="16765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304812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t the end of year 2, the put option was in the money for paths: 1, 3, 4, 6 and 7.  Hence, we need to decide at this points if we exercise or continu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81280" cy="2022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6520" y="53352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33920" cy="2293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48320" y="5105520"/>
            <a:ext cx="3352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se paths we assum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4120" y="838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flows had the option been exercised at t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886200" y="1676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86200" y="144792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86200" y="160020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885840" y="1676520"/>
            <a:ext cx="1600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81280" cy="2022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76520" y="533520"/>
            <a:ext cx="21333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33920" cy="2293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29200" y="22860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581280"/>
            <a:ext cx="4419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S (t=2) are:  1.08; 1.07; .97;   .77 and  .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V (t=2)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;  0.07exp(-.06 x 1); 0.18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0exp(-.06 x 1); 0.09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3733920" cy="2293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4419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S (t=2) are:  1.08; 1.07; .97;   .77 and  .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s of V (t=2)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;  0.07exp(-.06 x 1); 0.18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0exp(-.06 x 1); 0.09exp(-.06 x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371600"/>
            <a:ext cx="58672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termined a, b and c. using a least-square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N sum(1 to 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{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– b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c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501800">
            <a:off x="5333760" y="2666520"/>
            <a:ext cx="1600200" cy="533520"/>
          </a:xfrm>
          <a:prstGeom prst="leftArrow">
            <a:avLst>
              <a:gd name="adj1" fmla="val 50000"/>
              <a:gd name="adj2" fmla="val 74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621648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, stock value at t = 2;  V is the value of continuing discounted to t=2 with the risk fre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1371600"/>
            <a:ext cx="58672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termined a, b and c. using a least-square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N sum(1 to 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{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– b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c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501800">
            <a:off x="5333760" y="2666520"/>
            <a:ext cx="1600200" cy="533520"/>
          </a:xfrm>
          <a:prstGeom prst="leftArrow">
            <a:avLst>
              <a:gd name="adj1" fmla="val 50000"/>
              <a:gd name="adj2" fmla="val 74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3809880"/>
            <a:ext cx="53337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IN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 =  -1.070  +  2.98  S  -  1.81  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533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a  +  b S  +  c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371600"/>
            <a:ext cx="75438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 =  -1.070  +  2.98  S  -  1.81  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gives the value, at point t=2, of contin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, for paths (1, 3, 4, 6 and 7) we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 (0.0369     0.0461      0.1176      0.1520       and     0.15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53352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, for paths (1, 3, 4, 6 and 7) we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 (0.0369     0.0461      0.1176      0.1520       and     0.15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419720" cy="2714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867280" y="2514600"/>
            <a:ext cx="3048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t t=2 the value of exercising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26  ((  1.1-  .84  =  .26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191120" y="3048120"/>
            <a:ext cx="1752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114800" y="35053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114800" y="37339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114800" y="441936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191120" y="419112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5791320"/>
            <a:ext cx="1219320" cy="533160"/>
          </a:xfrm>
          <a:prstGeom prst="rightArrow">
            <a:avLst>
              <a:gd name="adj1" fmla="val 50000"/>
              <a:gd name="adj2" fmla="val 571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5791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hould only exercise at t=2 for paths  4, 5  and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840200" cy="2733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s assuming that we have exercised at   t=3  OR    t=2  depending on what is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181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peat the same procedure for time = 1 (when it was worth to exercise at t=1?) and we finally get the full payoff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687920" cy="2648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7200" y="3276720"/>
            <a:ext cx="822960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tableau of cash flow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value of the options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8) [ 0.07 exp(-0.06 x 3) +  0.17 exp(-0.06 x 1)+  …+ 0.22 exp(-0.06x1)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106668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ation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omial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-Sc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e Carlo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600200" y="1371600"/>
            <a:ext cx="67057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Finite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2857680" cy="2009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066680" y="373392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72000" y="1600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 the equation directly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419360" y="2209680"/>
            <a:ext cx="11430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838080"/>
            <a:ext cx="693432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of a Put Option, let us assume that the life of the option is T and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value sufficiently high (put has 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 to find f (value of the option) solving the “real 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63248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1932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  =  f ( t, 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4724280"/>
            <a:ext cx="8001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iscretization: 0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……, T   (N intervals, index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-value discretization: 0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……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 intervals, index 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2819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the option at time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 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,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MAX  (K – j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, 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 =1, 2, …,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038480" y="3352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2819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the option is K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,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K   for i=0,…,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362320" y="3352680"/>
            <a:ext cx="21333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2819520"/>
            <a:ext cx="40384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of the option is 0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 S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, 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   for i=0,…,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2437920" y="2514600"/>
            <a:ext cx="2057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i, time; Index j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43828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80060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38480" y="24382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76920" y="3200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know the value of f (options) along the r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finite differences approach (explic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85800" y="4114800"/>
                <a:ext cx="38098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Δ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1066680" y="342864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finite differences approach (explic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858960" y="4114800"/>
                <a:ext cx="34639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 flipV="1">
            <a:off x="1066680" y="3428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1371600"/>
            <a:ext cx="6248520" cy="419112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ondi"/>
              </a:rPr>
              <a:t>Binomial T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 finite differences approach (explicit 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209680" y="4495680"/>
                <a:ext cx="54993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Δ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3124080" y="33526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14400" y="838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ing the finite differences approximation into the B-S equation and re-arrang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324840" cy="1820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3809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the following approx. to the B-S equ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838080" y="4876920"/>
                <a:ext cx="708660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838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4648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838080" y="1600200"/>
                <a:ext cx="70866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1219320" y="36576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362320" y="3048120"/>
                <a:ext cx="4362480" cy="33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rΔt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86200" y="5867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09480" y="457200"/>
                <a:ext cx="373392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rΔt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267080" y="4724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48006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48006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487692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1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57150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579132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3581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36576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480060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447920" y="8377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2438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057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43828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4800600"/>
            <a:ext cx="2590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438280"/>
            <a:ext cx="0" cy="236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8128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048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5812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2670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18288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28954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35053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190512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set up a linear system of simultaneous eqs by using these points as i,j  then we move to the left.. Etc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62520" y="3505320"/>
            <a:ext cx="15228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6858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f i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191120" y="1219320"/>
            <a:ext cx="12189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f is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914400" y="3809880"/>
            <a:ext cx="2514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1143000"/>
            <a:ext cx="74674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:  RISK-NEUTRAL 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expected return from all traded assets is the risk-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the payoffs from the derivative by calculating their expected values, and then, use the risk-free rate to discoun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 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= ( a - d) / ( u – d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024"/>
              <p:cNvSpPr txBox="1"/>
              <p:nvPr/>
            </p:nvSpPr>
            <p:spPr>
              <a:xfrm>
                <a:off x="533520" y="1600200"/>
                <a:ext cx="30477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3406-64B9-4B8E-94AA-5BBA82858EF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52880" y="12193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213372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990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2438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1025640" y="1676520"/>
                <a:ext cx="720396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D2F1-DD4D-4CED-851F-5F223831443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Put Option, American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71760"/>
            <a:ext cx="807732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0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0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10%;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0%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 months = 0.4167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 month = 0.08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meters im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1224;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.8909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84;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.5073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-p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49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106A-121C-49E0-B830-44A45E00284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FFF5-9CC0-4B0C-8E40-E6A2576FAED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60958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14040" y="3885840"/>
            <a:ext cx="1522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9810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cp:lastPrinted>2010-11-21T15:10:47Z</cp:lastPrinted>
  <dcterms:modified xsi:type="dcterms:W3CDTF">2010-11-21T20:45:32Z</dcterms:modified>
  <cp:revision>223</cp:revision>
  <dc:subject/>
  <dc:title>Slide 1</dc:title>
</cp:coreProperties>
</file>