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1DF7-4974-49F8-8AB2-76BF0012C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A01D-B77B-4612-A20B-9A76C0C18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FD4A-C2A0-4BBB-BA6D-1EA2495FD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192F-DB79-49D1-A53C-04DCE9903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62ACB-3DA1-4236-BA66-78EBD5C3D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12024-373C-4D59-BBD9-EA9B64C47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5ACDC-F57B-42D0-BEE1-B519132A9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A392B-1578-453B-850D-6AD8C44EB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EE842-8104-489A-806B-035D1F581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67058-267B-4E88-97E7-D8218F262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8BADE-C997-4849-8FD0-FEEA4A558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A3D3-BD85-41B3-BB0F-6A1B7D544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C4E46-A298-4C37-B362-2238BE313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2BA6E-6867-43C0-80DF-D5888A558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17728-D338-4012-9B6A-A10DBEBDC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CA1AC-D0DF-41C2-9A33-4980E8D8B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04AA9-57E2-4A1B-9354-CEC54D677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5F97-7BAF-41AA-B967-A999440CA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237B-3147-4C36-AB76-DF4BAEB25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A212-2922-4F35-A841-9F31F6AA1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485F-62A5-4C68-BFC2-72CEB111E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A090-086C-49A4-8B9A-6EF2F8A0E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E25F-5D5F-4C70-BEAB-CC3817208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0AD3-8E81-4FFA-A139-9B3EACD24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510F6-FB93-4707-81D4-AF2366CF8FA3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C5CD3-C189-4E78-9EFE-8A27C75A00C6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240" y="106668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imera Parte: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tabilidad Financiera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55840"/>
            <a:ext cx="8229600" cy="377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pítulo 8: Corrección Moneta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52280" y="1268280"/>
            <a:ext cx="8839440" cy="528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 Nominal  =  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onio Inicial Actualizado = 1.000 * 1.1 = 1.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onio Final Actualizado (Act. - Pas.)    =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alance Final Corregid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1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Patrim. Inici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1.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érdida del Ej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(9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95280" y="352440"/>
            <a:ext cx="316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jemplo 1 (cont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9636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2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5960" y="1413000"/>
            <a:ext cx="8839080" cy="468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i 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hora el activo es un terreno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 (no pierde valor con la inflació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.I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Activo Fij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Patrim. Inici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.F.  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1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Patrim. Inici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 Fijo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Utilidad del ej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onio Inicial Actualizado = 1.000 * 1.1         = 1.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onio Final Actualizado  = 1.000 * 1.1 + 10 = 1.1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 real (PFA - PIA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228600" y="1676520"/>
            <a:ext cx="8610480" cy="213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lance Final Corregido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1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rimonio Inici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Fij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1.1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13080" y="352440"/>
            <a:ext cx="297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jemplo 2 (cont.)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140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3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6320" y="1413000"/>
            <a:ext cx="8991360" cy="518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i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hora hay una deuda reajustable (en UF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.I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5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ud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    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. Inici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.F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51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ud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    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. Inici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 del ej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onio Inicial Actualizado = 1.000 * 1,1            =  1.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onio Final Actualizado   = 1.510 – 500 * 1,1 =     96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 real (PFA - PIA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=    (14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672400" cy="100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.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ecanismo de la Corrección Moneta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evalorizar el Patrimonio Inic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evalorizar el Patrimonio Final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s Revalorizables (No Monetari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sivos Revalorizables (No Monetari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os no monetario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7616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stán auto protegidos de la Inflació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u valor real permanece constante en el tiemp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jempl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s Fij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ósitos a Plazo Reajustab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s Intangibles, Acc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tas. por Cobrar Reajust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95280" y="456840"/>
            <a:ext cx="7453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sivos no monetario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stán auto protegidos de la Inflació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u valor real permanece constante en el tiemp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jemplo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udas en U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udas pactadas en moneda extranjer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ualquier deuda pactada con cláusula de reajustabilida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amortiza en pesos y luego se hace C.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24000" y="380520"/>
            <a:ext cx="7448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os y Pasivos monetar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51920" y="167652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on aquellos pasivos y activos cuyo valor nominal permanece constante, pero no el re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jempl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uentas por cobr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udas no reajust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591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ses de la Corrección Moneta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28600" y="1773000"/>
            <a:ext cx="8763120" cy="477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gir el Capital Inicial (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P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gir Aportes y Retiros de Capi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gir Activos No Monetar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gir Pasivos No Monetar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ctores de correcció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IPC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Variación del Índice de Precios al Consumidor, se usa para corregir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 Fij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 Intangi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osto de Reposic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usa para corregir el valor de las existe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define como el valor de la última unidad compra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a fines tributarios se considera el precio más alto pagado en el ejercic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078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finición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canismo para reflejar en los estados financieros la pérdida de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oder adquisitiv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de la moned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20728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ctores de correcció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52280" y="167652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Variación Tipo de Cambi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usa para corregir las deudas o depósitos pactados en moneda extranje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Cláusulas de Reajustabilidad</a:t>
            </a:r>
            <a:r>
              <a:rPr b="1" i="1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: Según como se haya establecido o pact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usa para corregir deudas o depósitos pactados con las respectivas cláusula (la más usual es la Unidad de Fomento (UF)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50560" y="75960"/>
            <a:ext cx="8816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61048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na empresa tiene los siguientes estados financieros a fi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l ejercicio de 2005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SIVO Y PATRIMON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Oblig. en M.Extranj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udores por Vta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9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tas. por Pagar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4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8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pital y Reserva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 Fij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5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 del Ejercici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30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otal Activo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2.3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otal Pasivo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2.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7750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ado de Resultad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por Vent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Vent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50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rge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7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de Adm. y Vent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30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ultado Operacion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4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Financiero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 de Ejercici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30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50920" y="75960"/>
            <a:ext cx="8740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emás, se tiene la siguiente informació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PC a Noviembre de 2004 = 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PC a Noviembre de 2005 = 1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riación tipo de cambio   =   3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s existencias, valoradas según el método FIFO,  se componen de 80 unidades a $8 cada una y 16 unidades a $10 cada una. En la última compra se pagó este último prec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50560" y="75960"/>
            <a:ext cx="7978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Capital Inicial (como el IPC de diciembre 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oce en Enero, se usa el de noviembre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PC =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25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-  1= 25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 Inicial Revalorizad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1.000*1.25 = 1.2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 Inici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.00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2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050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87631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valorización Activos No Monetar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Fijo Revalorizado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500*1.25 =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Fij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 Revalorizad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96*10      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6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8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6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670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valorización Pasivos No Monetari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en M.E. Revalorizad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600* 1.3 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8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en M.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8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rimonio Final Revalorizado : (Activo- Pasiv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 + 900 + 960 + 625- 780 - 400 = 1.40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o el Patrimonio Inicial Revalorizado es 1250, se tie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 Re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155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23640" y="1143000"/>
            <a:ext cx="86677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sientos de Corrección Monetari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 Inici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Fij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6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6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8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uda M.E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8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23640" y="75960"/>
            <a:ext cx="5771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45720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68360" y="981000"/>
            <a:ext cx="6186600" cy="50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Nuevo Estado de Resulta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gresos por Vt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1.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osto Vta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argen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7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Gastos Adm.y Vta.        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.O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Gastos Financiero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orrección Monetaria  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(145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15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Nuevo Bal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SIVO Y PATRIMON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Oblig. en M.E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78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udores por Vtas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9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tas. por Pagar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4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96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pital y Reserva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1.2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 Fij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625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Utilidad del Ejercici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155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2.585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2.58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94920" y="475920"/>
            <a:ext cx="859644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.1 Concepto de Poder Adquisitiv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5960" y="1981080"/>
            <a:ext cx="8915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upongamos una economía donde existe un solo bien (manzanas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recio periodo 0 : Po = 10 $/un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recio periodo 1 : P1 = 11 $/un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ntonces la inflación = 1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8596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.1 Concepto de Poder Adquisitiv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52280" y="1628640"/>
            <a:ext cx="8839440" cy="48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un individuo dispone de $ 1.000, y tiene la alternativa d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ositar al 20%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Manzan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 = 0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 inici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,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 = 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 fin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.2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09,0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2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9,0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 nominal = 1.200 – 1.000 = 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en $ de cada año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 re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=  9,09*11 = 100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en $ del año 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324000" y="1125000"/>
            <a:ext cx="84247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Para calcular la utilidad real obtenida en un depósito, lo que hacemos es comparar el dinero obtenido a la fecha del vencimiento con el capital depositado originalmente, pero actualizado según la variación del IPC (inflación), es deci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Utilidad real 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= 1200 – 1000 * (1+ 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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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1200 – 1000 * 1,1       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 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8312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.2 Inflación y Estados Financier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blemas de la Inflación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torsiona el valor de Activos y Pasiv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torsiona la relación entre Ingresos y Gast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mite pagar impuestos sobre utilidades re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mite comparar estados financieros de distintos períod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324000" y="98100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Para determinar la utilidad real en una empresa, es decir, con corrección monetaria, se aplica un procedimiento conceptualmente similar a cuando se obtiene la utilidad real de un depósito bancario (como en ejemplo anterior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La diferencia es que el patrimonio final no es necesariamente una cantidad de dinero, como ocurre en un depósito, sino un conjunto de activos y pasivos, monetarios y no monetari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Entonces, se debe comparar el patrimonio inicial actualizado con el patrimonio final, también actualiz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8596440" cy="115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s expresiones important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95280" y="1773360"/>
            <a:ext cx="787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esultado = Patrimonio Final - Patrimonio Inicial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onio = Activo - Pasiv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jemplo 1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.I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Patrim. Inici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.F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1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Patrim. Inici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 del Ej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upuesto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flación 1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 Utilidad es producto de una prestación de servicios que se paga al cont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11T23:09:14Z</dcterms:created>
  <dc:creator>Michael Jorratt</dc:creator>
  <dc:description/>
  <dc:language>en-US</dc:language>
  <cp:lastModifiedBy>IVAN ALVAREZ VALDES</cp:lastModifiedBy>
  <cp:lastPrinted>1999-03-18T21:02:27Z</cp:lastPrinted>
  <dcterms:modified xsi:type="dcterms:W3CDTF">2006-04-17T03:14:02Z</dcterms:modified>
  <cp:revision>29</cp:revision>
  <dc:subject/>
  <dc:title>Primera Parte: Contabilidad Financiera</dc:title>
</cp:coreProperties>
</file>