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C8508B-066B-4244-94C7-E1E23425CE0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89E222-4D42-4A00-9C02-0D7D4D549B6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817627-8571-4A4E-A530-33E5F884421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0356E2-DA3C-47A4-A335-25422C60EF6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750A60-7F4E-4BEF-BF5A-8A77A9C1DA9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bas chahu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D70B37-7115-4999-B076-85D897DB19F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43D8FA-95F9-4C34-8691-A508F8FDC35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4EFA9A-0A36-4ECB-B0E4-8D16164A6C7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C7F50C-E806-4D63-B0F1-F151DF03F0B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D59D54-EB50-438A-BFC5-EAC92F4580E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DFCE1C-9954-4C0A-A91E-B47F1A32C70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752186-A767-4E49-9840-93D693B9BC0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F57061-6F8B-4F1F-B9E0-155E7289991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CC6990-9724-456B-AB5F-C10FB056800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3D15C5-6772-4FA1-AA28-113EAF0F6A8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739F0C-D290-4187-919D-DAEA76D636B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584312-0071-44BB-81C0-A687FEF7E2A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88D78D-708C-4474-BBAD-9CB295819B9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9114B8-D9B3-4D95-9F48-DF514FEAEA8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5949D6-7285-4293-87CA-64E202FED1A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C14535-193B-4EB9-BF7E-87499CC1677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B22ECE-C37A-4212-AC7B-5C00770D2EF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05BD47-933D-47A9-A179-A57436F2437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9B9A3D-F3A8-4D8C-B6C6-C7B872F81C6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2F5C47-28B9-417D-929B-B071410E034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A85-0E0F-41D1-A541-9237A431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10C-1E90-4F72-AD83-76F42081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5C6-A533-43CC-8003-4076EC64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FD0-65CA-4CAE-93B8-6CB1CA52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179E-5A83-4A80-A225-615C3F0D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C704-BB1F-4036-BC4C-E4C3C0C1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9D16-43B5-4D42-8241-CCDEA311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AE71-E6A6-4B9E-A98B-8AF187F9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B118-D5B0-4600-B7FD-2C0A71F1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B2C3-B10B-49D5-98FC-FCAB1BFA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1719-2F29-4D4D-AF43-6D71F8F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629-BC5D-4AC5-8EE0-83E4B0C0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C775-1BA3-4E0D-BB2D-B793E82F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15E7-7753-49EB-B817-016CE17E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A09A-6A2B-4F84-846B-C4DB2E1C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ED66-7CAE-44DB-ACD6-02FB0AF5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F1E7-9D22-45CF-B162-59986C87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AF1-0ECE-4B9A-9BFA-40CE0C1D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3CD-9B25-42D5-BA58-63170AA8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160-F767-4451-B468-7E4CC480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851-7A8A-46C9-91F7-09D2D5F6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740-AA04-4285-B0F4-D7C76972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280-5B42-4529-84FF-0A754151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A9C-9CBA-4442-B979-4DB3C295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8A03-1F3B-43FA-A216-A277ECC185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28B9-A9AC-4BFA-9666-5FA24D4781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09840" y="2491920"/>
            <a:ext cx="7634160" cy="26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2800"/>
            </a:b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Introducción a los Sistemas Públicos. </a:t>
            </a:r>
            <a:br>
              <a:rPr sz="2800"/>
            </a:b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jinostro@dii.uchile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Centro de Sistemas Públic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concurren” 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Fiscalizan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c000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c00000"/>
                </a:solidFill>
                <a:latin typeface="Verdana"/>
              </a:rPr>
              <a:t>Conocer y resolver asuntos civiles y criminales 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(5)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Dirige la investigación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(10)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preventiva y posteriormente de la normativ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5151600"/>
            <a:ext cx="2124000" cy="1706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7380360" y="1628640"/>
            <a:ext cx="1368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son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Hay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9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9" name="Group 50"/>
          <p:cNvGrpSpPr/>
          <p:nvPr/>
        </p:nvGrpSpPr>
        <p:grpSpPr>
          <a:xfrm>
            <a:off x="468360" y="409680"/>
            <a:ext cx="8490960" cy="6066360"/>
            <a:chOff x="468360" y="409680"/>
            <a:chExt cx="8490960" cy="6066360"/>
          </a:xfrm>
        </p:grpSpPr>
        <p:grpSp>
          <p:nvGrpSpPr>
            <p:cNvPr id="160" name="Group 51"/>
            <p:cNvGrpSpPr/>
            <p:nvPr/>
          </p:nvGrpSpPr>
          <p:grpSpPr>
            <a:xfrm>
              <a:off x="468360" y="409680"/>
              <a:ext cx="8490960" cy="4879800"/>
              <a:chOff x="468360" y="409680"/>
              <a:chExt cx="8490960" cy="4879800"/>
            </a:xfrm>
          </p:grpSpPr>
          <p:sp>
            <p:nvSpPr>
              <p:cNvPr id="161" name="AutoShape 52"/>
              <p:cNvSpPr/>
              <p:nvPr/>
            </p:nvSpPr>
            <p:spPr>
              <a:xfrm>
                <a:off x="468360" y="409680"/>
                <a:ext cx="8490960" cy="4879800"/>
              </a:xfrm>
              <a:prstGeom prst="rect">
                <a:avLst/>
              </a:prstGeom>
              <a:noFill/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Oval 53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Oval 54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55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Oval 56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s-E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Oval 57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Oval 58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Oval 59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60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AutoShape 61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13400 w 456840"/>
                  <a:gd name="textAreaRight" fmla="*/ 402480 w 456840"/>
                  <a:gd name="textAreaTop" fmla="*/ 210240 h 384120"/>
                  <a:gd name="textAreaBottom" fmla="*/ 33804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9257"/>
                    </a:lnTo>
                    <a:lnTo>
                      <a:pt x="11845" y="9257"/>
                    </a:lnTo>
                    <a:lnTo>
                      <a:pt x="11845" y="11845"/>
                    </a:lnTo>
                    <a:lnTo>
                      <a:pt x="9257" y="11845"/>
                    </a:lnTo>
                    <a:lnTo>
                      <a:pt x="9257" y="9257"/>
                    </a:lnTo>
                    <a:lnTo>
                      <a:pt x="0" y="15429"/>
                    </a:lnTo>
                    <a:lnTo>
                      <a:pt x="9257" y="21600"/>
                    </a:lnTo>
                    <a:lnTo>
                      <a:pt x="9257" y="19012"/>
                    </a:lnTo>
                    <a:lnTo>
                      <a:pt x="19012" y="19012"/>
                    </a:lnTo>
                    <a:lnTo>
                      <a:pt x="19012" y="9257"/>
                    </a:lnTo>
                    <a:lnTo>
                      <a:pt x="21600" y="925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AutoShape 62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57240 w 402840"/>
                  <a:gd name="textAreaRight" fmla="*/ 345600 w 402840"/>
                  <a:gd name="textAreaTop" fmla="*/ 260640 h 456840"/>
                  <a:gd name="textAreaBottom" fmla="*/ 39168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6171"/>
                    </a:lnTo>
                    <a:lnTo>
                      <a:pt x="12343" y="6171"/>
                    </a:lnTo>
                    <a:lnTo>
                      <a:pt x="12343" y="12343"/>
                    </a:lnTo>
                    <a:lnTo>
                      <a:pt x="6171" y="12343"/>
                    </a:lnTo>
                    <a:lnTo>
                      <a:pt x="6171" y="9257"/>
                    </a:lnTo>
                    <a:lnTo>
                      <a:pt x="0" y="15429"/>
                    </a:lnTo>
                    <a:lnTo>
                      <a:pt x="6171" y="21600"/>
                    </a:lnTo>
                    <a:lnTo>
                      <a:pt x="6171" y="18514"/>
                    </a:lnTo>
                    <a:lnTo>
                      <a:pt x="18514" y="18514"/>
                    </a:lnTo>
                    <a:lnTo>
                      <a:pt x="18514" y="6171"/>
                    </a:lnTo>
                    <a:lnTo>
                      <a:pt x="21600" y="6171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AutoShape 63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39960 w 281880"/>
                  <a:gd name="textAreaRight" fmla="*/ 241920 w 281880"/>
                  <a:gd name="textAreaTop" fmla="*/ 230400 h 402480"/>
                  <a:gd name="textAreaBottom" fmla="*/ 34524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429" y="0"/>
                    </a:moveTo>
                    <a:lnTo>
                      <a:pt x="9257" y="6171"/>
                    </a:lnTo>
                    <a:lnTo>
                      <a:pt x="12343" y="6171"/>
                    </a:lnTo>
                    <a:lnTo>
                      <a:pt x="12343" y="12343"/>
                    </a:lnTo>
                    <a:lnTo>
                      <a:pt x="6171" y="12343"/>
                    </a:lnTo>
                    <a:lnTo>
                      <a:pt x="6171" y="9257"/>
                    </a:lnTo>
                    <a:lnTo>
                      <a:pt x="0" y="15429"/>
                    </a:lnTo>
                    <a:lnTo>
                      <a:pt x="6171" y="21600"/>
                    </a:lnTo>
                    <a:lnTo>
                      <a:pt x="6171" y="18514"/>
                    </a:lnTo>
                    <a:lnTo>
                      <a:pt x="18514" y="18514"/>
                    </a:lnTo>
                    <a:lnTo>
                      <a:pt x="18514" y="6171"/>
                    </a:lnTo>
                    <a:lnTo>
                      <a:pt x="21600" y="617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Oval 64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Oval 65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Oval 66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AutoShape 67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AutoShape 68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AutoShape 69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AutoShape 70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AutoShape 71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AutoShape 72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73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AutoShape 74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AutoShape 75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" name="AutoShape 76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AutoShape 77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" name="AutoShape 78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" name="AutoShape 79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AutoShape 80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AutoShape 81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AutoShape 82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AutoShape 83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Oval 84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s-E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Oval 85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AutoShape 86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6" name="Group 87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97" name="Text Box 88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Text Box 89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" name="AutoShape 90"/>
              <p:cNvSpPr/>
              <p:nvPr/>
            </p:nvSpPr>
            <p:spPr>
              <a:xfrm rot="10800000">
                <a:off x="3890520" y="5373720"/>
                <a:ext cx="1284480" cy="1093680"/>
              </a:xfrm>
              <a:custGeom>
                <a:avLst/>
                <a:gdLst>
                  <a:gd name="textAreaLeft" fmla="*/ 0 w 1284480"/>
                  <a:gd name="textAreaRight" fmla="*/ 363600 w 1284480"/>
                  <a:gd name="textAreaTop" fmla="*/ 420480 h 1093680"/>
                  <a:gd name="textAreaBottom" fmla="*/ 1094040 h 109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AutoShape 91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custGeom>
                <a:avLst/>
                <a:gdLst>
                  <a:gd name="textAreaLeft" fmla="*/ -360 w 1266120"/>
                  <a:gd name="textAreaRight" fmla="*/ 357480 w 1266120"/>
                  <a:gd name="textAreaTop" fmla="*/ 420480 h 1093680"/>
                  <a:gd name="textAreaBottom" fmla="*/ 1094040 h 109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5662" y="14285"/>
                    </a:moveTo>
                    <a:lnTo>
                      <a:pt x="21600" y="8310"/>
                    </a:lnTo>
                    <a:lnTo>
                      <a:pt x="18630" y="8310"/>
                    </a:lnTo>
                    <a:cubicBezTo>
                      <a:pt x="18630" y="3721"/>
                      <a:pt x="14430" y="0"/>
                      <a:pt x="9250" y="0"/>
                    </a:cubicBezTo>
                    <a:cubicBezTo>
                      <a:pt x="4141" y="0"/>
                      <a:pt x="0" y="3799"/>
                      <a:pt x="0" y="8485"/>
                    </a:cubicBezTo>
                    <a:lnTo>
                      <a:pt x="0" y="21600"/>
                    </a:lnTo>
                    <a:lnTo>
                      <a:pt x="6110" y="21600"/>
                    </a:lnTo>
                    <a:lnTo>
                      <a:pt x="6110" y="8310"/>
                    </a:lnTo>
                    <a:cubicBezTo>
                      <a:pt x="6110" y="6947"/>
                      <a:pt x="7362" y="5842"/>
                      <a:pt x="8907" y="5842"/>
                    </a:cubicBezTo>
                    <a:lnTo>
                      <a:pt x="9725" y="5842"/>
                    </a:lnTo>
                    <a:cubicBezTo>
                      <a:pt x="11269" y="5842"/>
                      <a:pt x="12520" y="6947"/>
                      <a:pt x="12520" y="8310"/>
                    </a:cubicBezTo>
                    <a:lnTo>
                      <a:pt x="9725" y="831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" name="Line 92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" name="Line 93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Text Box 94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dipres.cl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www.bcn.cl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827360"/>
            <a:ext cx="738036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promover el bien común”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para lo cual debe contribuir a crear condiciones sociales”… que permitan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“la mayor realización espiritual y material posible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.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 asegurar derecho de las personas a participar con igualdad de oportunidades en la vida nacional 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(art.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7415280" y="0"/>
            <a:ext cx="17287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descentralizada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actuar válida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Verdana"/>
              </a:rPr>
              <a:t>Responder civilmente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712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c00000"/>
                </a:solidFill>
                <a:latin typeface="Verdana"/>
              </a:rPr>
              <a:t>DERECHO DE PROPIEDAD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c00000"/>
                </a:solidFill>
                <a:latin typeface="Verdana"/>
              </a:rPr>
              <a:t>RECURSO DE PROTECCIÓN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276640"/>
            <a:ext cx="72388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: Los “Poderes del Estado”…o la teoría de los “pesos y contrapesos”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2381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gobierno y la administración del Estad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c00000"/>
                </a:solidFill>
                <a:latin typeface="Verdana"/>
              </a:rPr>
              <a:t>“organización básica del Estado”, y “la carrera funcionaria” 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3284640"/>
            <a:ext cx="138276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0" y="5018040"/>
            <a:ext cx="1476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</cp:lastModifiedBy>
  <dcterms:modified xsi:type="dcterms:W3CDTF">2010-08-26T16:54:22Z</dcterms:modified>
  <cp:revision>10</cp:revision>
  <dc:subject/>
  <dc:title>Macrosistemas, Estructuras del y Funciones del Estado.</dc:title>
</cp:coreProperties>
</file>