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16.pct" ContentType="image/x-pict"/>
  <Override PartName="/ppt/media/image14.pct" ContentType="image/x-pict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ct" ContentType="image/x-pict"/>
  <Override PartName="/ppt/media/image13.png" ContentType="image/png"/>
  <Override PartName="/ppt/media/image6.png" ContentType="image/png"/>
  <Override PartName="/ppt/media/image9.pct" ContentType="image/x-pict"/>
  <Override PartName="/ppt/media/image11.png" ContentType="image/png"/>
  <Override PartName="/ppt/media/image7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1C8B-4ABE-4A95-AE6D-91E24D326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45D7-F049-4383-A0C6-70B89CA38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5B0C7-C807-4A6F-B253-81647853FC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73113-2C0D-49AE-90B6-E0B049192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311B2-64CF-4C68-AF70-6B30F0C0E1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53321-0EC3-43BF-AC3C-BA94E5381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A64F2-F0C8-4B59-981D-1134509CE0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6C55D-8B44-4BBF-9C29-2B9DD7683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3F74F-D46E-4575-A6F4-C6F86ACB2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718BC-778B-4231-8492-BF09930320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17479-DC50-4E5D-AA80-44412BD19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C50F9-25E4-4A75-8C88-312F8D9D4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37575-36BD-4347-BA4B-01988A39B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01A47-40F4-42E9-879C-24E81262C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D113DDE0-3773-41D2-8AFE-ADB927C6A308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46654-16D9-425D-B285-4A086EA37EA7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54443-E691-4489-BA52-37690C8D4512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DBBCC-7228-43C4-852E-1A01ECB6677E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D3027-BB47-4028-BE89-18234A16F670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FD283-F474-4BF9-BBFA-67D11D813375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54DAF-547B-4FDF-ADD2-5140F2CFD62C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E5B1A-03B4-4090-84E1-22ECE9247703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9FB81-5D7C-4F5F-BF7F-C380158EC835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2AF53-27B2-4AED-A0BF-C66CE2B8FB05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6F370-5D8F-43A0-95A9-71575CD63E12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71DEF-66BD-4AE0-98B9-772CE86145EF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5C2A7-A4AF-4D21-8932-3BEC01FF955E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3C0E9-ED04-4C63-A2EA-5A5B8357BFAD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A7367-0A4F-4BA0-B5AC-D996DB22D501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6D3B7-1AE9-4348-9058-89C432926AD9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546A8-F8A7-40B5-8CDE-BA7873C28C72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E927C-870F-4F16-B300-FF80AD50F714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EF635-42C8-4CC2-BAD7-506EFFB2D571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16DA7-9D60-4859-B22B-B74645AA3C0B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164A4-294D-477B-BB81-65CE508AC795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00E55-1977-4953-9010-DBAC41801B03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1D141-AFC8-41FA-9375-3124A2979D74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D04BA-21E2-4C1F-B420-BD533607C3DE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7D509-7F5A-4510-9D35-6F15F9DA4CCE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68698-FC87-44D4-B978-45502542AE00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7766E-0386-4188-8F7B-CF68E27ECA64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801DD-6CA4-4C7C-9CA8-0DF8CBD445A1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B94B5-2144-45F6-AE4E-B455B88D857D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EF537-F2A7-4898-846C-86E7E1237B89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D032D-70C0-45DC-BC44-75AA0DB164AB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AFF2D-8CD0-4F2D-BB06-B567D690A466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90C62-A348-48D9-986A-69C3043A1FCA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4F569-688D-45C3-9489-3AB760AEBCF7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E9E4D-3450-4469-9BC7-3550B0AA8880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B1183-ED1A-4F1F-8E72-B755870D5D5C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38364-3341-4290-8890-7CACBE15CDA4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4E693-3694-443A-9959-22194C9CE637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8ED1A-9C4A-4BF9-9FF2-90F148C95A81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97DD7-9716-4154-B832-9022BA8E4C22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53620-5BBD-4E8C-81FF-9D056D7FC4AF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5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D76FF-9458-42CB-9172-54F705AF0A69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EEE71-BF01-44B2-843E-C2FD87FFE81E}" type="slidenum">
              <a:t>48</a:t>
            </a:fld>
          </a:p>
        </p:txBody>
      </p:sp>
    </p:spTree>
  </p:cSld>
  <p:transition>
    <p:random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677E6-E24D-4EF0-BA44-1B25ABB51D2D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07E90-D424-4EA6-B111-1FF720E0BF42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449B7-28C7-4B38-A268-7921492B0EB3}" type="slidenum">
              <a:t>50</a:t>
            </a:fld>
          </a:p>
        </p:txBody>
      </p:sp>
    </p:spTree>
  </p:cSld>
  <p:transition>
    <p:random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A14BD-7CBD-4CB4-99DC-A687F9E051AB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1AE18-9334-4154-9AA9-FEF774AB4A4E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8AD67-019A-4ABF-A53D-E05064E09DBA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D96CF-9405-4EFB-A09C-F350BD672CFD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943BF-7FAB-4F1E-8BCD-E1F61AFFABCA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35BB3-9588-4339-BEC6-326598D25FED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50A85-535F-46C9-904A-6E1CDFF5AE91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mplementing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F03C1-8DD4-4462-A9F0-9CD64A76B57C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1632D-23C3-4293-8E54-A4F1ECB6A503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Luis Zaviezo</cp:lastModifiedBy>
  <dcterms:modified xsi:type="dcterms:W3CDTF">2007-07-11T22:11:52Z</dcterms:modified>
  <cp:revision>54</cp:revision>
  <dc:subject>Chapter 1</dc:subject>
  <dc:title>Strategic Management 7e.</dc:title>
</cp:coreProperties>
</file>