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16F2-0E78-457F-99E4-A9EAC207C8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ECD4-81CF-4A9C-B9E3-2ECB38F5FF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7BF1-0D0E-4DDA-9FA7-405E7E9F6B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3109-8931-4628-B76C-4B1A6F1AD7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6134-3964-4E29-990C-4715253290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59F6-B976-4FFB-82B5-AB3FECBEBD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20F7-ECA1-479F-A828-DBCDBADBE6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38DF-A9A9-4394-8006-9605821431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8C61-5E32-40E2-AD65-15FB1AF4E2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39AF-3972-4054-88E7-310691F337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5F8C-6778-4698-B74E-9F4B2569FC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7979-4006-48E9-AC6F-6F3E2284AE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8EC-4AD7-472D-AA36-F5D06D8733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3BFB-161B-4268-9471-EB5B219839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5CAE-04D0-45E8-A117-85E3B25A3C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1FB4-2FC1-4E89-86EC-C09CBD4793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8802-E599-49F7-AF06-4CB095D4AB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18E8-5CBA-44B2-AD75-D4B1F7D799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7E3E8-A22A-4B9D-90D3-C53C22ADA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F682990-893F-4A2C-A879-4B79B33FD0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E718CA5-D925-4299-AEA6-7C5F739C5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A2BB319-3638-4737-A6AA-1EB2EED26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559F0-0737-43D4-8E33-50A756BCAA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3E1F2-8CF0-4201-8050-4487C4E71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DA2AD4F-BE8E-43BB-9E44-F570E090F0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9F75AD60-8774-461F-BE27-FE8031367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6B78998-C9B7-4981-8C75-1D760B197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4D8BC5B-1FB7-45E0-9090-5F2E02F24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28A7595-0BB6-4806-9741-8125B22D16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D205B6C-A436-4ABB-82D2-B00C56D33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1BCD-6D64-41B6-9DCE-65452EF94D1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otas Control de Lectura 1</a:t>
            </a:r>
            <a:endParaRPr b="1" lang="en-US" sz="3200" spc="-1" strike="noStrike">
              <a:solidFill>
                <a:srgbClr val="333399"/>
              </a:solidFill>
              <a:latin typeface="Arial"/>
            </a:endParaRPr>
          </a:p>
        </p:txBody>
      </p:sp>
      <p:graphicFrame>
        <p:nvGraphicFramePr>
          <p:cNvPr id="47" name=""/>
          <p:cNvGraphicFramePr/>
          <p:nvPr/>
        </p:nvGraphicFramePr>
        <p:xfrm>
          <a:off x="0" y="1643040"/>
          <a:ext cx="9144000" cy="2225520"/>
        </p:xfrm>
        <a:graphic>
          <a:graphicData uri="http://schemas.openxmlformats.org/drawingml/2006/table">
            <a:tbl>
              <a:tblPr/>
              <a:tblGrid>
                <a:gridCol w="3143160"/>
                <a:gridCol w="2571840"/>
                <a:gridCol w="3429000"/>
              </a:tblGrid>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otas Control de Lectura 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661 (Malla Antigu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4821 (Malla Nuev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di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viación Estánda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ín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x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6C34-3828-45FB-A8B0-D6D663C7582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9" name="7 CuadroTexto"/>
          <p:cNvSpPr/>
          <p:nvPr/>
        </p:nvSpPr>
        <p:spPr>
          <a:xfrm>
            <a:off x="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del CTP1 estarán el ma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4702-D266-4987-9199-DBC64BD28C7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2"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ey de Transparencia.</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526E-C98C-416E-BF08-40CB7031226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85"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63A4-DEEF-42CF-AD92-222A70C903D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88"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ECBA-BCB1-4574-94B3-07F7B34636B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1"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8E83-C269-4A7E-B3E3-9EBF2228876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94"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DC80-7E50-41D9-A965-A3723FB5540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97"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a:t>
            </a:r>
            <a:endParaRPr b="1" lang="en-US" sz="3200" spc="-1" strike="noStrike">
              <a:solidFill>
                <a:srgbClr val="333399"/>
              </a:solidFill>
              <a:latin typeface="Arial"/>
            </a:endParaRPr>
          </a:p>
        </p:txBody>
      </p:sp>
      <p:sp>
        <p:nvSpPr>
          <p:cNvPr id="99"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04D5-C362-461B-BFCB-99FEF2E1B40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pic>
        <p:nvPicPr>
          <p:cNvPr id="101" name="Picture 2" descr=""/>
          <p:cNvPicPr/>
          <p:nvPr/>
        </p:nvPicPr>
        <p:blipFill>
          <a:blip r:embed="rId1"/>
          <a:stretch/>
        </p:blipFill>
        <p:spPr>
          <a:xfrm>
            <a:off x="714240" y="2286000"/>
            <a:ext cx="74012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 “Chile un Estado de Clase Mundial”</a:t>
            </a:r>
            <a:endParaRPr b="1" lang="en-US" sz="3200" spc="-1" strike="noStrike">
              <a:solidFill>
                <a:srgbClr val="333399"/>
              </a:solidFill>
              <a:latin typeface="Arial"/>
            </a:endParaRPr>
          </a:p>
        </p:txBody>
      </p:sp>
      <p:sp>
        <p:nvSpPr>
          <p:cNvPr id="103"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derazgo Integrador y Eficaz.</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Efectiva de la Estrateg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s: Profesionalizar el Estado.</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udadanos como protagonistas.</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orzar y empoderar a la primera línea del Estado.</a:t>
            </a:r>
            <a:endParaRPr b="0" lang="en-US" sz="2800" spc="-1" strike="noStrike">
              <a:solidFill>
                <a:srgbClr val="000000"/>
              </a:solidFill>
              <a:latin typeface="Arial"/>
            </a:endParaRPr>
          </a:p>
        </p:txBody>
      </p:sp>
      <p:sp>
        <p:nvSpPr>
          <p:cNvPr id="10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BA55-769D-4F9D-89FC-8B936FB7650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lases que faltan</a:t>
            </a:r>
            <a:endParaRPr b="1" lang="en-US" sz="3200" spc="-1" strike="noStrike">
              <a:solidFill>
                <a:srgbClr val="333399"/>
              </a:solidFill>
              <a:latin typeface="Arial"/>
            </a:endParaRPr>
          </a:p>
        </p:txBody>
      </p:sp>
      <p:sp>
        <p:nvSpPr>
          <p:cNvPr id="51"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0760-5FEB-4884-A0C8-B25FFEBA8B6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graphicFrame>
        <p:nvGraphicFramePr>
          <p:cNvPr id="53" name=""/>
          <p:cNvGraphicFramePr/>
          <p:nvPr/>
        </p:nvGraphicFramePr>
        <p:xfrm>
          <a:off x="0" y="1357200"/>
          <a:ext cx="9001080" cy="3487680"/>
        </p:xfrm>
        <a:graphic>
          <a:graphicData uri="http://schemas.openxmlformats.org/drawingml/2006/table">
            <a:tbl>
              <a:tblPr/>
              <a:tblGrid>
                <a:gridCol w="866880"/>
                <a:gridCol w="1306440"/>
                <a:gridCol w="3770280"/>
                <a:gridCol w="2262240"/>
                <a:gridCol w="795240"/>
              </a:tblGrid>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8</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l Estado en Chile (casos y proyeccione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9</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tica, Transparencia y Participación Ciudadana. María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ía José Pérez,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509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0</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2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º 2: E-governmen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ejandro Barro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1</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9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 3: Caso Tesorería General de la Repúblic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mela Cuzmar</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stión de Organizaciones y Programas Públicos en Chile y Latinoamérica.</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sé Inostroza, César Avendaño,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TP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44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3</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l Cambio: Los Desafíos de lograr la Modernizació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Lectura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4</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novación y Marketing en el sector público</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308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á fijada por Escuel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FAC6-B70D-4DC1-BD94-74CF89B6D10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Mario Waissbluth</a:t>
            </a:r>
            <a:endParaRPr b="1" lang="en-US" sz="2800" spc="-1" strike="noStrike">
              <a:solidFill>
                <a:srgbClr val="333399"/>
              </a:solidFill>
              <a:latin typeface="Arial"/>
            </a:endParaRPr>
          </a:p>
        </p:txBody>
      </p:sp>
      <p:sp>
        <p:nvSpPr>
          <p:cNvPr id="56"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de Octubre, 2009</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sado en presentación de J. Marshall y M. Waissbluth del 18 de enero d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A44F-EB41-4135-99E8-6E6E5457FE2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9"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n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3689-9BDD-469C-8152-F5BB54BDEB4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62"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ácter “administrativo”, últimos pero necesarios suspiros de la concepción weberiana. Asimismo, grandes avances des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EECC-43C4-498A-A38F-54306DF41E9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65" name="Picture 3" descr="La caverna"/>
          <p:cNvPicPr/>
          <p:nvPr/>
        </p:nvPicPr>
        <p:blipFill>
          <a:blip r:embed="rId1"/>
          <a:stretch/>
        </p:blipFill>
        <p:spPr>
          <a:xfrm>
            <a:off x="1619280" y="804960"/>
            <a:ext cx="5616720" cy="5533920"/>
          </a:xfrm>
          <a:prstGeom prst="rect">
            <a:avLst/>
          </a:prstGeom>
          <a:ln w="0">
            <a:noFill/>
          </a:ln>
        </p:spPr>
      </p:pic>
      <p:sp>
        <p:nvSpPr>
          <p:cNvPr id="66"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67"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9"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EAA1-B605-4C71-8039-CE5CF1BCEFF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3"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525E-5D4E-41D2-AE68-809D554B7B6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76"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7398-493B-499F-BF3D-594B89482B8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79"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Énfasis en resultados y evaluación de impacto. Todavía no sabemos qué impacto (outcome) cuantitativo y cualitativo han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Edacunaf</cp:lastModifiedBy>
  <dcterms:modified xsi:type="dcterms:W3CDTF">2009-10-08T20:04:09Z</dcterms:modified>
  <cp:revision>27</cp:revision>
  <dc:subject/>
  <dc:title>Reforma del Estado en Chile Balance y Perspectivas Jorge Marshall y Mario Waissbluth</dc:title>
</cp:coreProperties>
</file>