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862-9A48-43A9-9E47-BDB7831F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1C9-F638-4DC8-9AF4-1FCE5796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B69E-DA14-40C2-8E4D-27B4D6C3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FD4-6E78-475B-ABDD-752191B6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36A8-E227-45A2-8354-C8B9DA2E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0EC9-0A6E-4C0E-BCD3-9031A294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9F21-82D5-432F-9AE4-42C68CFA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0152-1A7C-4BD5-A3CA-697BF48B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A4A9-6AB8-4C0D-914D-127D6717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0BA5-B16B-4B37-8907-3753A4C6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F150-A6F5-41FB-B2AE-A05B8B37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CF9-F00B-4E6A-A306-A3AA46DE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2148-D4A9-49DB-9BB7-86AB68B9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A2E3-4BC1-4807-98CF-220EBCC0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63CD-8210-424A-A4B9-BB2A7293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0C54-2810-4DA3-8CE6-BBB2874D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B04A-1477-4D5A-ABDE-9E3CE859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9641-26B6-47BA-B0AD-3E80E935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77BA-7620-4498-9E1F-C6A13A1B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8B1C7-AD97-42C3-B4CA-9952FD9A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EF833-6395-4844-84E7-29E8C420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04CD1-1AE0-40EE-BCC3-668A000B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76B-9574-4BEE-9F32-C68B6C20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1AAA6-2909-42AE-8161-2F27BD3D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AF88D-21C6-42A4-AB48-90F06A65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B94D4-4862-4E28-99A1-C3FF26A2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FF35B-DA90-475F-B70E-CDFEFEE6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887D0-9F72-4130-A180-73651552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8C61C-5834-4987-8F9D-9FD23A72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6E1FD-097F-4B4F-A258-62713C46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4BBCF-521B-4144-BB66-0E3FED2A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82B41-D8FE-4EC6-AB05-DA67E382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2B78D-9E93-45D5-877C-0A0584DE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10F-AA80-4DA4-B32A-9F10094B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F33F7-6C3D-44F3-80F9-6171C930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5FA2-F7FD-4695-98C9-522D67FB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CB522-E1A8-4013-A607-E7B1961E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BC01-E335-470A-AA47-9BBF0611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603AE-C7B2-4920-92DA-60E0421D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919FC-0383-43D6-9BB0-36F48B30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BEECF-BABC-4DEE-A60F-9D59252D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C6C19-7627-417F-A08C-56F6C1FC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80A00-D973-419C-A26C-ACF0FA83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717AF-1DCD-4A0D-89F2-38D232AF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F15-6570-43C2-A93F-647F77C8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1451E-0D47-42CD-A467-322D0799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7E17C-A3DC-4976-80E9-6F9D3030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27D32-FEDC-481D-A2A8-F55C597A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FE792-CE29-4C82-AC3E-2C55CA70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CEC46-E397-40C0-9493-39555069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8171A-1515-47EE-A926-80F486DA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5C0FD-0703-4848-9FC4-D2DA0B53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C7DA6-017A-432F-AC4B-3247A1D6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D1622-9CCC-4787-BDEB-1CAAC93C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8A4BB-2264-425A-AA59-E0AD76D3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63B-ADD6-412C-B27D-AB0835F4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A9433-BDEB-4988-8C62-0D621A8D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996-4B52-4867-9592-A60F0EF3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DD7-BCB8-48DA-9BB1-3829A07C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185-3D9D-4134-9A0D-F3DEDBE8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01DB-FCAA-4668-AAE3-67978294F79D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A5E8-708D-4734-B056-F4B9A9C1F741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3F95-30BA-455B-82B9-0EAEF8F95745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0F6C-4941-4990-83F4-F29E27222F01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372E-DAAA-471B-936D-995C0B61BB8D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3572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8d3e"/>
                </a:solidFill>
                <a:latin typeface="Verdana"/>
              </a:rPr>
              <a:t>Auxiliar 1</a:t>
            </a:r>
            <a:br>
              <a:rPr sz="4500"/>
            </a:br>
            <a:r>
              <a:rPr b="1" lang="es-ES" sz="4500" spc="-1" strike="noStrike">
                <a:solidFill>
                  <a:srgbClr val="ff8d3e"/>
                </a:solidFill>
                <a:latin typeface="Verdana"/>
              </a:rPr>
              <a:t>IN71K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Modelos y Herramientas de Gest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De Calidad de Servi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8d3e"/>
                </a:solidFill>
                <a:latin typeface="Verdana"/>
              </a:rPr>
              <a:t>Calidad de Servicios en la Industria de Tiendas por Departamento</a:t>
            </a: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nálisis Calidad de Servicio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arís Parque Arau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Encuesta a 55 person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5 preguntas person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22 preguntas expectat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22 preguntas percep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Cálculo de GA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8d3e"/>
                </a:solidFill>
                <a:latin typeface="Verdana"/>
              </a:rPr>
              <a:t>Calidad de Servicios en la Industria de Tiendas por Departamento</a:t>
            </a: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lgunos Result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finición de fortalezas y debilidades de la tienda en cuest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785880" y="2428920"/>
            <a:ext cx="3400200" cy="1762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357800" y="2428920"/>
            <a:ext cx="34002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8d3e"/>
                </a:solidFill>
                <a:latin typeface="Verdana"/>
              </a:rPr>
              <a:t>Informe 1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nalizar servicio de una página web de un banco a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evantamiento de informa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nálisis de la interfa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cuesta a 20 personas a lo me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ementos que se pueden mejor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ficiencia de los proces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8d3e"/>
                </a:solidFill>
                <a:latin typeface="Verdana"/>
              </a:rPr>
              <a:t>Informe 1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1. Port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2. Resumen Ejecut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3. 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4. Cuerpo del Infor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5. Bibliografí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6. Anex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8d3e"/>
                </a:solidFill>
                <a:latin typeface="Verdana"/>
              </a:rPr>
              <a:t>A Frame Work for Analyzing Service Operatio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aracterísticas de los Servic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tangi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eci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Heterogene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multane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nsfer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racteristicas Cultur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8d3e"/>
                </a:solidFill>
                <a:latin typeface="Verdana"/>
              </a:rPr>
              <a:t>A Frame Work for Analyzing Service Operatio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mbiente Exter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finición del 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írculo Dinámi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gmentación del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uerzas Competit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5429160" y="1981080"/>
            <a:ext cx="31622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8d3e"/>
                </a:solidFill>
                <a:latin typeface="Verdana"/>
              </a:rPr>
              <a:t>A Frame Work for Analyzing Service Operatio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mbiente Inter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eño del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Matching Supply and De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interfaz con el 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omento de la verdad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ante más importa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8d3e"/>
                </a:solidFill>
                <a:latin typeface="Verdana"/>
              </a:rPr>
              <a:t>A Frame Work for Analyzing the Quality of Service Interface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mensiones de la Calidad de Servi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iab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pacidad de Respue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pat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ases del Encuen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eck-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nós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stación del Serv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eck-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8d3e"/>
                </a:solidFill>
                <a:latin typeface="Verdana"/>
              </a:rPr>
              <a:t>A Frame Work for Analyzing the Quality of Service Interface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714680"/>
            <a:ext cx="350064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ectativas y Percep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odelo de los GA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14880" y="1643040"/>
            <a:ext cx="37432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8d3e"/>
                </a:solidFill>
                <a:latin typeface="Verdana"/>
              </a:rPr>
              <a:t>SERVQUA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imensiones Servi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iabilidad 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angibles (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acidad de Respuesta (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guridad (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atía (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ectativas (E): lo que el cliente espera del servici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erspectivas (P): lo que el cliente percibe del servicio entreg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8d3e"/>
                </a:solidFill>
                <a:latin typeface="Verdana"/>
              </a:rPr>
              <a:t>SERVQUA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álculo E1, E2, E3, E4 y E5 por pregun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álculo P1, P2, P3, P4 y P5 por pregun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álculo (P-E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, i=1,…,5 por pregun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romedio por dimens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eso de cada dimens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untaje SERVQU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0440" y="71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8d3e"/>
                </a:solidFill>
                <a:latin typeface="Verdana"/>
              </a:rPr>
              <a:t>Modelos de Gestión de Calidad*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9" name="Picture 2" descr="Monografias.com"/>
          <p:cNvPicPr/>
          <p:nvPr/>
        </p:nvPicPr>
        <p:blipFill>
          <a:blip r:embed="rId1"/>
          <a:stretch/>
        </p:blipFill>
        <p:spPr>
          <a:xfrm>
            <a:off x="2087640" y="1143000"/>
            <a:ext cx="5127480" cy="4680000"/>
          </a:xfrm>
          <a:prstGeom prst="rect">
            <a:avLst/>
          </a:prstGeom>
          <a:ln w="0">
            <a:noFill/>
          </a:ln>
        </p:spPr>
      </p:pic>
      <p:sp>
        <p:nvSpPr>
          <p:cNvPr id="240" name="4 CuadroTexto"/>
          <p:cNvSpPr/>
          <p:nvPr/>
        </p:nvSpPr>
        <p:spPr>
          <a:xfrm>
            <a:off x="357120" y="6000840"/>
            <a:ext cx="857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* Rodríguez Méndez, Arianna.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“Elaboración del marco teórico referencial que sustente la aplicación de la metodología SERVPERF para la gestión de la calidad en una empresa de servicios”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3:40:35Z</dcterms:created>
  <dc:creator>ff</dc:creator>
  <dc:description/>
  <dc:language>en-US</dc:language>
  <cp:lastModifiedBy>ff</cp:lastModifiedBy>
  <dcterms:modified xsi:type="dcterms:W3CDTF">2010-08-17T16:04:55Z</dcterms:modified>
  <cp:revision>8</cp:revision>
  <dc:subject/>
  <dc:title>Auxiliar 1 IN71K</dc:title>
</cp:coreProperties>
</file>