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8.wmf" ContentType="image/x-wmf"/>
  <Override PartName="/ppt/media/image13.png" ContentType="image/png"/>
  <Override PartName="/ppt/media/image18.wmf" ContentType="image/x-wmf"/>
  <Override PartName="/ppt/media/image17.png" ContentType="image/png"/>
  <Override PartName="/ppt/media/image16.png" ContentType="image/png"/>
  <Override PartName="/ppt/media/image15.png" ContentType="image/png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wmf" ContentType="image/x-wmf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0281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6CFC7-9B68-41BE-82C1-E08D78F50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EF3A0-FF60-40F5-A894-23C29E9A9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AF683-030A-4427-8A29-C6B43C168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0DDF3-66BE-44A9-8E5D-6B5B835E0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33B50-325A-47BE-9EAD-6242E0A5A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1F961-09A7-4CBB-9B46-4971E064E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1E26A-1E43-408D-B319-4D02AB68E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39781-F52B-47D7-96F5-AD886714F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ED064-B060-4EF4-9D98-DB1B73C1C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D2789-DE69-4ED0-8824-ECEE80188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D100B-2799-4583-8C22-689D998E4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7CE15-2BBF-4694-8D85-8BDF0FE8F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27F0D-B4DB-4D20-B2BB-4EEDE1BDFF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3520" y="2286000"/>
            <a:ext cx="80769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000000"/>
                </a:solidFill>
                <a:latin typeface="Arial"/>
              </a:rPr>
              <a:t>The Markstrat Challenge II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371600" y="4724280"/>
            <a:ext cx="6400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Licencia MS350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Universidad de Ch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Departamento de Ingeniería Industr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República 7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antiago, Ch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...y requiere además trabajar efectivamente con su departamento de I&amp;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1143000" y="3390840"/>
            <a:ext cx="2057400" cy="185112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838080" y="2971800"/>
            <a:ext cx="2590920" cy="2362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 flipH="1">
            <a:off x="1981080" y="2666880"/>
            <a:ext cx="349200" cy="63036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2362320" y="297180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438280" y="2743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676520" y="2819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V="1">
            <a:off x="2286000" y="251424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676520" y="251460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2133720" y="23619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1752480" y="297180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334120" y="3581280"/>
            <a:ext cx="3581280" cy="838440"/>
          </a:xfrm>
          <a:prstGeom prst="hexagon">
            <a:avLst>
              <a:gd name="adj" fmla="val 33143"/>
              <a:gd name="vf" fmla="val 11547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xperi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095880" y="1523880"/>
            <a:ext cx="1981440" cy="1981440"/>
          </a:xfrm>
          <a:prstGeom prst="downArrowCallout">
            <a:avLst>
              <a:gd name="adj1" fmla="val 25002"/>
              <a:gd name="adj2" fmla="val 25000"/>
              <a:gd name="adj3" fmla="val 16667"/>
              <a:gd name="adj4" fmla="val 6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Número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roye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rot="10800000">
            <a:off x="6095880" y="4571640"/>
            <a:ext cx="1981440" cy="1981080"/>
          </a:xfrm>
          <a:prstGeom prst="downArrowCallout">
            <a:avLst>
              <a:gd name="adj1" fmla="val 25007"/>
              <a:gd name="adj2" fmla="val 25005"/>
              <a:gd name="adj3" fmla="val 16667"/>
              <a:gd name="adj4" fmla="val 6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54280" y="5486400"/>
            <a:ext cx="1683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roye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Simila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86480" y="1752480"/>
            <a:ext cx="4124880" cy="4597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I &amp; D = Centro de proye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90720" y="5410080"/>
            <a:ext cx="4831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oveer suficientes proye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Fijar costos unitarios esper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029200" y="1676520"/>
            <a:ext cx="0" cy="4800600"/>
          </a:xfrm>
          <a:prstGeom prst="line">
            <a:avLst/>
          </a:prstGeom>
          <a:ln w="127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Al realizar I&amp;D, tenga presente considerar factores de posicionamiento y económ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28600" y="2438280"/>
            <a:ext cx="914400" cy="83844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Pe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219320" y="2438280"/>
            <a:ext cx="914400" cy="838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Diseñ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209680" y="2438280"/>
            <a:ext cx="914400" cy="838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Volum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200400" y="2438280"/>
            <a:ext cx="914400" cy="8384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Fre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Máx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191120" y="2438280"/>
            <a:ext cx="914400" cy="83844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Poten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28600" y="3505320"/>
            <a:ext cx="487692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013480" y="1752480"/>
            <a:ext cx="13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SON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295280" y="3733920"/>
            <a:ext cx="271980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aracterísticas fís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ás importa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838080" y="4572000"/>
            <a:ext cx="3581640" cy="2057400"/>
          </a:xfrm>
          <a:prstGeom prst="upArrowCallout">
            <a:avLst>
              <a:gd name="adj1" fmla="val 43525"/>
              <a:gd name="adj2" fmla="val 43521"/>
              <a:gd name="adj3" fmla="val 16667"/>
              <a:gd name="adj4" fmla="val 6666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Necesidades del merc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arcas competitiv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Rango facti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resupuesto de proyec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876920" y="4572000"/>
            <a:ext cx="4038480" cy="2057400"/>
          </a:xfrm>
          <a:prstGeom prst="upArrowCallout">
            <a:avLst>
              <a:gd name="adj1" fmla="val 38735"/>
              <a:gd name="adj2" fmla="val 42202"/>
              <a:gd name="adj3" fmla="val 16667"/>
              <a:gd name="adj4" fmla="val 6666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argen esper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sto de otros proyec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resupuesto de proyec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Impacto de características fís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559840" y="2895480"/>
            <a:ext cx="2745720" cy="119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Costo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(a 100K uni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de producció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554160" y="1752480"/>
            <a:ext cx="915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Impacto de las características físicas en el costo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80880" y="1600200"/>
            <a:ext cx="8305920" cy="23623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0880" y="4114800"/>
            <a:ext cx="8305920" cy="23623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80880" y="1600200"/>
            <a:ext cx="2743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Mientras MAYOR sea la característica solicitada, MAYOR será el costo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57200" y="4114800"/>
            <a:ext cx="2590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Mientras MAYOR sea la característica solicitada, MENOR será el costo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886200" y="609588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3886200" y="4267080"/>
            <a:ext cx="0" cy="1828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099960" y="4191120"/>
            <a:ext cx="79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os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867840" y="6095880"/>
            <a:ext cx="275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aracterística requeri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886200" y="358128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3886200" y="1752480"/>
            <a:ext cx="0" cy="1828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99960" y="1676520"/>
            <a:ext cx="79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os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867840" y="3581280"/>
            <a:ext cx="275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aracterística requeri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114800" y="4495680"/>
            <a:ext cx="1600200" cy="13716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4038480" y="1828440"/>
            <a:ext cx="1828800" cy="16002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411960" y="1905120"/>
            <a:ext cx="234288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Diseñ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Frecuencia Máx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Pot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Autonomí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632280" y="4648320"/>
            <a:ext cx="1480320" cy="12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Volum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Pe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Diámet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l presupuesto requerido para completar un proyecto de I&amp;D es función de diversos fact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04920" y="1371600"/>
            <a:ext cx="8001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1"/>
          <a:stretch/>
        </p:blipFill>
        <p:spPr>
          <a:xfrm>
            <a:off x="7162920" y="609480"/>
            <a:ext cx="1751040" cy="2057400"/>
          </a:xfrm>
          <a:prstGeom prst="rect">
            <a:avLst/>
          </a:prstGeom>
          <a:ln w="0">
            <a:noFill/>
          </a:ln>
        </p:spPr>
      </p:pic>
      <p:sp>
        <p:nvSpPr>
          <p:cNvPr id="286" name=""/>
          <p:cNvSpPr/>
          <p:nvPr/>
        </p:nvSpPr>
        <p:spPr>
          <a:xfrm>
            <a:off x="2362320" y="1600200"/>
            <a:ext cx="2514600" cy="1600200"/>
          </a:xfrm>
          <a:prstGeom prst="downArrow">
            <a:avLst>
              <a:gd name="adj1" fmla="val 66796"/>
              <a:gd name="adj2" fmla="val 25000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Experi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en I &amp; 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rot="10800000">
            <a:off x="2361960" y="5105160"/>
            <a:ext cx="2514600" cy="1523880"/>
          </a:xfrm>
          <a:prstGeom prst="downArrow">
            <a:avLst>
              <a:gd name="adj1" fmla="val 66796"/>
              <a:gd name="adj2" fmla="val 25000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rot="16200000">
            <a:off x="190440" y="3085560"/>
            <a:ext cx="2514600" cy="2286000"/>
          </a:xfrm>
          <a:prstGeom prst="downArrow">
            <a:avLst>
              <a:gd name="adj1" fmla="val 66796"/>
              <a:gd name="adj2" fmla="val 25000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04920" y="3886200"/>
            <a:ext cx="228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Características fís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829600" y="5562720"/>
            <a:ext cx="1550880" cy="70380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Costo 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Requeri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438280" y="3505320"/>
            <a:ext cx="245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resupuesto de I &amp; D requer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952880" y="2819520"/>
            <a:ext cx="3810240" cy="3733560"/>
          </a:xfrm>
          <a:prstGeom prst="flowChartAlternateProcess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018760" y="3005280"/>
            <a:ext cx="324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ara averiguar má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181480" y="3657600"/>
            <a:ext cx="1752840" cy="914400"/>
          </a:xfrm>
          <a:custGeom>
            <a:avLst/>
            <a:gdLst>
              <a:gd name="textAreaLeft" fmla="*/ 0 w 1752840"/>
              <a:gd name="textAreaRight" fmla="*/ 1753200 w 17528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xactitu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181480" y="5257800"/>
            <a:ext cx="1752840" cy="914400"/>
          </a:xfrm>
          <a:custGeom>
            <a:avLst/>
            <a:gdLst>
              <a:gd name="textAreaLeft" fmla="*/ 0 w 1752840"/>
              <a:gd name="textAreaRight" fmla="*/ 1753200 w 17528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Veloc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517360" y="4648320"/>
            <a:ext cx="6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v/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934320" y="3657600"/>
            <a:ext cx="176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ahoma"/>
              </a:rPr>
              <a:t>Estudio de factibilida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934320" y="5257800"/>
            <a:ext cx="176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ahoma"/>
              </a:rPr>
              <a:t>Preguntas en lín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Hay dos posibles resultados de un proyecto de I &amp; 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1" name="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728640" cy="762120"/>
          </a:xfrm>
          <a:prstGeom prst="rect">
            <a:avLst/>
          </a:prstGeom>
          <a:ln w="0">
            <a:noFill/>
          </a:ln>
        </p:spPr>
      </p:pic>
      <p:sp>
        <p:nvSpPr>
          <p:cNvPr id="302" name=""/>
          <p:cNvSpPr/>
          <p:nvPr/>
        </p:nvSpPr>
        <p:spPr>
          <a:xfrm>
            <a:off x="650880" y="1371600"/>
            <a:ext cx="319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Proyecto sometido a I &amp; D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28600" y="1828800"/>
            <a:ext cx="83808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e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066680" y="1828800"/>
            <a:ext cx="83844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diseñ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905120" y="1828800"/>
            <a:ext cx="83808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volum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743200" y="1828800"/>
            <a:ext cx="83808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fre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má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581280" y="1828800"/>
            <a:ext cx="83844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oten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28600" y="2286000"/>
            <a:ext cx="83808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1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066680" y="2286000"/>
            <a:ext cx="83844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905120" y="2286000"/>
            <a:ext cx="83808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8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743200" y="2286000"/>
            <a:ext cx="83808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3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581280" y="2286000"/>
            <a:ext cx="83844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7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000440" y="2843280"/>
            <a:ext cx="2896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Caso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Costo base requerido = $8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55560" y="3397320"/>
            <a:ext cx="36576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ahoma"/>
              </a:rPr>
              <a:t>(el costo base requerido está bajo el mínimo, pero la I &amp; D tratará de desarrollar el proyecto a un mínimo costo bas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4572000" y="1981080"/>
            <a:ext cx="838080" cy="762120"/>
          </a:xfrm>
          <a:prstGeom prst="rightArrow">
            <a:avLst>
              <a:gd name="adj1" fmla="val 50000"/>
              <a:gd name="adj2" fmla="val 27492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181480" y="1752480"/>
            <a:ext cx="3276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El costo base mínimo es calculado en una etapa temprana del proyec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Costo Base mínimo = $1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495680" y="2895480"/>
            <a:ext cx="4648320" cy="39625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252400" y="2887560"/>
            <a:ext cx="3012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Caso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Costo base requerido = $1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33520" y="3886200"/>
            <a:ext cx="815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El presupuesto requerido para completarlo es también calculado en una etapa temprana del proyec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57200" y="5289480"/>
            <a:ext cx="3733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286000" y="5029200"/>
            <a:ext cx="0" cy="1704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975960" y="5029200"/>
            <a:ext cx="94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Caso A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576160" y="5002200"/>
            <a:ext cx="94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Caso A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-151200" y="5362560"/>
            <a:ext cx="48045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resupuesto asignado  por equipo para período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60680" y="5591160"/>
            <a:ext cx="86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$ 1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17000" y="5591160"/>
            <a:ext cx="69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$ 3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28600" y="6276960"/>
            <a:ext cx="199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royecto válido a costo base = 1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219320" y="589608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200400" y="589608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2302200" y="6276960"/>
            <a:ext cx="201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royecto fracas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-131400" y="4495680"/>
            <a:ext cx="4752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resupuesto requerido para completarlo = $8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(a costo base = $11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099040" y="5289480"/>
            <a:ext cx="3733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927840" y="5029200"/>
            <a:ext cx="0" cy="1704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545440" y="5029200"/>
            <a:ext cx="94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Caso 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7215480" y="5002200"/>
            <a:ext cx="94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Caso B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490640" y="5362560"/>
            <a:ext cx="480456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resupuesto asignado  por equipo para período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402520" y="5591160"/>
            <a:ext cx="86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$ 1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7458840" y="5591160"/>
            <a:ext cx="69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$ 3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870440" y="6276960"/>
            <a:ext cx="199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royecto válido a costo base = 1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861160" y="589608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7842240" y="589608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944040" y="6276960"/>
            <a:ext cx="201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royecto fracas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510440" y="4495680"/>
            <a:ext cx="4752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resupuesto requerido para completarlo = $55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(a costo base = $13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Un proyecto de I &amp; D completo puede ser usado para modificar marcas existentes y/o introducir nuevas mar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flipV="1">
            <a:off x="3429000" y="2057400"/>
            <a:ext cx="0" cy="4572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80880" y="4267080"/>
            <a:ext cx="59436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591640" y="1574640"/>
            <a:ext cx="1819080" cy="398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ahoma"/>
              </a:rPr>
              <a:t>Rendi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330600" y="4089240"/>
            <a:ext cx="1418040" cy="398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ahoma"/>
              </a:rPr>
              <a:t>Economí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5105520" y="26668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962520" y="50292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O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286000" y="34290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H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838080" y="25146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B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33520" y="33526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105520" y="4572000"/>
            <a:ext cx="304560" cy="3049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943600" y="4952880"/>
            <a:ext cx="2133720" cy="762120"/>
          </a:xfrm>
          <a:prstGeom prst="wedgeRoundRectCallout">
            <a:avLst>
              <a:gd name="adj1" fmla="val -68972"/>
              <a:gd name="adj2" fmla="val -77916"/>
              <a:gd name="adj3" fmla="val 1666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Nueva SA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mayor rendimi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105520" y="5943600"/>
            <a:ext cx="304560" cy="3049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6248520" y="6248520"/>
            <a:ext cx="1676160" cy="380880"/>
          </a:xfrm>
          <a:prstGeom prst="wedgeRoundRectCallout">
            <a:avLst>
              <a:gd name="adj1" fmla="val -90814"/>
              <a:gd name="adj2" fmla="val -103333"/>
              <a:gd name="adj3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Vieja SA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V="1">
            <a:off x="5257800" y="49528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905120" y="3886200"/>
            <a:ext cx="304560" cy="30492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28600" y="4495680"/>
            <a:ext cx="1752480" cy="762120"/>
          </a:xfrm>
          <a:prstGeom prst="wedgeRoundRectCallout">
            <a:avLst>
              <a:gd name="adj1" fmla="val 42574"/>
              <a:gd name="adj2" fmla="val -101875"/>
              <a:gd name="adj3" fmla="val 16667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ahoma"/>
              </a:rPr>
              <a:t>Nueva mar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1" lang="es-ES_tradnl" sz="1800" spc="-1" strike="noStrike">
                <a:solidFill>
                  <a:srgbClr val="ffffff"/>
                </a:solidFill>
                <a:latin typeface="Tahoma"/>
              </a:rPr>
              <a:t>SAMY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Traer proyectos exitosos de I &amp; D al mercado genera  inventario obsole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4" name="" descr=""/>
          <p:cNvPicPr/>
          <p:nvPr/>
        </p:nvPicPr>
        <p:blipFill>
          <a:blip r:embed="rId1"/>
          <a:stretch/>
        </p:blipFill>
        <p:spPr>
          <a:xfrm>
            <a:off x="3962520" y="2895480"/>
            <a:ext cx="1110960" cy="478080"/>
          </a:xfrm>
          <a:prstGeom prst="rect">
            <a:avLst/>
          </a:prstGeom>
          <a:ln w="0">
            <a:noFill/>
          </a:ln>
        </p:spPr>
      </p:pic>
      <p:grpSp>
        <p:nvGrpSpPr>
          <p:cNvPr id="365" name=""/>
          <p:cNvGrpSpPr/>
          <p:nvPr/>
        </p:nvGrpSpPr>
        <p:grpSpPr>
          <a:xfrm>
            <a:off x="228600" y="3962520"/>
            <a:ext cx="837720" cy="945360"/>
            <a:chOff x="228600" y="3962520"/>
            <a:chExt cx="837720" cy="945360"/>
          </a:xfrm>
        </p:grpSpPr>
        <p:sp>
          <p:nvSpPr>
            <p:cNvPr id="366" name=""/>
            <p:cNvSpPr/>
            <p:nvPr/>
          </p:nvSpPr>
          <p:spPr>
            <a:xfrm>
              <a:off x="228600" y="4090680"/>
              <a:ext cx="651960" cy="817200"/>
            </a:xfrm>
            <a:prstGeom prst="rect">
              <a:avLst/>
            </a:prstGeom>
            <a:solidFill>
              <a:srgbClr val="ffff00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880560" y="3964320"/>
              <a:ext cx="182160" cy="941400"/>
            </a:xfrm>
            <a:custGeom>
              <a:avLst/>
              <a:gdLst/>
              <a:ahLst/>
              <a:rect l="l" t="t" r="r" b="b"/>
              <a:pathLst>
                <a:path w="317" h="1295">
                  <a:moveTo>
                    <a:pt x="0" y="175"/>
                  </a:moveTo>
                  <a:lnTo>
                    <a:pt x="0" y="1295"/>
                  </a:lnTo>
                  <a:lnTo>
                    <a:pt x="317" y="1075"/>
                  </a:lnTo>
                  <a:lnTo>
                    <a:pt x="317" y="0"/>
                  </a:lnTo>
                  <a:lnTo>
                    <a:pt x="0" y="175"/>
                  </a:lnTo>
                  <a:close/>
                </a:path>
              </a:pathLst>
            </a:custGeom>
            <a:solidFill>
              <a:srgbClr val="80800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231840" y="3962520"/>
              <a:ext cx="834480" cy="130320"/>
            </a:xfrm>
            <a:custGeom>
              <a:avLst/>
              <a:gdLst/>
              <a:ahLst/>
              <a:rect l="l" t="t" r="r" b="b"/>
              <a:pathLst>
                <a:path w="1441" h="180">
                  <a:moveTo>
                    <a:pt x="0" y="180"/>
                  </a:moveTo>
                  <a:lnTo>
                    <a:pt x="1119" y="180"/>
                  </a:lnTo>
                  <a:lnTo>
                    <a:pt x="1441" y="0"/>
                  </a:lnTo>
                  <a:lnTo>
                    <a:pt x="362" y="0"/>
                  </a:lnTo>
                  <a:lnTo>
                    <a:pt x="0" y="180"/>
                  </a:lnTo>
                  <a:close/>
                </a:path>
              </a:pathLst>
            </a:custGeom>
            <a:solidFill>
              <a:srgbClr val="ffff8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914400" y="3962520"/>
            <a:ext cx="837720" cy="945360"/>
            <a:chOff x="914400" y="3962520"/>
            <a:chExt cx="837720" cy="945360"/>
          </a:xfrm>
        </p:grpSpPr>
        <p:sp>
          <p:nvSpPr>
            <p:cNvPr id="370" name=""/>
            <p:cNvSpPr/>
            <p:nvPr/>
          </p:nvSpPr>
          <p:spPr>
            <a:xfrm>
              <a:off x="914400" y="4090680"/>
              <a:ext cx="651960" cy="817200"/>
            </a:xfrm>
            <a:prstGeom prst="rect">
              <a:avLst/>
            </a:prstGeom>
            <a:solidFill>
              <a:srgbClr val="00c0c0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1566360" y="3964320"/>
              <a:ext cx="182160" cy="941400"/>
            </a:xfrm>
            <a:custGeom>
              <a:avLst/>
              <a:gdLst/>
              <a:ahLst/>
              <a:rect l="l" t="t" r="r" b="b"/>
              <a:pathLst>
                <a:path w="316" h="1295">
                  <a:moveTo>
                    <a:pt x="0" y="175"/>
                  </a:moveTo>
                  <a:lnTo>
                    <a:pt x="0" y="1295"/>
                  </a:lnTo>
                  <a:lnTo>
                    <a:pt x="316" y="1075"/>
                  </a:lnTo>
                  <a:lnTo>
                    <a:pt x="316" y="0"/>
                  </a:lnTo>
                  <a:lnTo>
                    <a:pt x="0" y="175"/>
                  </a:lnTo>
                  <a:close/>
                </a:path>
              </a:pathLst>
            </a:custGeom>
            <a:solidFill>
              <a:srgbClr val="00606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915840" y="3962520"/>
              <a:ext cx="836280" cy="130320"/>
            </a:xfrm>
            <a:custGeom>
              <a:avLst/>
              <a:gdLst/>
              <a:ahLst/>
              <a:rect l="l" t="t" r="r" b="b"/>
              <a:pathLst>
                <a:path w="1441" h="180">
                  <a:moveTo>
                    <a:pt x="0" y="180"/>
                  </a:moveTo>
                  <a:lnTo>
                    <a:pt x="1120" y="180"/>
                  </a:lnTo>
                  <a:lnTo>
                    <a:pt x="1441" y="0"/>
                  </a:lnTo>
                  <a:lnTo>
                    <a:pt x="362" y="0"/>
                  </a:lnTo>
                  <a:lnTo>
                    <a:pt x="0" y="180"/>
                  </a:lnTo>
                  <a:close/>
                </a:path>
              </a:pathLst>
            </a:custGeom>
            <a:solidFill>
              <a:srgbClr val="40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676520" y="3962520"/>
            <a:ext cx="837720" cy="943920"/>
            <a:chOff x="1676520" y="3962520"/>
            <a:chExt cx="837720" cy="943920"/>
          </a:xfrm>
        </p:grpSpPr>
        <p:sp>
          <p:nvSpPr>
            <p:cNvPr id="374" name=""/>
            <p:cNvSpPr/>
            <p:nvPr/>
          </p:nvSpPr>
          <p:spPr>
            <a:xfrm>
              <a:off x="1676520" y="4088880"/>
              <a:ext cx="653760" cy="817560"/>
            </a:xfrm>
            <a:prstGeom prst="rect">
              <a:avLst/>
            </a:prstGeom>
            <a:solidFill>
              <a:srgbClr val="ff00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328480" y="3964680"/>
              <a:ext cx="184320" cy="941400"/>
            </a:xfrm>
            <a:custGeom>
              <a:avLst/>
              <a:gdLst/>
              <a:ahLst/>
              <a:rect l="l" t="t" r="r" b="b"/>
              <a:pathLst>
                <a:path w="317" h="1294">
                  <a:moveTo>
                    <a:pt x="0" y="174"/>
                  </a:moveTo>
                  <a:lnTo>
                    <a:pt x="0" y="1294"/>
                  </a:lnTo>
                  <a:lnTo>
                    <a:pt x="317" y="1074"/>
                  </a:lnTo>
                  <a:lnTo>
                    <a:pt x="317" y="0"/>
                  </a:lnTo>
                  <a:lnTo>
                    <a:pt x="0" y="174"/>
                  </a:lnTo>
                  <a:close/>
                </a:path>
              </a:pathLst>
            </a:custGeom>
            <a:solidFill>
              <a:srgbClr val="80008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679760" y="3962520"/>
              <a:ext cx="834480" cy="128520"/>
            </a:xfrm>
            <a:custGeom>
              <a:avLst/>
              <a:gdLst/>
              <a:ahLst/>
              <a:rect l="l" t="t" r="r" b="b"/>
              <a:pathLst>
                <a:path w="1442" h="179">
                  <a:moveTo>
                    <a:pt x="0" y="179"/>
                  </a:moveTo>
                  <a:lnTo>
                    <a:pt x="1120" y="179"/>
                  </a:lnTo>
                  <a:lnTo>
                    <a:pt x="1442" y="0"/>
                  </a:lnTo>
                  <a:lnTo>
                    <a:pt x="362" y="0"/>
                  </a:lnTo>
                  <a:lnTo>
                    <a:pt x="0" y="179"/>
                  </a:lnTo>
                  <a:close/>
                </a:path>
              </a:pathLst>
            </a:custGeom>
            <a:solidFill>
              <a:srgbClr val="ff40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7" name=""/>
          <p:cNvGrpSpPr/>
          <p:nvPr/>
        </p:nvGrpSpPr>
        <p:grpSpPr>
          <a:xfrm>
            <a:off x="380880" y="3124080"/>
            <a:ext cx="838080" cy="917280"/>
            <a:chOff x="380880" y="3124080"/>
            <a:chExt cx="838080" cy="917280"/>
          </a:xfrm>
        </p:grpSpPr>
        <p:sp>
          <p:nvSpPr>
            <p:cNvPr id="378" name=""/>
            <p:cNvSpPr/>
            <p:nvPr/>
          </p:nvSpPr>
          <p:spPr>
            <a:xfrm>
              <a:off x="380880" y="3224160"/>
              <a:ext cx="651960" cy="817200"/>
            </a:xfrm>
            <a:prstGeom prst="rect">
              <a:avLst/>
            </a:prstGeom>
            <a:solidFill>
              <a:srgbClr val="ff8000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032840" y="3124080"/>
              <a:ext cx="183960" cy="915480"/>
            </a:xfrm>
            <a:custGeom>
              <a:avLst/>
              <a:gdLst/>
              <a:ahLst/>
              <a:rect l="l" t="t" r="r" b="b"/>
              <a:pathLst>
                <a:path w="317" h="1262">
                  <a:moveTo>
                    <a:pt x="0" y="143"/>
                  </a:moveTo>
                  <a:lnTo>
                    <a:pt x="0" y="1262"/>
                  </a:lnTo>
                  <a:lnTo>
                    <a:pt x="317" y="1075"/>
                  </a:lnTo>
                  <a:lnTo>
                    <a:pt x="317" y="0"/>
                  </a:lnTo>
                  <a:lnTo>
                    <a:pt x="0" y="143"/>
                  </a:lnTo>
                  <a:close/>
                </a:path>
              </a:pathLst>
            </a:custGeom>
            <a:solidFill>
              <a:srgbClr val="80400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82680" y="3124080"/>
              <a:ext cx="836280" cy="102600"/>
            </a:xfrm>
            <a:custGeom>
              <a:avLst/>
              <a:gdLst/>
              <a:ahLst/>
              <a:rect l="l" t="t" r="r" b="b"/>
              <a:pathLst>
                <a:path w="1443" h="143">
                  <a:moveTo>
                    <a:pt x="0" y="143"/>
                  </a:moveTo>
                  <a:lnTo>
                    <a:pt x="1121" y="143"/>
                  </a:lnTo>
                  <a:lnTo>
                    <a:pt x="1443" y="0"/>
                  </a:lnTo>
                  <a:lnTo>
                    <a:pt x="362" y="0"/>
                  </a:lnTo>
                  <a:lnTo>
                    <a:pt x="0" y="143"/>
                  </a:lnTo>
                  <a:close/>
                </a:path>
              </a:pathLst>
            </a:custGeom>
            <a:solidFill>
              <a:srgbClr val="ffa04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1133640" y="3111480"/>
            <a:ext cx="837720" cy="917280"/>
            <a:chOff x="1133640" y="3111480"/>
            <a:chExt cx="837720" cy="917280"/>
          </a:xfrm>
        </p:grpSpPr>
        <p:sp>
          <p:nvSpPr>
            <p:cNvPr id="382" name=""/>
            <p:cNvSpPr/>
            <p:nvPr/>
          </p:nvSpPr>
          <p:spPr>
            <a:xfrm>
              <a:off x="1133640" y="3211200"/>
              <a:ext cx="651600" cy="817560"/>
            </a:xfrm>
            <a:prstGeom prst="rect">
              <a:avLst/>
            </a:prstGeom>
            <a:solidFill>
              <a:srgbClr val="00e000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1785240" y="3111480"/>
              <a:ext cx="184320" cy="917280"/>
            </a:xfrm>
            <a:custGeom>
              <a:avLst/>
              <a:gdLst/>
              <a:ahLst/>
              <a:rect l="l" t="t" r="r" b="b"/>
              <a:pathLst>
                <a:path w="317" h="1262">
                  <a:moveTo>
                    <a:pt x="0" y="141"/>
                  </a:moveTo>
                  <a:lnTo>
                    <a:pt x="0" y="1262"/>
                  </a:lnTo>
                  <a:lnTo>
                    <a:pt x="317" y="1075"/>
                  </a:lnTo>
                  <a:lnTo>
                    <a:pt x="317" y="0"/>
                  </a:lnTo>
                  <a:lnTo>
                    <a:pt x="0" y="141"/>
                  </a:lnTo>
                  <a:close/>
                </a:path>
              </a:pathLst>
            </a:custGeom>
            <a:solidFill>
              <a:srgbClr val="00600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135080" y="3111480"/>
              <a:ext cx="836280" cy="102240"/>
            </a:xfrm>
            <a:custGeom>
              <a:avLst/>
              <a:gdLst/>
              <a:ahLst/>
              <a:rect l="l" t="t" r="r" b="b"/>
              <a:pathLst>
                <a:path w="1443" h="141">
                  <a:moveTo>
                    <a:pt x="0" y="141"/>
                  </a:moveTo>
                  <a:lnTo>
                    <a:pt x="1121" y="141"/>
                  </a:lnTo>
                  <a:lnTo>
                    <a:pt x="1443" y="0"/>
                  </a:lnTo>
                  <a:lnTo>
                    <a:pt x="362" y="0"/>
                  </a:lnTo>
                  <a:lnTo>
                    <a:pt x="0" y="141"/>
                  </a:lnTo>
                  <a:close/>
                </a:path>
              </a:pathLst>
            </a:custGeom>
            <a:solidFill>
              <a:srgbClr val="80ff8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5" name=""/>
          <p:cNvGrpSpPr/>
          <p:nvPr/>
        </p:nvGrpSpPr>
        <p:grpSpPr>
          <a:xfrm>
            <a:off x="685800" y="2362320"/>
            <a:ext cx="836280" cy="879120"/>
            <a:chOff x="685800" y="2362320"/>
            <a:chExt cx="836280" cy="879120"/>
          </a:xfrm>
        </p:grpSpPr>
        <p:sp>
          <p:nvSpPr>
            <p:cNvPr id="386" name=""/>
            <p:cNvSpPr/>
            <p:nvPr/>
          </p:nvSpPr>
          <p:spPr>
            <a:xfrm>
              <a:off x="685800" y="2423160"/>
              <a:ext cx="652320" cy="818280"/>
            </a:xfrm>
            <a:prstGeom prst="rect">
              <a:avLst/>
            </a:prstGeom>
            <a:solidFill>
              <a:srgbClr val="ff0000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38120" y="2362320"/>
              <a:ext cx="183960" cy="879120"/>
            </a:xfrm>
            <a:custGeom>
              <a:avLst/>
              <a:gdLst/>
              <a:ahLst/>
              <a:rect l="l" t="t" r="r" b="b"/>
              <a:pathLst>
                <a:path w="318" h="1209">
                  <a:moveTo>
                    <a:pt x="0" y="90"/>
                  </a:moveTo>
                  <a:lnTo>
                    <a:pt x="0" y="1209"/>
                  </a:lnTo>
                  <a:lnTo>
                    <a:pt x="318" y="1063"/>
                  </a:lnTo>
                  <a:lnTo>
                    <a:pt x="318" y="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c0000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87600" y="2362320"/>
              <a:ext cx="834480" cy="65160"/>
            </a:xfrm>
            <a:custGeom>
              <a:avLst/>
              <a:gdLst/>
              <a:ahLst/>
              <a:rect l="l" t="t" r="r" b="b"/>
              <a:pathLst>
                <a:path w="1440" h="90">
                  <a:moveTo>
                    <a:pt x="0" y="90"/>
                  </a:moveTo>
                  <a:lnTo>
                    <a:pt x="1121" y="90"/>
                  </a:lnTo>
                  <a:lnTo>
                    <a:pt x="1440" y="0"/>
                  </a:lnTo>
                  <a:lnTo>
                    <a:pt x="353" y="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ff404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89" name="" descr=""/>
          <p:cNvPicPr/>
          <p:nvPr/>
        </p:nvPicPr>
        <p:blipFill>
          <a:blip r:embed="rId2"/>
          <a:stretch/>
        </p:blipFill>
        <p:spPr>
          <a:xfrm>
            <a:off x="6553080" y="2666880"/>
            <a:ext cx="990720" cy="349200"/>
          </a:xfrm>
          <a:prstGeom prst="rect">
            <a:avLst/>
          </a:prstGeom>
          <a:ln w="0">
            <a:noFill/>
          </a:ln>
        </p:spPr>
      </p:pic>
      <p:pic>
        <p:nvPicPr>
          <p:cNvPr id="390" name="" descr=""/>
          <p:cNvPicPr/>
          <p:nvPr/>
        </p:nvPicPr>
        <p:blipFill>
          <a:blip r:embed="rId3"/>
          <a:stretch/>
        </p:blipFill>
        <p:spPr>
          <a:xfrm>
            <a:off x="4343400" y="2666880"/>
            <a:ext cx="2678040" cy="267840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/>
          <p:nvPr/>
        </p:nvSpPr>
        <p:spPr>
          <a:xfrm rot="18900000">
            <a:off x="907560" y="4275720"/>
            <a:ext cx="6685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SA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 rot="18900000">
            <a:off x="1821960" y="4275720"/>
            <a:ext cx="6685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SA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 rot="18900000">
            <a:off x="222120" y="4199760"/>
            <a:ext cx="6685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SA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 rot="18900000">
            <a:off x="1202760" y="3277440"/>
            <a:ext cx="6685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SA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 rot="18900000">
            <a:off x="374040" y="3442320"/>
            <a:ext cx="6685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SA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 rot="18900000">
            <a:off x="755640" y="2534400"/>
            <a:ext cx="6685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SA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2895480" y="2133720"/>
            <a:ext cx="0" cy="4114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1905120" y="1676520"/>
            <a:ext cx="1981080" cy="9144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arca Modifica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(conserva nombr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1981080" y="5410080"/>
            <a:ext cx="1981440" cy="9144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Retiro de Mar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438280" y="3505320"/>
            <a:ext cx="1371600" cy="10666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066680"/>
              <a:gd name="textAreaBottom" fmla="*/ 106704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Inventa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Obsole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4724280" y="5410080"/>
            <a:ext cx="1447920" cy="9144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  <a:effectLst>
            <a:outerShdw dist="117181" dir="296163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COMPAÑ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COMERC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 rot="10800000">
            <a:off x="7391520" y="3504960"/>
            <a:ext cx="1371600" cy="10666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066680"/>
              <a:gd name="textAreaBottom" fmla="*/ 106704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7582320" y="3657600"/>
            <a:ext cx="129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Venta 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Inventa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724280" y="1523880"/>
            <a:ext cx="4114800" cy="762120"/>
          </a:xfrm>
          <a:prstGeom prst="wedgeRoundRectCallout">
            <a:avLst>
              <a:gd name="adj1" fmla="val -33796"/>
              <a:gd name="adj2" fmla="val 82291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mpraré productos a un %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ado de su costo de transfer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/>
          <p:nvPr/>
        </p:nvSpPr>
        <p:spPr>
          <a:xfrm>
            <a:off x="3124080" y="762120"/>
            <a:ext cx="3810240" cy="48765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800600" y="3124080"/>
            <a:ext cx="2666880" cy="27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2895480" y="609480"/>
            <a:ext cx="4572000" cy="27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276720" y="0"/>
            <a:ext cx="3809880" cy="48769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4876920" y="2514600"/>
            <a:ext cx="2666880" cy="27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895480" y="0"/>
            <a:ext cx="4572000" cy="27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n la reducción de costos de proyectos hay que considerar el efecto de la curva de experi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2514600" y="6095880"/>
            <a:ext cx="35053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 flipV="1">
            <a:off x="2514600" y="2133720"/>
            <a:ext cx="0" cy="3962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2514600" y="29718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3276720" y="2971800"/>
            <a:ext cx="0" cy="3124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2514600" y="47242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419720" y="472428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H="1">
            <a:off x="2514240" y="41911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1297080" y="2819520"/>
            <a:ext cx="125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Costo base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1295280" y="3962520"/>
            <a:ext cx="125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Costo base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59200" y="4443480"/>
            <a:ext cx="2264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Actu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costo de transferencia A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1076760" y="1676520"/>
            <a:ext cx="2803680" cy="368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Tahoma"/>
              </a:rPr>
              <a:t>Costo de Transferen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026680" y="6172200"/>
            <a:ext cx="2795760" cy="368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Tahoma"/>
              </a:rPr>
              <a:t>Producción acumula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2894760" y="6019920"/>
            <a:ext cx="210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100 KU        225 K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026880" y="4222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349800" y="266688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4413960" y="4343400"/>
            <a:ext cx="45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A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586680" y="2666880"/>
            <a:ext cx="321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roducto actu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(curva de experiencia inici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13680" y="4495680"/>
            <a:ext cx="326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roducto con costo reduci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(curva de experiencia nuev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4572000" y="4800600"/>
            <a:ext cx="8380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 flipH="1">
            <a:off x="3428640" y="297180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l estudio MDS mide la percepción de marca en tres dimensione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1600200" y="1447920"/>
            <a:ext cx="7238880" cy="99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Mercado SONI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Influencia de la característica de la marca en dimensiones 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MDS en P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228600" y="1523880"/>
            <a:ext cx="1066680" cy="990720"/>
          </a:xfrm>
          <a:prstGeom prst="cube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28600" y="5029200"/>
            <a:ext cx="175248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Rendimi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228600" y="4267080"/>
            <a:ext cx="175248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conom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28600" y="3505320"/>
            <a:ext cx="17524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28600" y="5791320"/>
            <a:ext cx="17524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onvenien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981080" y="3505320"/>
            <a:ext cx="106704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es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048120" y="3505320"/>
            <a:ext cx="10666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iseñ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114800" y="3505320"/>
            <a:ext cx="10666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Volum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181480" y="3505320"/>
            <a:ext cx="106704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rec. Má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6248520" y="3505320"/>
            <a:ext cx="10666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oten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7315200" y="3505320"/>
            <a:ext cx="10666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rec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1981080" y="426708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04812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411480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5181480" y="426708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24852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731520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1981080" y="502920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048120" y="50292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4114800" y="50292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5181480" y="502920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6248520" y="50292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7315200" y="50292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981080" y="5791320"/>
            <a:ext cx="106704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048120" y="5791320"/>
            <a:ext cx="10666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114800" y="5791320"/>
            <a:ext cx="10666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5181480" y="5791320"/>
            <a:ext cx="106704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6248520" y="5791320"/>
            <a:ext cx="10666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315200" y="5791320"/>
            <a:ext cx="10666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 flipH="1" flipV="1">
            <a:off x="228600" y="3505320"/>
            <a:ext cx="175248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04812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11480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1981080" y="502920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3048120" y="50292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4114800" y="50292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5181480" y="5791320"/>
            <a:ext cx="106704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181480" y="5791320"/>
            <a:ext cx="106704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5181480" y="5791320"/>
            <a:ext cx="106704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411480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3048120" y="50292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1981080" y="502920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304812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1981080" y="426708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6248520" y="5791320"/>
            <a:ext cx="10666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7315200" y="5791320"/>
            <a:ext cx="10666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021480" y="5791320"/>
            <a:ext cx="83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ue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5154840" y="5029200"/>
            <a:ext cx="83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ue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221880" y="5029200"/>
            <a:ext cx="83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ue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288560" y="4267080"/>
            <a:ext cx="83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ue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3581280" y="594360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5715000" y="518148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 flipV="1">
            <a:off x="6781680" y="518148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7772400" y="4572000"/>
            <a:ext cx="3808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54000" y="5715000"/>
            <a:ext cx="130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oder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987360" y="5715000"/>
            <a:ext cx="130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oder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6121080" y="4191120"/>
            <a:ext cx="130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oder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5054400" y="4191120"/>
            <a:ext cx="130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oder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187760" y="4952880"/>
            <a:ext cx="130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oder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2133720" y="6172200"/>
            <a:ext cx="685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4267080" y="6172200"/>
            <a:ext cx="685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V="1">
            <a:off x="7467480" y="5334120"/>
            <a:ext cx="60984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V="1">
            <a:off x="6477120" y="4648320"/>
            <a:ext cx="6094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V="1">
            <a:off x="5410080" y="4648320"/>
            <a:ext cx="60984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1752480" y="2590920"/>
            <a:ext cx="3200400" cy="609480"/>
          </a:xfrm>
          <a:prstGeom prst="roundRect">
            <a:avLst>
              <a:gd name="adj" fmla="val 4557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ahoma"/>
              </a:rPr>
              <a:t>La economía percibi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ahoma"/>
              </a:rPr>
              <a:t>aumenta, si la frec. max. aumen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5638680" y="2590920"/>
            <a:ext cx="3200400" cy="609480"/>
          </a:xfrm>
          <a:prstGeom prst="roundRect">
            <a:avLst>
              <a:gd name="adj" fmla="val 4557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ahoma"/>
              </a:rPr>
              <a:t>La economía percibi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ahoma"/>
              </a:rPr>
              <a:t>aumenta, si el precio decre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 flipH="1">
            <a:off x="8229240" y="3200400"/>
            <a:ext cx="304920" cy="1371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4952880" y="2971800"/>
            <a:ext cx="304920" cy="1600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18560" y="3429000"/>
            <a:ext cx="1402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racterístic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del produc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183240" y="3962520"/>
            <a:ext cx="126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Dimensio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...las que son influenciadas en distinta magnitud por los diversos atributos de las mar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1600200" y="1447920"/>
            <a:ext cx="7238880" cy="99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Mercado VODI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Influencia de la característica de la marca en dimensiones 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MDS en P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228600" y="5029200"/>
            <a:ext cx="175248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lexibil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228600" y="4267080"/>
            <a:ext cx="175248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fica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228600" y="3505320"/>
            <a:ext cx="17524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228600" y="5791320"/>
            <a:ext cx="17524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conom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1981080" y="3505320"/>
            <a:ext cx="106704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Autonom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3048120" y="3505320"/>
            <a:ext cx="10666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rec. Máx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4114800" y="3505320"/>
            <a:ext cx="10666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iámet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5181480" y="3505320"/>
            <a:ext cx="106704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iseñ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6248520" y="3505320"/>
            <a:ext cx="10666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es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315200" y="3505320"/>
            <a:ext cx="10666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rec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 flipH="1" flipV="1">
            <a:off x="228600" y="3505320"/>
            <a:ext cx="175248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1676520" y="2590920"/>
            <a:ext cx="3276360" cy="609480"/>
          </a:xfrm>
          <a:prstGeom prst="roundRect">
            <a:avLst>
              <a:gd name="adj" fmla="val 4557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ahoma"/>
              </a:rPr>
              <a:t>La eficacia percibi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ahoma"/>
              </a:rPr>
              <a:t>aumenta si, la frec. max. aumen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715000" y="2590920"/>
            <a:ext cx="3124080" cy="609480"/>
          </a:xfrm>
          <a:prstGeom prst="roundRect">
            <a:avLst>
              <a:gd name="adj" fmla="val 4557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ahoma"/>
              </a:rPr>
              <a:t>La flexibilidad percibi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ahoma"/>
              </a:rPr>
              <a:t>aumenta si, el peso decre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7238880" y="3200400"/>
            <a:ext cx="0" cy="1905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 flipH="1">
            <a:off x="3809880" y="3200400"/>
            <a:ext cx="457200" cy="1219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380880" y="1600200"/>
            <a:ext cx="914400" cy="1371600"/>
          </a:xfrm>
          <a:prstGeom prst="flowChartMagneticDisk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1981080" y="426708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3048120" y="50292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981080" y="5791320"/>
            <a:ext cx="106704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3048120" y="5791320"/>
            <a:ext cx="10666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4114800" y="5791320"/>
            <a:ext cx="10666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5181480" y="5791320"/>
            <a:ext cx="106704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6248520" y="5791320"/>
            <a:ext cx="10666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7315200" y="50292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731520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624852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411480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5181480" y="502920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5181480" y="426708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5054400" y="4191120"/>
            <a:ext cx="130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oder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5410080" y="4648320"/>
            <a:ext cx="60984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4114800" y="50292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3987360" y="4952880"/>
            <a:ext cx="130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oder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4267080" y="5334120"/>
            <a:ext cx="7621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6248520" y="50292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6121080" y="4952880"/>
            <a:ext cx="130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oder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6400800" y="5334120"/>
            <a:ext cx="7621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1981080" y="502920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1954440" y="5029200"/>
            <a:ext cx="83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ue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 flipV="1">
            <a:off x="2514600" y="518148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304812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3021480" y="4267080"/>
            <a:ext cx="83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u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ue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 flipV="1">
            <a:off x="3733920" y="4419360"/>
            <a:ext cx="3045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7315200" y="5791320"/>
            <a:ext cx="10666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7288560" y="5791320"/>
            <a:ext cx="83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u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ue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8001000" y="594360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228600" y="3505320"/>
            <a:ext cx="17524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 flipH="1" flipV="1">
            <a:off x="228600" y="3505320"/>
            <a:ext cx="175248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718560" y="3429000"/>
            <a:ext cx="1402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racterístic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del produc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83240" y="3962520"/>
            <a:ext cx="126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Dimensio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Su éxito en Markstrat dependerá enormemente en su habilidad para gestionar el desarrollo y posicionamiento de sus mar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362320" y="2286000"/>
            <a:ext cx="6324480" cy="1523880"/>
          </a:xfrm>
          <a:prstGeom prst="rightArrow">
            <a:avLst>
              <a:gd name="adj1" fmla="val 61667"/>
              <a:gd name="adj2" fmla="val 10404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573720" y="2730600"/>
            <a:ext cx="3993840" cy="642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00"/>
                </a:solidFill>
                <a:latin typeface="Tahoma"/>
              </a:rPr>
              <a:t>Posicionamien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362320" y="3962520"/>
            <a:ext cx="6324480" cy="1523880"/>
          </a:xfrm>
          <a:prstGeom prst="rightArrow">
            <a:avLst>
              <a:gd name="adj1" fmla="val 61667"/>
              <a:gd name="adj2" fmla="val 104044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543920" y="4406760"/>
            <a:ext cx="1278000" cy="6426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ahoma"/>
              </a:rPr>
              <a:t>I &amp; 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04920" y="2057400"/>
            <a:ext cx="3276360" cy="34290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ahoma"/>
              </a:rPr>
              <a:t>Estrateg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Nuevas decisiones en el períod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685800" y="1905120"/>
            <a:ext cx="7238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2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ortafolio de mar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2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Objetivos perceptuales (en escalamiento semántico o escalamiento multidimension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2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I &amp;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Usted ahora puede ampliar su portafolio al introducir nuevas marcas..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5" name="" descr=""/>
          <p:cNvPicPr/>
          <p:nvPr/>
        </p:nvPicPr>
        <p:blipFill>
          <a:blip r:embed="rId1"/>
          <a:stretch/>
        </p:blipFill>
        <p:spPr>
          <a:xfrm>
            <a:off x="304920" y="1600200"/>
            <a:ext cx="5952960" cy="32004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566" name="" descr=""/>
          <p:cNvPicPr/>
          <p:nvPr/>
        </p:nvPicPr>
        <p:blipFill>
          <a:blip r:embed="rId2"/>
          <a:stretch/>
        </p:blipFill>
        <p:spPr>
          <a:xfrm>
            <a:off x="5562720" y="3352680"/>
            <a:ext cx="3190680" cy="32385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567" name=""/>
          <p:cNvSpPr/>
          <p:nvPr/>
        </p:nvSpPr>
        <p:spPr>
          <a:xfrm>
            <a:off x="5715000" y="2590920"/>
            <a:ext cx="990720" cy="1066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...Usted también puede modificar marcas exist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0" name="" descr=""/>
          <p:cNvPicPr/>
          <p:nvPr/>
        </p:nvPicPr>
        <p:blipFill>
          <a:blip r:embed="rId1"/>
          <a:stretch/>
        </p:blipFill>
        <p:spPr>
          <a:xfrm>
            <a:off x="228600" y="1600200"/>
            <a:ext cx="6629400" cy="35640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571" name=""/>
          <p:cNvSpPr/>
          <p:nvPr/>
        </p:nvSpPr>
        <p:spPr>
          <a:xfrm flipH="1">
            <a:off x="6019560" y="3124080"/>
            <a:ext cx="1143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2"/>
          <a:stretch/>
        </p:blipFill>
        <p:spPr>
          <a:xfrm>
            <a:off x="5715000" y="3352680"/>
            <a:ext cx="3191040" cy="32385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573" name=""/>
          <p:cNvSpPr/>
          <p:nvPr/>
        </p:nvSpPr>
        <p:spPr>
          <a:xfrm>
            <a:off x="7162920" y="3124080"/>
            <a:ext cx="0" cy="685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010280" y="1676520"/>
            <a:ext cx="1905120" cy="83808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Mantiene 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mismo nomb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 flipH="1">
            <a:off x="8000640" y="2514600"/>
            <a:ext cx="6858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2514600" y="5486400"/>
            <a:ext cx="2133720" cy="83808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seleccione u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proyecto de I &amp; 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 flipV="1">
            <a:off x="4648320" y="4419360"/>
            <a:ext cx="281916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ara transmitir el mensaje correcto al mercado, Usted puede fijar objetivos perceptuales para cada una de sus mer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0" name="" descr=""/>
          <p:cNvPicPr/>
          <p:nvPr/>
        </p:nvPicPr>
        <p:blipFill>
          <a:blip r:embed="rId1"/>
          <a:stretch/>
        </p:blipFill>
        <p:spPr>
          <a:xfrm>
            <a:off x="2514600" y="1523880"/>
            <a:ext cx="6381720" cy="4953240"/>
          </a:xfrm>
          <a:prstGeom prst="rect">
            <a:avLst/>
          </a:prstGeom>
          <a:ln w="0">
            <a:noFill/>
          </a:ln>
        </p:spPr>
      </p:pic>
      <p:sp>
        <p:nvSpPr>
          <p:cNvPr id="581" name=""/>
          <p:cNvSpPr/>
          <p:nvPr/>
        </p:nvSpPr>
        <p:spPr>
          <a:xfrm>
            <a:off x="0" y="1676520"/>
            <a:ext cx="2362320" cy="13716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¿Desea comunic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n dimensiones 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DS o escalamient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semántico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0" y="3505320"/>
            <a:ext cx="2362320" cy="1143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¿En cuá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imensiones dese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omunicar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0" y="5105520"/>
            <a:ext cx="2438280" cy="13716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Ingrese l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oordenadas del pu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que Usted dese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alcanzar en el map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1219320" y="304812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1219320" y="464832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2438280" y="57150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Usted puede iniciar hasta cinco proyectos de I&amp;D por período y por tipo de producto (cinco SONITE y cinco VODI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9" name="" descr=""/>
          <p:cNvPicPr/>
          <p:nvPr/>
        </p:nvPicPr>
        <p:blipFill>
          <a:blip r:embed="rId1"/>
          <a:stretch/>
        </p:blipFill>
        <p:spPr>
          <a:xfrm>
            <a:off x="304920" y="1600200"/>
            <a:ext cx="6076800" cy="4552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90" name="" descr=""/>
          <p:cNvPicPr/>
          <p:nvPr/>
        </p:nvPicPr>
        <p:blipFill>
          <a:blip r:embed="rId2"/>
          <a:stretch/>
        </p:blipFill>
        <p:spPr>
          <a:xfrm>
            <a:off x="3581280" y="4038480"/>
            <a:ext cx="5324760" cy="25336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591" name=""/>
          <p:cNvSpPr/>
          <p:nvPr/>
        </p:nvSpPr>
        <p:spPr>
          <a:xfrm>
            <a:off x="6934320" y="38098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5943600" y="3809880"/>
            <a:ext cx="99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6400800" y="1600200"/>
            <a:ext cx="2743200" cy="20574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Haga </a:t>
            </a:r>
            <a:r>
              <a:rPr b="0" i="1" lang="es-ES_tradnl" sz="1800" spc="-1" strike="noStrike">
                <a:solidFill>
                  <a:srgbClr val="000000"/>
                </a:solidFill>
                <a:latin typeface="Tahoma"/>
              </a:rPr>
              <a:t>click 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a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obtener una estim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l costo base míni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y presupues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requerido para complet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l proyec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 flipH="1">
            <a:off x="5943600" y="3429000"/>
            <a:ext cx="53352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ahoma"/>
              </a:rPr>
              <a:t>Usted ahora lo sabe todo</a:t>
            </a:r>
            <a:br>
              <a:rPr sz="3600"/>
            </a:br>
            <a:br>
              <a:rPr sz="3600"/>
            </a:br>
            <a:br>
              <a:rPr sz="3600"/>
            </a:br>
            <a:r>
              <a:rPr b="1" lang="es-ES_tradnl" sz="3600" spc="-1" strike="noStrike">
                <a:solidFill>
                  <a:srgbClr val="000000"/>
                </a:solidFill>
                <a:latin typeface="Tahoma"/>
              </a:rPr>
              <a:t>De ahora en adelante, depende de su estrategia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6" name="" descr=""/>
          <p:cNvPicPr/>
          <p:nvPr/>
        </p:nvPicPr>
        <p:blipFill>
          <a:blip r:embed="rId1"/>
          <a:stretch/>
        </p:blipFill>
        <p:spPr>
          <a:xfrm>
            <a:off x="2971800" y="3352680"/>
            <a:ext cx="2889360" cy="28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Los clientes realizan sus decisiones de compra basándose en </a:t>
            </a:r>
            <a:r>
              <a:rPr b="1" i="1" lang="es-ES_tradnl" sz="2400" spc="-1" strike="noStrike">
                <a:solidFill>
                  <a:srgbClr val="000000"/>
                </a:solidFill>
                <a:latin typeface="Tahoma"/>
              </a:rPr>
              <a:t>sus propias 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ercepciones de su 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85800" y="1447920"/>
            <a:ext cx="2127240" cy="22860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80880" y="3886200"/>
            <a:ext cx="2446560" cy="2666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566160" y="1600200"/>
            <a:ext cx="317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u percepción de mar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749760" y="2176560"/>
            <a:ext cx="990360" cy="76176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740120" y="2176560"/>
            <a:ext cx="990720" cy="76176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30840" y="2176560"/>
            <a:ext cx="990720" cy="76176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721560" y="2176560"/>
            <a:ext cx="990360" cy="76176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49760" y="3166920"/>
            <a:ext cx="45720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571080" y="317340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alidad técn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81280" y="3886200"/>
            <a:ext cx="4740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La percepción de los clientes sobre las mar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781680" y="5791320"/>
            <a:ext cx="990720" cy="76176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553080" y="4419720"/>
            <a:ext cx="990720" cy="76176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029200" y="4876920"/>
            <a:ext cx="990720" cy="76176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086600" y="4800600"/>
            <a:ext cx="990720" cy="76212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267080" y="5638680"/>
            <a:ext cx="42674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7120" y="4648320"/>
            <a:ext cx="0" cy="19810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8535960" y="5486400"/>
            <a:ext cx="40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74000" y="434340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l “Mapa Perceptual” es una valiosa herramienta para visualizar el posicionammiento de las mar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04920" y="1905120"/>
            <a:ext cx="4952880" cy="472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95480" y="1905120"/>
            <a:ext cx="1800" cy="472428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920" y="4267080"/>
            <a:ext cx="4952880" cy="180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038480" y="1905120"/>
            <a:ext cx="1800" cy="472428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676520" y="1905120"/>
            <a:ext cx="1440" cy="472428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04920" y="2971800"/>
            <a:ext cx="4952880" cy="144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04920" y="5486400"/>
            <a:ext cx="4952880" cy="144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331240" y="3968640"/>
            <a:ext cx="1713960" cy="398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ahoma"/>
              </a:rPr>
              <a:t>Necesidad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070360" y="1447920"/>
            <a:ext cx="1713960" cy="398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ahoma"/>
              </a:rPr>
              <a:t>Necesidad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133720"/>
            <a:ext cx="388800" cy="369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9560" y="2133720"/>
            <a:ext cx="47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B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429000" y="4114800"/>
            <a:ext cx="388800" cy="3697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430440" y="411480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676520" y="3048120"/>
            <a:ext cx="388800" cy="369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677240" y="304812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914400" y="3505320"/>
            <a:ext cx="388800" cy="369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915840" y="355428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H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114800" y="5638680"/>
            <a:ext cx="380880" cy="381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116240" y="563868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O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791320" y="5418000"/>
            <a:ext cx="388800" cy="370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792760" y="541800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886200" y="5410080"/>
            <a:ext cx="304920" cy="304920"/>
          </a:xfrm>
          <a:prstGeom prst="flowChartExtra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990720" y="2971800"/>
            <a:ext cx="304560" cy="304920"/>
          </a:xfrm>
          <a:prstGeom prst="flowChartExtra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219320" y="5029200"/>
            <a:ext cx="380880" cy="380880"/>
          </a:xfrm>
          <a:prstGeom prst="star5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733920" y="5943600"/>
            <a:ext cx="380880" cy="380880"/>
          </a:xfrm>
          <a:prstGeom prst="star5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495680" y="6095880"/>
            <a:ext cx="228600" cy="228600"/>
          </a:xfrm>
          <a:prstGeom prst="flowChartProcess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209680" y="5715000"/>
            <a:ext cx="228600" cy="228600"/>
          </a:xfrm>
          <a:prstGeom prst="flowChartProcess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371600" y="2666880"/>
            <a:ext cx="304920" cy="304920"/>
          </a:xfrm>
          <a:prstGeom prst="flowChartMerg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" y="2057400"/>
            <a:ext cx="304920" cy="304920"/>
          </a:xfrm>
          <a:prstGeom prst="flowChartMerg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600200" y="2057400"/>
            <a:ext cx="380880" cy="380880"/>
          </a:xfrm>
          <a:prstGeom prst="flowChartDecision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600200" y="3505320"/>
            <a:ext cx="380880" cy="380880"/>
          </a:xfrm>
          <a:prstGeom prst="flowChartDecision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905120" y="198108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O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06720" y="2286000"/>
            <a:ext cx="65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EL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603080" y="2590920"/>
            <a:ext cx="66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EM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59360" y="2971800"/>
            <a:ext cx="63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UL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431160" y="5410080"/>
            <a:ext cx="61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US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678680" y="5638680"/>
            <a:ext cx="56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IB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753920" y="373392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OL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11640" y="5029200"/>
            <a:ext cx="68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A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649760" y="6019920"/>
            <a:ext cx="64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I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125880" y="6019920"/>
            <a:ext cx="76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A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867280" y="5875200"/>
            <a:ext cx="304920" cy="304920"/>
          </a:xfrm>
          <a:prstGeom prst="flowChartExtra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230880" y="5380200"/>
            <a:ext cx="249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Punto ideal del segm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232680" y="5764320"/>
            <a:ext cx="260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Posición perceptual de las marc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941160" y="4876920"/>
            <a:ext cx="10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Cl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486400" y="4884840"/>
            <a:ext cx="3352680" cy="1676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1752480"/>
            <a:ext cx="358128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Mapa Perceptu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basado en un estudio MDS (</a:t>
            </a:r>
            <a:r>
              <a:rPr b="1" i="1" lang="es-ES_tradnl" sz="2000" spc="-1" strike="noStrike">
                <a:solidFill>
                  <a:srgbClr val="000000"/>
                </a:solidFill>
                <a:latin typeface="Tahoma"/>
              </a:rPr>
              <a:t>Escalamiento Multi-Dimensional</a:t>
            </a: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-251640" y="6491160"/>
            <a:ext cx="573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20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           -10                   0                 10                 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800" y="16765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800" y="2743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440" y="40384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-90720" y="529596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440" y="624852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Hay dos formas para re-posicionar un marca en Markstr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600200" y="1905120"/>
            <a:ext cx="5257800" cy="472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267080" y="1905120"/>
            <a:ext cx="1800" cy="472428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600200" y="4267080"/>
            <a:ext cx="5257800" cy="180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562720" y="1905120"/>
            <a:ext cx="1440" cy="472428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971800" y="1905120"/>
            <a:ext cx="1440" cy="472428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00200" y="3048120"/>
            <a:ext cx="5257800" cy="144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600200" y="5334120"/>
            <a:ext cx="5257800" cy="144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362320" y="3505320"/>
            <a:ext cx="304560" cy="304560"/>
          </a:xfrm>
          <a:prstGeom prst="flowChartExtra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048120" y="3048120"/>
            <a:ext cx="304560" cy="304560"/>
          </a:xfrm>
          <a:prstGeom prst="flowChartExtra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362320" y="5334120"/>
            <a:ext cx="304560" cy="304560"/>
          </a:xfrm>
          <a:prstGeom prst="flowChartExtra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2514600" y="3886200"/>
            <a:ext cx="0" cy="137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2590920" y="3276720"/>
            <a:ext cx="457200" cy="30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33520" y="4572000"/>
            <a:ext cx="1904760" cy="685800"/>
          </a:xfrm>
          <a:custGeom>
            <a:avLst/>
            <a:gdLst>
              <a:gd name="textAreaLeft" fmla="*/ 0 w 1904760"/>
              <a:gd name="textAreaRight" fmla="*/ 1905120 w 1904760"/>
              <a:gd name="textAreaTop" fmla="*/ 0 h 685800"/>
              <a:gd name="textAreaBottom" fmla="*/ 686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I &amp;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520" y="2971800"/>
            <a:ext cx="2133360" cy="685800"/>
          </a:xfrm>
          <a:custGeom>
            <a:avLst/>
            <a:gdLst>
              <a:gd name="textAreaLeft" fmla="*/ 0 w 2133360"/>
              <a:gd name="textAreaRight" fmla="*/ 2133720 w 2133360"/>
              <a:gd name="textAreaTop" fmla="*/ 0 h 685800"/>
              <a:gd name="textAreaBottom" fmla="*/ 686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ublic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347720" y="1523880"/>
            <a:ext cx="2017080" cy="825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Rend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Percib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886080" y="3886200"/>
            <a:ext cx="1589040" cy="825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Econom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Percib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040760" y="6491160"/>
            <a:ext cx="619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20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             -10                    0                   10                    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7080" y="16765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296720" y="40384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219320" y="6248520"/>
            <a:ext cx="48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l posicionamiento físico involucra tratar de  igualar las características de las marcas a las necesidades de los cl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85800" y="2286000"/>
            <a:ext cx="8001000" cy="5335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Necesidades de los Cl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7086600" y="1600200"/>
            <a:ext cx="1868400" cy="117324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1868400" cy="117324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685800" y="2971800"/>
            <a:ext cx="2590920" cy="459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Econom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2971800"/>
            <a:ext cx="2590920" cy="459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Rend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172200" y="2971800"/>
            <a:ext cx="2514600" cy="459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Conveni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rot="16200000">
            <a:off x="952560" y="4305240"/>
            <a:ext cx="2133360" cy="533520"/>
          </a:xfrm>
          <a:custGeom>
            <a:avLst/>
            <a:gdLst>
              <a:gd name="textAreaLeft" fmla="*/ 0 w 2133360"/>
              <a:gd name="textAreaRight" fmla="*/ 2133720 w 213336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re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rot="16200000">
            <a:off x="3238560" y="4305240"/>
            <a:ext cx="2133360" cy="533520"/>
          </a:xfrm>
          <a:custGeom>
            <a:avLst/>
            <a:gdLst>
              <a:gd name="textAreaLeft" fmla="*/ 0 w 2133360"/>
              <a:gd name="textAreaRight" fmla="*/ 2133720 w 213336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ot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rot="16200000">
            <a:off x="3924360" y="4305240"/>
            <a:ext cx="2133360" cy="533520"/>
          </a:xfrm>
          <a:custGeom>
            <a:avLst/>
            <a:gdLst>
              <a:gd name="textAreaLeft" fmla="*/ 0 w 2133360"/>
              <a:gd name="textAreaRight" fmla="*/ 2133720 w 213336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Frec. Má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rot="16200000">
            <a:off x="5676840" y="4305240"/>
            <a:ext cx="2133360" cy="533160"/>
          </a:xfrm>
          <a:custGeom>
            <a:avLst/>
            <a:gdLst>
              <a:gd name="textAreaLeft" fmla="*/ 0 w 2133360"/>
              <a:gd name="textAreaRight" fmla="*/ 2133720 w 213336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Dise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rot="16200000">
            <a:off x="6362640" y="4305240"/>
            <a:ext cx="2133360" cy="533160"/>
          </a:xfrm>
          <a:custGeom>
            <a:avLst/>
            <a:gdLst>
              <a:gd name="textAreaLeft" fmla="*/ 0 w 2133360"/>
              <a:gd name="textAreaRight" fmla="*/ 2133720 w 213336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Volu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rot="16200000">
            <a:off x="7048440" y="4305240"/>
            <a:ext cx="2133360" cy="533160"/>
          </a:xfrm>
          <a:custGeom>
            <a:avLst/>
            <a:gdLst>
              <a:gd name="textAreaLeft" fmla="*/ 0 w 2133360"/>
              <a:gd name="textAreaRight" fmla="*/ 2133720 w 213336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e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5791320"/>
            <a:ext cx="8001000" cy="457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Características de las Mar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80880" y="4114800"/>
            <a:ext cx="990720" cy="990720"/>
          </a:xfrm>
          <a:prstGeom prst="cube">
            <a:avLst>
              <a:gd name="adj" fmla="val 1971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rot="18900000">
            <a:off x="305280" y="44953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SA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osicionar vía publicidad requiere fijar “Objetivos Perceptuale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295280" y="1905120"/>
            <a:ext cx="5410440" cy="472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114800" y="1905120"/>
            <a:ext cx="1440" cy="472428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5280" y="4267080"/>
            <a:ext cx="5410440" cy="180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410080" y="1905120"/>
            <a:ext cx="1800" cy="472428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743200" y="1905120"/>
            <a:ext cx="1440" cy="472428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295280" y="3048120"/>
            <a:ext cx="5410440" cy="144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295280" y="5486400"/>
            <a:ext cx="5410440" cy="144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195440" y="1523880"/>
            <a:ext cx="2017080" cy="825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Rend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Percib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733440" y="3886200"/>
            <a:ext cx="1589040" cy="825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Econom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Percib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572000" y="3505320"/>
            <a:ext cx="304920" cy="304560"/>
          </a:xfrm>
          <a:prstGeom prst="flowChartExtra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486400" y="3048120"/>
            <a:ext cx="304920" cy="304560"/>
          </a:xfrm>
          <a:prstGeom prst="flowChartExtra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638680" y="33526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4114800" y="320040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09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4114800" y="36576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573440" y="426708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488200" y="4267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811320" y="30481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811320" y="35053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11800" y="6491160"/>
            <a:ext cx="625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20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             -10                     0                   10                    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916200" y="16765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916200" y="28195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068120" y="40384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915840" y="525780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839880" y="624852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715000" y="2895480"/>
            <a:ext cx="388800" cy="370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716440" y="289548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Su éxito en Markstrat dependerá enormemente en su habilidad para gestionar el desarrollo y posicionamiento de sus mar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362320" y="2286000"/>
            <a:ext cx="6324480" cy="1523880"/>
          </a:xfrm>
          <a:prstGeom prst="rightArrow">
            <a:avLst>
              <a:gd name="adj1" fmla="val 61667"/>
              <a:gd name="adj2" fmla="val 104044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573720" y="2730600"/>
            <a:ext cx="3993840" cy="6426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ahoma"/>
              </a:rPr>
              <a:t>Posicionamien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362320" y="3962520"/>
            <a:ext cx="6324480" cy="1523880"/>
          </a:xfrm>
          <a:prstGeom prst="rightArrow">
            <a:avLst>
              <a:gd name="adj1" fmla="val 61667"/>
              <a:gd name="adj2" fmla="val 10404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543920" y="4406760"/>
            <a:ext cx="1278000" cy="642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00"/>
                </a:solidFill>
                <a:latin typeface="Tahoma"/>
              </a:rPr>
              <a:t>I &amp; 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04920" y="2057400"/>
            <a:ext cx="3276360" cy="34290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ahoma"/>
              </a:rPr>
              <a:t>Estrateg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l éxito en I&amp;D involucra pensar con un horizonte de lago plazo e identificar la evolución de oportunidade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219320" y="1828800"/>
            <a:ext cx="0" cy="1676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80880" y="2666880"/>
            <a:ext cx="17528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638680" y="1752480"/>
            <a:ext cx="0" cy="1676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800600" y="2590920"/>
            <a:ext cx="17524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200400" y="4648320"/>
            <a:ext cx="0" cy="1676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209680" y="5334120"/>
            <a:ext cx="17528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4724280"/>
            <a:ext cx="0" cy="1676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867280" y="5562720"/>
            <a:ext cx="17528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724280" y="1752480"/>
            <a:ext cx="389160" cy="370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25720" y="175248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523880" y="1905120"/>
            <a:ext cx="389160" cy="3697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525320" y="190512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H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400800" y="5943600"/>
            <a:ext cx="388800" cy="3697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402240" y="594360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O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019920" y="5943600"/>
            <a:ext cx="380880" cy="380880"/>
          </a:xfrm>
          <a:prstGeom prst="star5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828800" y="1676520"/>
            <a:ext cx="304920" cy="304560"/>
          </a:xfrm>
          <a:prstGeom prst="flowChartExtra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733920" y="4648320"/>
            <a:ext cx="228600" cy="228600"/>
          </a:xfrm>
          <a:prstGeom prst="flowChartProcess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962520" y="4724280"/>
            <a:ext cx="388800" cy="370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963240" y="472428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505320" y="4800600"/>
            <a:ext cx="304560" cy="304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514600" y="4800600"/>
            <a:ext cx="304920" cy="304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895480" y="495288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V="1">
            <a:off x="6858000" y="5790960"/>
            <a:ext cx="60948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1219320" y="2209680"/>
            <a:ext cx="304560" cy="381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253840" y="3048120"/>
            <a:ext cx="2347920" cy="703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Nuevo segm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Obje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941880" y="4495680"/>
            <a:ext cx="1913400" cy="703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Presión sob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márge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873800" y="5943600"/>
            <a:ext cx="2875320" cy="398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Competidor entra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96920" y="3429000"/>
            <a:ext cx="1959120" cy="1008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Cambios 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neces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de segmen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18T00:10:55Z</dcterms:created>
  <dc:creator>Marcelo y Tomás Münzenmayer S</dc:creator>
  <dc:description/>
  <dc:language>en-US</dc:language>
  <cp:lastModifiedBy>William Young</cp:lastModifiedBy>
  <cp:lastPrinted>2000-03-10T16:13:12Z</cp:lastPrinted>
  <dcterms:modified xsi:type="dcterms:W3CDTF">2006-10-10T22:42:48Z</dcterms:modified>
  <cp:revision>23</cp:revision>
  <dc:subject/>
  <dc:title>Sin título de diapositiva</dc:title>
</cp:coreProperties>
</file>