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5C4B-F0B5-4B90-B646-E71FF0236B1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B20C-114A-40CE-BCD9-5784D4655D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BE0F-39F5-4E6F-A29F-24665DD135A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537-EAAF-4B23-8697-2ED3988FC7F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5B52-26AA-4673-ACD0-60DEE1D381F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63AC-8B27-410D-BAA1-0451E89E85C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7931-A418-44B9-B010-A377250C774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129B-2F0C-4F26-87AA-B0B80A902C8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041E-9C11-4FC1-AFA9-E1B430E46E9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8DF0-9768-465A-BD39-5AC5A62A03F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6B17-4E85-42E0-90F7-0BD92E344A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1C77-2686-493F-A9CB-EF79517E4D0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5FC2-FAB3-48BB-92AE-2E99F542F3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AF84-C28D-407D-8D43-408AA2B9EB0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CB75-AF41-46AF-AFF6-08F3C870CEC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6359-E783-4534-8A4A-68D6F019FB3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5C5A-01B9-4166-BC78-E322A0E28E7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4263-F027-42E4-9544-874E404ABC9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9041-06D8-46CC-BBB3-66331854D48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232B-9D09-4449-BDF8-461D1EAEAAF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0784-874A-41CD-A1A0-21A5BE1DFC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CBB6-23FD-476F-A0FC-95809CBEC1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12FC-4807-4157-BB57-CBDB10AE12E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50F4-7144-4314-9AB4-5C1E985B6E9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79F3-D7DF-4BCC-B7A1-77FAAE9AE2A0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647A-CFED-4FB3-A78E-2BD34F71024F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869A-16F6-4B0E-87E0-1BBB491F2682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2C77-2544-423D-A2DB-DDE667C47C60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6305-FA40-490F-8163-7DCE3F6225BC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FD5C-6DD2-4A48-9489-67BE0CBB9C3D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11C7-174D-4866-A5EC-6D03F4A971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7E67-BAD0-417B-9C9F-B1DF0E4C952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F9E3-7712-4BD8-B89C-93E31A9AFC3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1A19-D9AE-45CB-9AB4-5F86DB92351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EFF6-4538-493E-908B-C306544B26B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3E2F-4D3F-4FB1-9626-25ED2A4C1C6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3FBA-10F5-4742-B672-6EEA233A147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B7D7-737C-4FED-8569-B425EA99307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0C77-2B55-4326-91E9-8E5EAE5FF5D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489B-E62A-4E43-9AC0-044285D40AA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4717-24BA-4FA2-A90F-B69F17055EA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6A08-2EC6-40AE-A7D3-04FEEAC324B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2151-D16B-4C04-8AFD-61DAF5023C5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6C5B-22D3-4A75-81CD-E2F01F72CBE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ECFD-DAB7-4D91-896E-1A5BCE91978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E32A-CDAD-4257-99EF-1F4782D5733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8CBB-C638-4613-BF38-214481B210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D852-5CF8-46B1-B3BA-B590DCEC59C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C417-41FC-4A17-9E57-AE7BA9A4B7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E9B-5FB3-475C-A1E0-41D9586F530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1782-F193-4A38-8D57-8F9DE2E4B3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E3E81-14C2-4D4B-995F-F0A55451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EE69E-45C7-4D73-994A-2F7D4ACB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02FC6-5043-4C2D-A82F-50FA41AD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2B143-F829-47D0-80EE-90BE4DAB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6ED38-D368-4E30-840B-3398F4E6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9FF09-1BA2-45D9-BAE3-66FE6748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29DE8-3DAF-4DF6-B56C-11715836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6A8E6-F253-4E65-8016-D496D8CB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C6657-11AC-49E8-8699-EE771BA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B4E5F-4F06-43AB-B86C-BCF54C64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944C2-28FA-4810-9AA6-50BFB455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BE94E-6812-4BD9-87DB-27978801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04E8B1-4542-4FCA-8496-E7CE5168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94D0D-8632-4536-8335-A396A077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5F2C0-D33A-4F60-B1DC-988E8F47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0ADB8-7D9B-4E64-8D79-D0EDA673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9A562-F26F-45AB-954F-E39ECC92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3F7139-83AF-4DAE-8293-8535F2F5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2561E-24C1-435C-80C0-7707C7E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642090-9572-4006-8E95-207A11E5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77831-81FD-44B9-88C5-DEFB58F3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1861DD-D706-450E-BD75-98FDD3EC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EE659-47C6-4048-AD15-B5296E65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E418FD-D80E-4663-9BFD-3A3FD6C6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00D0-E4EC-4990-955F-6ED5E3320DDD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2214720" y="1676520"/>
            <a:ext cx="44290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808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porter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3" descr="value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227160" y="1531800"/>
            <a:ext cx="8916480" cy="4255200"/>
            <a:chOff x="227160" y="1531800"/>
            <a:chExt cx="8916480" cy="4255200"/>
          </a:xfrm>
        </p:grpSpPr>
        <p:sp>
          <p:nvSpPr>
            <p:cNvPr id="251" name="Line 3"/>
            <p:cNvSpPr/>
            <p:nvPr/>
          </p:nvSpPr>
          <p:spPr>
            <a:xfrm>
              <a:off x="980640" y="376200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1391040" y="2524680"/>
              <a:ext cx="1682640" cy="272880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3075120" y="35060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3075120" y="49586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3075120" y="226872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699840" y="1600560"/>
              <a:ext cx="35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3598920" y="2615760"/>
              <a:ext cx="569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3255840" y="3810600"/>
              <a:ext cx="1106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3289320" y="3953160"/>
              <a:ext cx="913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3367440" y="3391560"/>
              <a:ext cx="809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4647960" y="202572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2"/>
            <p:cNvSpPr/>
            <p:nvPr/>
          </p:nvSpPr>
          <p:spPr>
            <a:xfrm>
              <a:off x="4726080" y="2055600"/>
              <a:ext cx="20689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3"/>
            <p:cNvSpPr/>
            <p:nvPr/>
          </p:nvSpPr>
          <p:spPr>
            <a:xfrm>
              <a:off x="6996600" y="205560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4"/>
            <p:cNvSpPr/>
            <p:nvPr/>
          </p:nvSpPr>
          <p:spPr>
            <a:xfrm>
              <a:off x="4726080" y="2507040"/>
              <a:ext cx="18820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4726080" y="3796200"/>
              <a:ext cx="2404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2"/>
            <p:cNvSpPr/>
            <p:nvPr/>
          </p:nvSpPr>
          <p:spPr>
            <a:xfrm>
              <a:off x="5382000" y="1531800"/>
              <a:ext cx="271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8"/>
            <p:cNvSpPr/>
            <p:nvPr/>
          </p:nvSpPr>
          <p:spPr>
            <a:xfrm>
              <a:off x="3353400" y="5237640"/>
              <a:ext cx="970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tivos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41"/>
            <p:cNvSpPr/>
            <p:nvPr/>
          </p:nvSpPr>
          <p:spPr>
            <a:xfrm>
              <a:off x="1635480" y="3277080"/>
              <a:ext cx="11077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1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3" name="Arc 45"/>
            <p:cNvSpPr/>
            <p:nvPr/>
          </p:nvSpPr>
          <p:spPr>
            <a:xfrm>
              <a:off x="1854000" y="3716280"/>
              <a:ext cx="815400" cy="43128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7"/>
            <p:cNvSpPr/>
            <p:nvPr/>
          </p:nvSpPr>
          <p:spPr>
            <a:xfrm>
              <a:off x="1596960" y="4647960"/>
              <a:ext cx="12434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767960" y="534744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4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5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7" name="Arc 59"/>
            <p:cNvSpPr/>
            <p:nvPr/>
          </p:nvSpPr>
          <p:spPr>
            <a:xfrm flipV="1">
              <a:off x="1833480" y="2526120"/>
              <a:ext cx="816840" cy="34344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1752480" y="5867280"/>
            <a:ext cx="57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152712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2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1143000" y="1614600"/>
            <a:ext cx="6797520" cy="47862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295280" y="1652760"/>
            <a:ext cx="60976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3 Marcador de contenido" descr=""/>
          <p:cNvPicPr/>
          <p:nvPr/>
        </p:nvPicPr>
        <p:blipFill>
          <a:blip r:embed="rId2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6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alor= Beneficios-Costos(incluye riesg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2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9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8"/>
            <p:cNvSpPr/>
            <p:nvPr/>
          </p:nvSpPr>
          <p:spPr>
            <a:xfrm>
              <a:off x="3192480" y="1916280"/>
              <a:ext cx="308844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e0e5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feed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2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3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6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340668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211140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2187720" y="434304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5311440" y="281952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5388120" y="4191120"/>
            <a:ext cx="129528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85416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69240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69492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8042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26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98108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68580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762120" y="426672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885840" y="274320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3809520" y="4267080"/>
            <a:ext cx="11430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42856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97520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04252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9148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98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70716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728244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7773840" y="27432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738252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564048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396396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7773840" y="213372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743184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522972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564048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64976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564048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6"/>
          <p:cNvSpPr/>
          <p:nvPr/>
        </p:nvSpPr>
        <p:spPr>
          <a:xfrm flipV="1">
            <a:off x="564048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7"/>
          <p:cNvSpPr/>
          <p:nvPr/>
        </p:nvSpPr>
        <p:spPr>
          <a:xfrm flipV="1">
            <a:off x="564048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31396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29"/>
          <p:cNvSpPr/>
          <p:nvPr/>
        </p:nvSpPr>
        <p:spPr>
          <a:xfrm flipV="1">
            <a:off x="564048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415188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31"/>
          <p:cNvSpPr/>
          <p:nvPr/>
        </p:nvSpPr>
        <p:spPr>
          <a:xfrm>
            <a:off x="42688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24936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428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04624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75096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6"/>
          <p:cNvSpPr/>
          <p:nvPr/>
        </p:nvSpPr>
        <p:spPr>
          <a:xfrm flipV="1">
            <a:off x="82692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39625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8"/>
          <p:cNvSpPr/>
          <p:nvPr/>
        </p:nvSpPr>
        <p:spPr>
          <a:xfrm flipH="1" flipV="1">
            <a:off x="4038120" y="403848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49372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566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546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54168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43:56Z</dcterms:created>
  <dc:creator>toshiba</dc:creator>
  <dc:description/>
  <dc:language>en-US</dc:language>
  <cp:lastModifiedBy>Luis Zaviezo</cp:lastModifiedBy>
  <dcterms:modified xsi:type="dcterms:W3CDTF">2009-11-18T20:04:38Z</dcterms:modified>
  <cp:revision>29</cp:revision>
  <dc:subject/>
  <dc:title>Modelo de Negocios</dc:title>
</cp:coreProperties>
</file>