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E1DD-23E7-4130-9113-A95755F357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A297-526F-4328-936B-29907F9391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E0E-56BB-46F9-8E04-7FC0CABEA8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BA4-EC0D-4470-B1A9-437FB866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88C-7C8D-45D9-9B8C-70F5E363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0F5-094E-49F4-8906-52F28458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476-8104-4EA1-93D7-8B058E4A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EE6-79F8-4185-9793-692EE1BA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68A-40DE-410F-8780-8460ED97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4C5-76B4-4B82-8DBC-007AC5DF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C83-F382-4E93-A235-06D2EA83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A3A-AF9A-492A-ABD7-BEA5EEAE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CB8-F3B0-4DDF-A41B-B28165E5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9BF-3501-4FFA-9916-9A2B2C5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548-C04C-4AFC-A7F3-14E66AB5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C247-9142-47F8-9AD1-6EACD6EF7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84120" y="128520"/>
          <a:ext cx="7904160" cy="66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8520"/>
                    <a:ext cx="79041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255600" y="471600"/>
          <a:ext cx="8593200" cy="53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471600"/>
                    <a:ext cx="8593200" cy="53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698400" y="461880"/>
          <a:ext cx="788508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61880"/>
                    <a:ext cx="788508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52520" y="166680"/>
          <a:ext cx="774684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6680"/>
                    <a:ext cx="774684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3-16T15:08:21Z</dcterms:modified>
  <cp:revision>67</cp:revision>
  <dc:subject/>
  <dc:title>Sin título de diapositiva</dc:title>
</cp:coreProperties>
</file>