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1CE5-AD53-4F29-8319-1E3FA353FF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64AA-7FE2-423B-9AC1-065702DD739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365F-57F4-43B0-9AEA-BFA055E0A8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6BC-FABC-43FF-AC6F-C5CCC399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661B-BC53-4458-8D22-0DA9E8EB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0F16-1EF4-4316-8E66-09312236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23B-47C7-4A17-818C-FAF4D2D2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0E3-5CCD-4CB2-8645-4E7E810E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0D6-6147-471A-A21B-EEA8BFF6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1F2D-955C-4977-8802-30F10671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FBE-D91F-44B3-BD24-72A24921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71FF-7867-4D9D-93B8-3214CA0A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5C8-B09E-4D66-907B-606CCF82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E13-96A3-416F-8404-D0AF640E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A34-0002-4481-B329-4800CCD1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2D30-59B9-4BA1-B051-3AC9F6688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90440" y="600120"/>
          <a:ext cx="7267680" cy="75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600120"/>
                    <a:ext cx="7267680" cy="75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3"/>
          <p:cNvGraphicFramePr/>
          <p:nvPr/>
        </p:nvGraphicFramePr>
        <p:xfrm>
          <a:off x="797040" y="717480"/>
          <a:ext cx="8072280" cy="613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717480"/>
                    <a:ext cx="807228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766800" y="668160"/>
          <a:ext cx="8190000" cy="708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68160"/>
                    <a:ext cx="8190000" cy="708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747720" y="806400"/>
          <a:ext cx="7816680" cy="520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806400"/>
                    <a:ext cx="781668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33440" y="461880"/>
          <a:ext cx="8375760" cy="604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61880"/>
                    <a:ext cx="8375760" cy="60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501480" y="649440"/>
          <a:ext cx="836784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649440"/>
                    <a:ext cx="836784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41440" y="480960"/>
          <a:ext cx="8426520" cy="71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80960"/>
                    <a:ext cx="8426520" cy="71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5"/>
          <p:cNvGraphicFramePr/>
          <p:nvPr/>
        </p:nvGraphicFramePr>
        <p:xfrm>
          <a:off x="550800" y="511200"/>
          <a:ext cx="815976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15976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550800" y="511200"/>
          <a:ext cx="8072640" cy="659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7264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suma(x,y)#x + (x+1) + … +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permutaciones(x,y) #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combinaciones(x,y) #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fibonacci(i)#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inverso(x)#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1268280" y="797040"/>
          <a:ext cx="7000920" cy="53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797040"/>
                    <a:ext cx="700092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042920" y="776160"/>
          <a:ext cx="7423200" cy="586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76160"/>
                    <a:ext cx="742320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66800" y="480960"/>
          <a:ext cx="8130960" cy="62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8130960" cy="62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766800" y="480960"/>
          <a:ext cx="7983360" cy="64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7983360" cy="64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914400" y="619200"/>
          <a:ext cx="730584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19200"/>
                    <a:ext cx="730584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1130400" y="923760"/>
          <a:ext cx="7305480" cy="524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3760"/>
                    <a:ext cx="7305480" cy="52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11-03-24T17:32:43Z</dcterms:modified>
  <cp:revision>45</cp:revision>
  <dc:subject/>
  <dc:title>Sin título de diapositiva</dc:title>
</cp:coreProperties>
</file>