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030C-133C-4EAE-8E78-91A54006E4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D52-66BB-469E-94D2-EA73BBA17E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66BF-9381-44E0-BA33-FD552CFD26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0063-FE46-4042-88CA-598EE89875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CC8-55A9-4D38-93B8-DFDA74C213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FFB-D89F-4BF1-97FF-B94945D5F4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6F98-9BD8-485F-9B80-170E3550EA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8A05-46B2-471B-B898-148952BF6D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A40F-5B0A-4320-BB45-3A00EB23D2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E544-033E-4110-B05A-797059F924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4AD-0524-4FBA-83D1-C4B47B73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A2A-1262-46F8-A331-59AF6B1E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0D0-FF97-4662-8EAE-2EAD7EF8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69C-77D3-485A-871C-C31B96A7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D6B-2E7A-47F0-9CB8-CCEFC1B8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1CC-22D5-4283-AADD-F802AF2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C9-A67A-49E7-831C-18BF5070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B84-706C-4348-A4F6-AAECF8B2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9D2-096C-4C89-AFAE-57EA08B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A62-552E-4DD2-BD65-7EB2FDFA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8F1-C6D1-493E-8E1F-8426C62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42C-3A59-4F7A-BB7C-76EC5762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D45F-48EC-471A-AFB7-3423193747F4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nstrucción 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instrucción whil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52600" y="190440"/>
          <a:ext cx="819144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90440"/>
                    <a:ext cx="819144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 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395280" y="115920"/>
          <a:ext cx="795348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5348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50920" y="21816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probando sólo con imp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==2: return True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False #otro par no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x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i=3,5,…,x-1 (imp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probando hasta raí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 hay divisor &gt; también hay &l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x==2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=int(math.sqrt(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#i=3,5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569080" cy="64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factoria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actorial(x-1)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#recu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10: retur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tencia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==0: retur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tencia(x,y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%2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p *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 * p *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+1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,y-1)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números de fibonacci: 0,1,1,2,3,5,8,13,21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): #i-ésimo n° de fibona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i&lt;=2: return i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C(x,y)=C(x-1,y)+C(x-1,y-1); C(x,x)=C(x,0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x==y or y==0:  retur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) 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380880"/>
          <a:ext cx="845820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237960" y="933480"/>
          <a:ext cx="8610840" cy="62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33480"/>
                    <a:ext cx="861084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438120" y="276120"/>
          <a:ext cx="7686720" cy="68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76120"/>
                    <a:ext cx="76867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c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Rectángulo"/>
          <p:cNvSpPr/>
          <p:nvPr/>
        </p:nvSpPr>
        <p:spPr>
          <a:xfrm>
            <a:off x="179280" y="260280"/>
            <a:ext cx="8964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,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1 or m==3 or m==5 or m==7 \#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m==8 or m==10 or m==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4 or m==6 or m==9 or m==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bisiesto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 #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de 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%400==0:   #si es divisible por 4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100==0: #si es divisible por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4==0:   #si es divisible po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         #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00==0 or x%100!=0 and x%4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and x%100!=0 or x%40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3-30T10:20:52Z</dcterms:modified>
  <cp:revision>202</cp:revision>
  <dc:subject/>
  <dc:title>Diapositiva 1</dc:title>
</cp:coreProperties>
</file>