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AD87-6A60-41D2-AB50-173FD4E1B54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BA58-805D-4C81-BF12-4CEAA79172F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1D38-2170-4912-BAF8-CBB641E21A6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9D88-04D3-4750-9D66-61A47A21459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A55C-FEAC-4778-987C-052C4183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960E-B209-49F7-9E83-3B9951E7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F8C5-D002-4E96-A8BD-100D8B8F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1B85-02C1-4501-B517-225B2C963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249B-8451-4822-BA76-2A43A1AF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765E-55DF-49F5-81E2-F3FDDB20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8CC9-7B7F-4A47-94A8-4DF19D8D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6308-BBEB-4B00-865A-C4A33996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504D-D57C-4060-91A6-A3D35082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4C3F-A47B-4B84-9A75-E677C3FC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A682-FF70-4210-B991-2E2B53F2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EE0D-DCAE-4A2E-AE04-401AFAB8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FEF4-3A67-4FD9-BE34-BC8B3311D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471600" y="406440"/>
          <a:ext cx="7905600" cy="64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0560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5"/>
          <p:cNvGraphicFramePr/>
          <p:nvPr/>
        </p:nvGraphicFramePr>
        <p:xfrm>
          <a:off x="396720" y="258840"/>
          <a:ext cx="8386920" cy="6381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720" y="258840"/>
                    <a:ext cx="83869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471600" y="406440"/>
          <a:ext cx="8099280" cy="664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8099280" cy="66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471600" y="415800"/>
          <a:ext cx="8256600" cy="651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15800"/>
                    <a:ext cx="82566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471600" y="406440"/>
          <a:ext cx="7886520" cy="71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86520" cy="71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471600" y="406440"/>
          <a:ext cx="7988040" cy="720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88040" cy="72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461880" y="480960"/>
          <a:ext cx="8318520" cy="665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480960"/>
                    <a:ext cx="8318520" cy="665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609480" y="415800"/>
          <a:ext cx="8147160" cy="636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5800"/>
                    <a:ext cx="8147160" cy="63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831960" y="573120"/>
          <a:ext cx="8053200" cy="56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573120"/>
                    <a:ext cx="8053200" cy="56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295200" y="369720"/>
          <a:ext cx="8756640" cy="628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369720"/>
                    <a:ext cx="8756640" cy="628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471600" y="379440"/>
          <a:ext cx="834840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79440"/>
                    <a:ext cx="834840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757080" y="831960"/>
          <a:ext cx="7813800" cy="543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831960"/>
                    <a:ext cx="7813800" cy="54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684360" y="415800"/>
          <a:ext cx="8229600" cy="68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5800"/>
                    <a:ext cx="8229600" cy="68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684360" y="415800"/>
          <a:ext cx="8210520" cy="68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5800"/>
                    <a:ext cx="821052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71600" y="406440"/>
          <a:ext cx="78786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786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6-03-30T20:21:23Z</cp:lastPrinted>
  <dcterms:modified xsi:type="dcterms:W3CDTF">2011-03-31T17:00:05Z</dcterms:modified>
  <cp:revision>72</cp:revision>
  <dc:subject/>
  <dc:title>Sin título de diapositiva</dc:title>
</cp:coreProperties>
</file>