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7E94-3218-4667-829A-80816AB59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EC5F-1898-4A3D-B9A7-63281AD3B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186F-6010-4186-93BE-D5DBFB11C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E3B4-1906-4EB8-AC14-4F79CDC06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AB6E-2B45-478E-B9E1-1D0D068DE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3E46-9260-40C4-BA17-2A5D6C894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A5C1-A90D-46DB-A5A6-63C4DCBF7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123E-FDC2-462C-B7C5-14EECE8D7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741C-E99F-4685-A218-8BF637D53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B551-2AC6-47DB-B2FF-5B1961EAC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0841-65ED-4119-A0D7-0FB266A91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054B-50C6-45E0-B732-53D60B017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9141-5D78-4BA2-9F94-ECA52CBC4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9775-710F-46C1-8CA8-39EF2EFE2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20FB-1241-45CF-8AC7-993157297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FDD2-EA56-4E7B-8420-F7FB31C95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E5D5-326E-4BB2-AF13-700A46FCD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908A-A8C1-4B08-823C-C31C297CA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9072-C02E-4B18-BB2B-52095B26C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5884-E444-49F7-AF53-5BFA58EF5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AD35-E4F9-4264-AB99-6CFC863CA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A67F-1473-4162-9FF7-550B9A799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615D-C2A9-437B-BA1A-E382E937D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71C7-C7E6-4D03-8A7D-65D1F29C9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B522-07AC-49D6-8908-BEC54311D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64710-D394-4F49-BA22-B43F7B3CAE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2AC7B-E2DE-4485-92E6-4C613F096A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84127-955E-4EAB-A211-0BCF84B7A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E61F1-07A7-47EE-B04C-7DCDDAEE99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012AC-5AD3-4536-8EBA-FD55181BD3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83808-3593-4ADA-ABA1-FD0C5F620C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C89C0-205A-46C7-A9CC-E88E5459FA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683A0-792D-4054-BF88-B2A2EFA445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0A527-2672-4758-B82F-BE28379B08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E2817-F0AE-4F5B-8A8B-92C3F565CC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6A0EE-6FBE-4909-83B9-C39BEDE5F7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FA583-2FE9-478F-80F9-1CDCA86ED9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–</a:t>
            </a:r>
            <a:fld id="{67D6C2BA-080C-4B20-A04B-D2570B20B49B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3840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044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6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-Level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6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436680" y="1074600"/>
            <a:ext cx="413532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Creat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es of scope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ring core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ower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ing competitors through multipoint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economies (un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restru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1066680"/>
            <a:ext cx="3886200" cy="49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Neutral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trus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 future cash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reduction for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Reduc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ifying managerial employment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managerial 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18FC7-3808-4731-B389-0DD60C60874C}" type="slidenum">
              <a:t>10</a:t>
            </a:fld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458520" y="51084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65320" y="51084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alue-Creating Strategies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986200" y="1508040"/>
            <a:ext cx="49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al and Corporate Relate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54360" y="5530680"/>
            <a:ext cx="53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Relatedness: Transferring Skills into Businesses through Corporate Head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960" y="2852640"/>
            <a:ext cx="194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Relatedness: Sharing Activities between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39520" y="21146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09000" y="4648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89120" y="2041560"/>
            <a:ext cx="2894040" cy="1511280"/>
            <a:chOff x="2589120" y="2041560"/>
            <a:chExt cx="2894040" cy="1511280"/>
          </a:xfrm>
        </p:grpSpPr>
        <p:sp>
          <p:nvSpPr>
            <p:cNvPr id="214" name=""/>
            <p:cNvSpPr/>
            <p:nvPr/>
          </p:nvSpPr>
          <p:spPr>
            <a:xfrm>
              <a:off x="2589120" y="204156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4000" y="212868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Constrain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ertical Integr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Market Pow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592360" y="3595680"/>
            <a:ext cx="2893680" cy="1511280"/>
            <a:chOff x="2592360" y="3595680"/>
            <a:chExt cx="2893680" cy="1511280"/>
          </a:xfrm>
        </p:grpSpPr>
        <p:grpSp>
          <p:nvGrpSpPr>
            <p:cNvPr id="217" name=""/>
            <p:cNvGrpSpPr/>
            <p:nvPr/>
          </p:nvGrpSpPr>
          <p:grpSpPr>
            <a:xfrm>
              <a:off x="2592360" y="3595680"/>
              <a:ext cx="2893680" cy="1511280"/>
              <a:chOff x="2592360" y="3595680"/>
              <a:chExt cx="2893680" cy="1511280"/>
            </a:xfrm>
          </p:grpSpPr>
          <p:sp>
            <p:nvSpPr>
              <p:cNvPr id="218" name=""/>
              <p:cNvSpPr/>
              <p:nvPr/>
            </p:nvSpPr>
            <p:spPr>
              <a:xfrm>
                <a:off x="2592360" y="359568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678400" y="364032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2705040" y="366552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nrelate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Financial Economi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514840" y="3595680"/>
            <a:ext cx="2894040" cy="1511280"/>
            <a:chOff x="5514840" y="3595680"/>
            <a:chExt cx="2894040" cy="1511280"/>
          </a:xfrm>
        </p:grpSpPr>
        <p:sp>
          <p:nvSpPr>
            <p:cNvPr id="222" name=""/>
            <p:cNvSpPr/>
            <p:nvPr/>
          </p:nvSpPr>
          <p:spPr>
            <a:xfrm>
              <a:off x="5514840" y="359568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89720" y="368280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Link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514840" y="2041560"/>
            <a:ext cx="2893680" cy="1511280"/>
            <a:chOff x="5514840" y="2041560"/>
            <a:chExt cx="2893680" cy="1511280"/>
          </a:xfrm>
        </p:grpSpPr>
        <p:grpSp>
          <p:nvGrpSpPr>
            <p:cNvPr id="225" name=""/>
            <p:cNvGrpSpPr/>
            <p:nvPr/>
          </p:nvGrpSpPr>
          <p:grpSpPr>
            <a:xfrm>
              <a:off x="5514840" y="2041560"/>
              <a:ext cx="2893680" cy="1511280"/>
              <a:chOff x="5514840" y="2041560"/>
              <a:chExt cx="2893680" cy="1511280"/>
            </a:xfrm>
          </p:grpSpPr>
          <p:sp>
            <p:nvSpPr>
              <p:cNvPr id="226" name=""/>
              <p:cNvSpPr/>
              <p:nvPr/>
            </p:nvSpPr>
            <p:spPr>
              <a:xfrm>
                <a:off x="5514840" y="204156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00880" y="208620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5627520" y="211140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oth Operational and Corporate Relatedness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Rare capability that creates dis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638FB-58CC-4040-B9E9-8A16C13FCB82}" type="slidenum">
              <a:t>11</a:t>
            </a:fld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934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-Creating Diversification Strategies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ional and Corporate Relatednes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74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CBE16-B153-4359-A718-4601EBB63624}" type="slidenum">
              <a:t>12</a:t>
            </a:fld>
          </a:p>
        </p:txBody>
      </p:sp>
    </p:spTree>
  </p:cSld>
  <p:transition>
    <p:random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 creates value by building upon or extending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op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savings that occur when a firm transfers capabilities and competencies developed in one of its businesses to another of its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D016A-E644-4761-A765-BF77D96A8D65}" type="slidenum">
              <a:t>13</a:t>
            </a:fld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Economies of Sco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is created from economies of scope throug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onal relatedness in sharing activ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relatedness in transferring skills or corporate core competencies among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ifference between sharing activities and transferring competencies is based on how the resources are jointly used to create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B4BE3-4C11-4032-80E4-2111C0204B69}" type="slidenum">
              <a:t>14</a:t>
            </a:fld>
          </a:p>
        </p:txBody>
      </p:sp>
    </p:spTree>
  </p:cSld>
  <p:transition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haring Activ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al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d by sharing either a primary activity such as inventory delivery systems, or a support activity such as purchas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requires sharing strategic control over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may create risk because business-unit ties create links between outcomes.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5246E-0096-4B3E-9E0C-D0D4656D3AF2}" type="slidenum">
              <a:t>15</a:t>
            </a:fld>
          </a:p>
        </p:txBody>
      </p:sp>
    </p:spTree>
  </p:cSld>
  <p:transition>
    <p:random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ransferring Corporat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ing complex sets of resources and capabilities to link different businesses through managerial and technological knowledge, experience, and expertis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73B3A-2E5A-4182-AE04-B66DAC0916ED}" type="slidenum">
              <a:t>16</a:t>
            </a:fld>
          </a:p>
        </p:txBody>
      </p:sp>
    </p:spTree>
  </p:cSld>
  <p:transition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Relatedn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value in two way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liminates resource duplication in the need to allocate resources for a second unit to develop a competence that already exists in another 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intangible resources (resource intangibility) that are difficult for competitors to understand and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ansferred intangible resource gives the unit receiving it an immediate competitive advantage over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85748-EAB5-4DD2-963C-1EE43B625E6C}" type="slidenum">
              <a:t>17</a:t>
            </a:fld>
          </a:p>
        </p:txBody>
      </p:sp>
    </p:spTree>
  </p:cSld>
  <p:transition>
    <p:random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power exists when a firm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l its products above the existing competitive level and/or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e the costs of its primary and support activities below the competitive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8E2EF-ADDC-4BB3-9013-FF2A564AE3BF}" type="slidenum">
              <a:t>18</a:t>
            </a:fld>
          </a:p>
        </p:txBody>
      </p:sp>
    </p:spTree>
  </p:cSld>
  <p:transition>
    <p:random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point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diversified firms simultaneously compete in the same product areas or geographic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Integ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produces its own in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operates its own distribution system for delivering its out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A1737-858C-44A6-9C6C-ECEDDC69A586}" type="slidenum">
              <a:t>19</a:t>
            </a:fld>
          </a:p>
        </p:txBody>
      </p:sp>
    </p:spTree>
  </p:cSld>
  <p:transition>
    <p:random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corporate-level strategy and discuss its purpos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different levels of diversification with different corporate-level strateg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ree primary reasons firms diversif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ow firms can create value by using a 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two ways value can be created with an un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the incentives and resources that encourage diversifica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motives that can encourage managers to overdiversify a firm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4C745-4377-4308-8AEE-C30D006FD119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Complexit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multaneous Operational Relatedness and 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managing two sources of knowledge simultaneously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y such efforts often fail because of implementation difficul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B97C5-F8A6-48BB-90DA-4CA481334D86}" type="slidenum">
              <a:t>20</a:t>
            </a:fld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st savings realized through improved allocations of financi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nvestments inside or outside the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 value through two types of financial economie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of other corporations and the restructuring thei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EB293-4726-4A8D-85FC-175087A2E8E2}" type="slidenum">
              <a:t>21</a:t>
            </a:fld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icient Internal Capital Market Allo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 distributes capital to business divisions to create value for overall compan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office gains access to information about those businesses’ actual and prospective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glomerates have a fairly short life cycle because financial economies are more easily duplicated by competitors than are gains from operational and corporate related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40A35-22E7-4D16-9F43-FBD94AFDA0D8}" type="slidenum">
              <a:t>22</a:t>
            </a:fld>
          </a:p>
        </p:txBody>
      </p:sp>
    </p:spTree>
  </p:cSld>
  <p:transition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: Restructur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tructuring creates 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creates value by buying and selling other firms’ assets in the external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ource allocation decisions may become complex, so success often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mature, low-technology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businesses not reliant on a client orient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5CE4D-B6C7-46B1-9DA2-070E0A576C9A}" type="slidenum">
              <a:t>23</a:t>
            </a:fld>
          </a:p>
        </p:txBody>
      </p:sp>
    </p:spTree>
  </p:cSld>
  <p:transition>
    <p:random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1469880"/>
            <a:ext cx="495288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titrust laws in 1960s and 1970s discouraged mergers that created increased market power (vertical or horizontal integ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ergers in the 1960s and 1970s thus tended to be unre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laxation of antitrust enforcement results in more and larger horizontal mer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arly 2000: antitrust concerns seem to be emerging and mergers now more closely scrutin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0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131"/>
                </a:lnTo>
                <a:cubicBezTo>
                  <a:pt x="10800" y="2131"/>
                  <a:pt x="5400" y="2131"/>
                  <a:pt x="0" y="2131"/>
                </a:cubicBezTo>
                <a:cubicBezTo>
                  <a:pt x="5400" y="2131"/>
                  <a:pt x="10800" y="2131"/>
                  <a:pt x="10800" y="2131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0EE17-5343-4F9B-85C4-4982239B6967}" type="slidenum">
              <a:t>24</a:t>
            </a:fld>
          </a:p>
        </p:txBody>
      </p:sp>
    </p:spTree>
  </p:cSld>
  <p:transition>
    <p:random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1469880"/>
            <a:ext cx="495288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igh tax rates on dividends cause a corporate shift from dividends to buying and building companies in high-performance indus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1986 Tax Reform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Reduced individual ordinary income tax rate from 50 to 28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reated capital gains as ordinary in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hus created incentive for shareholders to prefer dividends to acquisition invest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6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732040" y="1393920"/>
            <a:ext cx="1295280" cy="4244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244760"/>
              <a:gd name="textAreaBottom" fmla="*/ 4245120 h 424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7020"/>
                </a:lnTo>
                <a:cubicBezTo>
                  <a:pt x="10800" y="7020"/>
                  <a:pt x="5400" y="7020"/>
                  <a:pt x="0" y="7020"/>
                </a:cubicBezTo>
                <a:cubicBezTo>
                  <a:pt x="5400" y="7020"/>
                  <a:pt x="10800" y="7020"/>
                  <a:pt x="10800" y="702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33520" y="2303640"/>
            <a:ext cx="2189160" cy="896760"/>
            <a:chOff x="533520" y="2303640"/>
            <a:chExt cx="2189160" cy="896760"/>
          </a:xfrm>
        </p:grpSpPr>
        <p:sp>
          <p:nvSpPr>
            <p:cNvPr id="270" name=""/>
            <p:cNvSpPr/>
            <p:nvPr/>
          </p:nvSpPr>
          <p:spPr>
            <a:xfrm>
              <a:off x="533520" y="230364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7120" y="238932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Tax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48BC4-1E6C-4DD3-9252-275C72F27FC7}" type="slidenum">
              <a:t>25</a:t>
            </a:fld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1438200"/>
            <a:ext cx="495288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igh performance eliminates the need for greate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w performance acts as incentive fo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rms plagued by poor performance often take higher risks (diversification is risk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75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04"/>
                </a:lnTo>
                <a:cubicBezTo>
                  <a:pt x="10800" y="2804"/>
                  <a:pt x="5400" y="2804"/>
                  <a:pt x="0" y="2804"/>
                </a:cubicBezTo>
                <a:cubicBezTo>
                  <a:pt x="5400" y="2804"/>
                  <a:pt x="10800" y="2804"/>
                  <a:pt x="10800" y="2804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4C3E9-B5B1-4851-8232-0D3723C53CE2}" type="slidenum">
              <a:t>26</a:t>
            </a:fld>
          </a:p>
        </p:txBody>
      </p:sp>
    </p:spTree>
  </p:cSld>
  <p:transition>
    <p:random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629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Curvilinear Relationship between Diversification and Performanc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492200" y="1447920"/>
            <a:ext cx="6143760" cy="4782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V="1">
            <a:off x="1809720" y="2286000"/>
            <a:ext cx="0" cy="312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73D03-A7A6-47A0-B8BB-8FA4ABE18D4A}" type="slidenum">
              <a:t>27</a:t>
            </a:fld>
          </a:p>
        </p:txBody>
      </p:sp>
    </p:spTree>
  </p:cSld>
  <p:transition>
    <p:random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1469880"/>
            <a:ext cx="4952880" cy="34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may be defensive strateg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m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is threat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is small and is in mature or maturing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88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9569"/>
                </a:lnTo>
                <a:cubicBezTo>
                  <a:pt x="10800" y="9569"/>
                  <a:pt x="5400" y="9569"/>
                  <a:pt x="0" y="9569"/>
                </a:cubicBezTo>
                <a:cubicBezTo>
                  <a:pt x="5400" y="9569"/>
                  <a:pt x="10800" y="9569"/>
                  <a:pt x="10800" y="956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292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AA6E4-968C-48B8-8FD0-5F4160CC4DD9}" type="slidenum">
              <a:t>28</a:t>
            </a:fld>
          </a:p>
        </p:txBody>
      </p:sp>
    </p:spTree>
  </p:cSld>
  <p:transition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500"/>
                            </p:stCondLst>
                            <p:childTnLst>
                              <p:par>
                                <p:cTn id="7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1469880"/>
            <a:ext cx="50292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ynergy exists when the value created by businesses working together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exceeds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the value created by them working independ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but synergy creates joint interdependence between business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become risk averse and constrain its level of activity sha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reduce level of technological change by operating in more certain enviro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97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3865"/>
                </a:lnTo>
                <a:cubicBezTo>
                  <a:pt x="10800" y="13865"/>
                  <a:pt x="5400" y="13865"/>
                  <a:pt x="0" y="13865"/>
                </a:cubicBezTo>
                <a:cubicBezTo>
                  <a:pt x="5400" y="13865"/>
                  <a:pt x="10800" y="13865"/>
                  <a:pt x="10800" y="1386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301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33520" y="3603600"/>
            <a:ext cx="2189160" cy="1277640"/>
            <a:chOff x="533520" y="3603600"/>
            <a:chExt cx="2189160" cy="1277640"/>
          </a:xfrm>
        </p:grpSpPr>
        <p:sp>
          <p:nvSpPr>
            <p:cNvPr id="304" name=""/>
            <p:cNvSpPr/>
            <p:nvPr/>
          </p:nvSpPr>
          <p:spPr>
            <a:xfrm>
              <a:off x="533520" y="3603600"/>
              <a:ext cx="2189160" cy="12776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7120" y="3725640"/>
              <a:ext cx="2000160" cy="1031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Synergy and Risk 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E3AF9-7C1E-4336-86F0-B146C84320F9}" type="slidenum">
              <a:t>29</a:t>
            </a:fld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500"/>
                            </p:stCondLst>
                            <p:childTnLst>
                              <p:par>
                                <p:cTn id="8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ole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ies play a major role in the behavior of large firm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versification conc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cope of the industries and markets in which the firm compet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 managers buy, create and sell different businesses to match skills and strengths with opportunities presented to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3973D-8C46-42E3-94F4-08627E2BAD9C}" type="slidenum">
              <a:t>3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 must have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entives to diversif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esources required to create value through diversification—cash and tangible resources (e.g., plant and equipmen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creation is determined more by appropriate use of resources than by incentives to diversif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Motives to Diversif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risk reduc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increased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29785-39D0-43CE-B6CE-4D8D23CA84AA}" type="slidenum">
              <a:t>30</a:t>
            </a:fld>
          </a:p>
        </p:txBody>
      </p:sp>
    </p:spTree>
  </p:cSld>
  <p:transition>
    <p:random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6419880" cy="57736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867280" y="447840"/>
            <a:ext cx="2819520" cy="17618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477120" y="561960"/>
            <a:ext cx="228600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4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mary Model of the Relationship between Firm Performance and Diversifica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632448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588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9920" y="59151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R. E. Hoskisson &amp; M. A. Hitt, 1990, Antecedents and performance outcomes of diversification: A review and critique of theoretical perspectives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ournal of Management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: 498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CB22A-3AE3-49DF-816B-BEABC27C3AB6}" type="slidenum">
              <a:t>31</a:t>
            </a:fld>
          </a:p>
        </p:txBody>
      </p:sp>
    </p:spTree>
  </p:cSld>
  <p:transition>
    <p:random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wo Strategy Leve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siness-level Strategy (Competitiv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business unit in a diversified firm chooses a business-level strategy as its means of competing in individual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 (Companywid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actions taken by the firm to gain a competitive advantage by selecting and managing a group of different businesses competing in several industries and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3303F-8D0A-4CC9-ABCD-6500CCD1E2A4}" type="slidenum">
              <a:t>4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y: Key Ques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’s Valu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degree to which the businesses in the portfolio are worth more under the management of the company than they would be under other ownership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hat businesses should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 firm be in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ow should the corporat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ffice manage th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group of businesses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397560" y="3429000"/>
            <a:ext cx="811440" cy="517320"/>
            <a:chOff x="6397560" y="3429000"/>
            <a:chExt cx="811440" cy="517320"/>
          </a:xfrm>
        </p:grpSpPr>
        <p:sp>
          <p:nvSpPr>
            <p:cNvPr id="107" name=""/>
            <p:cNvSpPr/>
            <p:nvPr/>
          </p:nvSpPr>
          <p:spPr>
            <a:xfrm>
              <a:off x="6397560" y="3429000"/>
              <a:ext cx="811440" cy="517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56600" y="3484440"/>
              <a:ext cx="691920" cy="404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433840" y="4249800"/>
            <a:ext cx="2738520" cy="519120"/>
            <a:chOff x="5433840" y="4249800"/>
            <a:chExt cx="2738520" cy="519120"/>
          </a:xfrm>
        </p:grpSpPr>
        <p:grpSp>
          <p:nvGrpSpPr>
            <p:cNvPr id="110" name=""/>
            <p:cNvGrpSpPr/>
            <p:nvPr/>
          </p:nvGrpSpPr>
          <p:grpSpPr>
            <a:xfrm>
              <a:off x="7360920" y="4249800"/>
              <a:ext cx="811440" cy="517680"/>
              <a:chOff x="7360920" y="4249800"/>
              <a:chExt cx="811440" cy="517680"/>
            </a:xfrm>
          </p:grpSpPr>
          <p:sp>
            <p:nvSpPr>
              <p:cNvPr id="111" name=""/>
              <p:cNvSpPr/>
              <p:nvPr/>
            </p:nvSpPr>
            <p:spPr>
              <a:xfrm>
                <a:off x="7360920" y="424980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19600" y="4305600"/>
                <a:ext cx="692280" cy="4046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433840" y="4251600"/>
              <a:ext cx="811080" cy="517320"/>
              <a:chOff x="5433840" y="4251600"/>
              <a:chExt cx="811080" cy="517320"/>
            </a:xfrm>
          </p:grpSpPr>
          <p:sp>
            <p:nvSpPr>
              <p:cNvPr id="114" name=""/>
              <p:cNvSpPr/>
              <p:nvPr/>
            </p:nvSpPr>
            <p:spPr>
              <a:xfrm>
                <a:off x="5433840" y="425160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92520" y="4307040"/>
                <a:ext cx="692280" cy="4050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4952880" y="5073480"/>
            <a:ext cx="1774800" cy="519120"/>
            <a:chOff x="4952880" y="5073480"/>
            <a:chExt cx="1774800" cy="519120"/>
          </a:xfrm>
        </p:grpSpPr>
        <p:grpSp>
          <p:nvGrpSpPr>
            <p:cNvPr id="117" name=""/>
            <p:cNvGrpSpPr/>
            <p:nvPr/>
          </p:nvGrpSpPr>
          <p:grpSpPr>
            <a:xfrm>
              <a:off x="4952880" y="5074920"/>
              <a:ext cx="811080" cy="517680"/>
              <a:chOff x="4952880" y="5074920"/>
              <a:chExt cx="811080" cy="517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952880" y="5074920"/>
                <a:ext cx="81108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1560" y="5130720"/>
                <a:ext cx="691920" cy="40464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916240" y="5073480"/>
              <a:ext cx="811440" cy="517680"/>
              <a:chOff x="5916240" y="5073480"/>
              <a:chExt cx="811440" cy="517680"/>
            </a:xfrm>
          </p:grpSpPr>
          <p:sp>
            <p:nvSpPr>
              <p:cNvPr id="121" name=""/>
              <p:cNvSpPr/>
              <p:nvPr/>
            </p:nvSpPr>
            <p:spPr>
              <a:xfrm>
                <a:off x="5916240" y="507348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75280" y="5128920"/>
                <a:ext cx="691920" cy="40500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6880320" y="5075280"/>
            <a:ext cx="1774800" cy="517320"/>
            <a:chOff x="6880320" y="5075280"/>
            <a:chExt cx="1774800" cy="517320"/>
          </a:xfrm>
        </p:grpSpPr>
        <p:grpSp>
          <p:nvGrpSpPr>
            <p:cNvPr id="124" name=""/>
            <p:cNvGrpSpPr/>
            <p:nvPr/>
          </p:nvGrpSpPr>
          <p:grpSpPr>
            <a:xfrm>
              <a:off x="6880320" y="5075280"/>
              <a:ext cx="811080" cy="517320"/>
              <a:chOff x="6880320" y="5075280"/>
              <a:chExt cx="811080" cy="517320"/>
            </a:xfrm>
          </p:grpSpPr>
          <p:sp>
            <p:nvSpPr>
              <p:cNvPr id="125" name=""/>
              <p:cNvSpPr/>
              <p:nvPr/>
            </p:nvSpPr>
            <p:spPr>
              <a:xfrm>
                <a:off x="688032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3900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7844040" y="5075280"/>
              <a:ext cx="811080" cy="517320"/>
              <a:chOff x="7844040" y="5075280"/>
              <a:chExt cx="811080" cy="517320"/>
            </a:xfrm>
          </p:grpSpPr>
          <p:sp>
            <p:nvSpPr>
              <p:cNvPr id="128" name=""/>
              <p:cNvSpPr/>
              <p:nvPr/>
            </p:nvSpPr>
            <p:spPr>
              <a:xfrm>
                <a:off x="784404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0272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839920" y="3946320"/>
            <a:ext cx="1926720" cy="305280"/>
            <a:chOff x="5839920" y="3946320"/>
            <a:chExt cx="1926720" cy="305280"/>
          </a:xfrm>
        </p:grpSpPr>
        <p:cxnSp>
          <p:nvCxnSpPr>
            <p:cNvPr id="131" name=""/>
            <p:cNvCxnSpPr>
              <a:stCxn id="107" idx="2"/>
              <a:endCxn id="114" idx="0"/>
            </p:cNvCxnSpPr>
            <p:nvPr/>
          </p:nvCxnSpPr>
          <p:spPr>
            <a:xfrm rot="5400000">
              <a:off x="6168960" y="3617280"/>
              <a:ext cx="305280" cy="964080"/>
            </a:xfrm>
            <a:prstGeom prst="bentConnector3">
              <a:avLst>
                <a:gd name="adj1" fmla="val 4994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2" name=""/>
            <p:cNvCxnSpPr>
              <a:stCxn id="107" idx="2"/>
              <a:endCxn id="111" idx="0"/>
            </p:cNvCxnSpPr>
            <p:nvPr/>
          </p:nvCxnSpPr>
          <p:spPr>
            <a:xfrm flipH="1" rot="16200000">
              <a:off x="7133400" y="3615480"/>
              <a:ext cx="303120" cy="964440"/>
            </a:xfrm>
            <a:prstGeom prst="bentConnector3">
              <a:avLst>
                <a:gd name="adj1" fmla="val 4970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5358960" y="4768560"/>
            <a:ext cx="964080" cy="306360"/>
            <a:chOff x="5358960" y="4768560"/>
            <a:chExt cx="964080" cy="306360"/>
          </a:xfrm>
        </p:grpSpPr>
        <p:cxnSp>
          <p:nvCxnSpPr>
            <p:cNvPr id="134" name=""/>
            <p:cNvCxnSpPr>
              <a:stCxn id="114" idx="2"/>
              <a:endCxn id="118" idx="0"/>
            </p:cNvCxnSpPr>
            <p:nvPr/>
          </p:nvCxnSpPr>
          <p:spPr>
            <a:xfrm rot="5400000">
              <a:off x="5446080" y="4681080"/>
              <a:ext cx="306720" cy="481680"/>
            </a:xfrm>
            <a:prstGeom prst="bentConnector3">
              <a:avLst>
                <a:gd name="adj1" fmla="val 4970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" name=""/>
            <p:cNvCxnSpPr>
              <a:stCxn id="114" idx="2"/>
              <a:endCxn id="121" idx="0"/>
            </p:cNvCxnSpPr>
            <p:nvPr/>
          </p:nvCxnSpPr>
          <p:spPr>
            <a:xfrm flipH="1" rot="16200000">
              <a:off x="5928840" y="4679640"/>
              <a:ext cx="305640" cy="483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7286040" y="4710240"/>
            <a:ext cx="964080" cy="365400"/>
            <a:chOff x="7286040" y="4710240"/>
            <a:chExt cx="964080" cy="365400"/>
          </a:xfrm>
        </p:grpSpPr>
        <p:cxnSp>
          <p:nvCxnSpPr>
            <p:cNvPr id="137" name=""/>
            <p:cNvCxnSpPr>
              <a:endCxn id="125" idx="0"/>
            </p:cNvCxnSpPr>
            <p:nvPr/>
          </p:nvCxnSpPr>
          <p:spPr>
            <a:xfrm flipV="1" rot="10800000">
              <a:off x="7286040" y="4887720"/>
              <a:ext cx="513000" cy="18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12" idx="2"/>
              <a:endCxn id="128" idx="0"/>
            </p:cNvCxnSpPr>
            <p:nvPr/>
          </p:nvCxnSpPr>
          <p:spPr>
            <a:xfrm flipH="1" rot="16200000">
              <a:off x="7825320" y="4650480"/>
              <a:ext cx="365760" cy="484560"/>
            </a:xfrm>
            <a:prstGeom prst="bentConnector3">
              <a:avLst>
                <a:gd name="adj1" fmla="val 4995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39" name=""/>
          <p:cNvSpPr/>
          <p:nvPr/>
        </p:nvSpPr>
        <p:spPr>
          <a:xfrm>
            <a:off x="5942520" y="595476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495400" y="5594400"/>
            <a:ext cx="2683080" cy="396720"/>
            <a:chOff x="5495400" y="5594400"/>
            <a:chExt cx="2683080" cy="396720"/>
          </a:xfrm>
        </p:grpSpPr>
        <p:sp>
          <p:nvSpPr>
            <p:cNvPr id="141" name=""/>
            <p:cNvSpPr/>
            <p:nvPr/>
          </p:nvSpPr>
          <p:spPr>
            <a:xfrm flipH="1" flipV="1">
              <a:off x="5495400" y="5628600"/>
              <a:ext cx="1353960" cy="36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833880" y="5630760"/>
              <a:ext cx="1344600" cy="36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833880" y="5594400"/>
              <a:ext cx="397080" cy="39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470280" y="5611320"/>
              <a:ext cx="379440" cy="37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58664-E9B4-48D1-AFF1-F1CAA3FF6B3D}" type="slidenum">
              <a:t>5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Low Lev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41148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minant Busines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tween 70% and 95% of revenue comes from a single busin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791320" y="5315040"/>
            <a:ext cx="685800" cy="3189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248520" y="1371600"/>
            <a:ext cx="2132640" cy="2133000"/>
            <a:chOff x="6248520" y="1371600"/>
            <a:chExt cx="2132640" cy="2133000"/>
          </a:xfrm>
        </p:grpSpPr>
        <p:sp>
          <p:nvSpPr>
            <p:cNvPr id="149" name=""/>
            <p:cNvSpPr/>
            <p:nvPr/>
          </p:nvSpPr>
          <p:spPr>
            <a:xfrm>
              <a:off x="6248520" y="1371600"/>
              <a:ext cx="2132640" cy="21330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94320" y="1517400"/>
              <a:ext cx="1837800" cy="1838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400800" y="4038480"/>
            <a:ext cx="1904760" cy="1904760"/>
            <a:chOff x="6400800" y="4038480"/>
            <a:chExt cx="1904760" cy="1904760"/>
          </a:xfrm>
        </p:grpSpPr>
        <p:sp>
          <p:nvSpPr>
            <p:cNvPr id="152" name=""/>
            <p:cNvSpPr/>
            <p:nvPr/>
          </p:nvSpPr>
          <p:spPr>
            <a:xfrm>
              <a:off x="6400800" y="4038480"/>
              <a:ext cx="1904760" cy="1904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30760" y="4168440"/>
              <a:ext cx="1641240" cy="1641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952880" y="5410080"/>
            <a:ext cx="914400" cy="914400"/>
            <a:chOff x="4952880" y="5410080"/>
            <a:chExt cx="914400" cy="914400"/>
          </a:xfrm>
        </p:grpSpPr>
        <p:sp>
          <p:nvSpPr>
            <p:cNvPr id="155" name=""/>
            <p:cNvSpPr/>
            <p:nvPr/>
          </p:nvSpPr>
          <p:spPr>
            <a:xfrm>
              <a:off x="4952880" y="541008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15160" y="5472000"/>
              <a:ext cx="787680" cy="78804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85800" y="16318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ngl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than 95% of revenue comes from a singl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EB076-F08C-4299-A7BE-097E08F3B553}" type="slidenum">
              <a:t>6</a:t>
            </a:fld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Moderate to High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07880"/>
            <a:ext cx="3886200" cy="24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Constrain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a single business and all businesses share product, technological and distribution linkag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40370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6680" indent="-1666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Linked (mixed related and unrelated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12640" indent="-231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only limited links between business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10080" y="3952800"/>
            <a:ext cx="2828880" cy="2371680"/>
            <a:chOff x="5410080" y="3952800"/>
            <a:chExt cx="2828880" cy="2371680"/>
          </a:xfrm>
        </p:grpSpPr>
        <p:sp>
          <p:nvSpPr>
            <p:cNvPr id="162" name=""/>
            <p:cNvSpPr/>
            <p:nvPr/>
          </p:nvSpPr>
          <p:spPr>
            <a:xfrm flipH="1">
              <a:off x="6165360" y="4714920"/>
              <a:ext cx="61596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53120" y="5781600"/>
              <a:ext cx="144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7238880" y="5315040"/>
              <a:ext cx="1000080" cy="1000080"/>
              <a:chOff x="7238880" y="5315040"/>
              <a:chExt cx="1000080" cy="1000080"/>
            </a:xfrm>
          </p:grpSpPr>
          <p:sp>
            <p:nvSpPr>
              <p:cNvPr id="165" name=""/>
              <p:cNvSpPr/>
              <p:nvPr/>
            </p:nvSpPr>
            <p:spPr>
              <a:xfrm>
                <a:off x="7238880" y="53150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307280" y="538344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324480" y="3952800"/>
              <a:ext cx="1000080" cy="1000080"/>
              <a:chOff x="6324480" y="3952800"/>
              <a:chExt cx="1000080" cy="1000080"/>
            </a:xfrm>
          </p:grpSpPr>
          <p:sp>
            <p:nvSpPr>
              <p:cNvPr id="168" name=""/>
              <p:cNvSpPr/>
              <p:nvPr/>
            </p:nvSpPr>
            <p:spPr>
              <a:xfrm>
                <a:off x="632448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39288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410080" y="5324400"/>
              <a:ext cx="1000080" cy="1000080"/>
              <a:chOff x="5410080" y="5324400"/>
              <a:chExt cx="1000080" cy="1000080"/>
            </a:xfrm>
          </p:grpSpPr>
          <p:sp>
            <p:nvSpPr>
              <p:cNvPr id="171" name=""/>
              <p:cNvSpPr/>
              <p:nvPr/>
            </p:nvSpPr>
            <p:spPr>
              <a:xfrm>
                <a:off x="541008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7848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971640" y="3952800"/>
            <a:ext cx="2838240" cy="2371680"/>
            <a:chOff x="971640" y="3952800"/>
            <a:chExt cx="2838240" cy="2371680"/>
          </a:xfrm>
        </p:grpSpPr>
        <p:sp>
          <p:nvSpPr>
            <p:cNvPr id="174" name=""/>
            <p:cNvSpPr/>
            <p:nvPr/>
          </p:nvSpPr>
          <p:spPr>
            <a:xfrm>
              <a:off x="1743120" y="4724280"/>
              <a:ext cx="1295280" cy="11206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809800" y="5324400"/>
              <a:ext cx="1000080" cy="1000080"/>
              <a:chOff x="2809800" y="5324400"/>
              <a:chExt cx="1000080" cy="1000080"/>
            </a:xfrm>
          </p:grpSpPr>
          <p:sp>
            <p:nvSpPr>
              <p:cNvPr id="176" name=""/>
              <p:cNvSpPr/>
              <p:nvPr/>
            </p:nvSpPr>
            <p:spPr>
              <a:xfrm>
                <a:off x="280980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78200" y="53928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895400" y="3952800"/>
              <a:ext cx="1000080" cy="1000080"/>
              <a:chOff x="1895400" y="3952800"/>
              <a:chExt cx="1000080" cy="1000080"/>
            </a:xfrm>
          </p:grpSpPr>
          <p:sp>
            <p:nvSpPr>
              <p:cNvPr id="179" name=""/>
              <p:cNvSpPr/>
              <p:nvPr/>
            </p:nvSpPr>
            <p:spPr>
              <a:xfrm>
                <a:off x="189540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6380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971640" y="5324400"/>
              <a:ext cx="1000080" cy="1000080"/>
              <a:chOff x="971640" y="5324400"/>
              <a:chExt cx="1000080" cy="1000080"/>
            </a:xfrm>
          </p:grpSpPr>
          <p:sp>
            <p:nvSpPr>
              <p:cNvPr id="182" name=""/>
              <p:cNvSpPr/>
              <p:nvPr/>
            </p:nvSpPr>
            <p:spPr>
              <a:xfrm>
                <a:off x="97164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4004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D9ECB-5912-423A-BCFB-3AFA63485D82}" type="slidenum">
              <a:t>7</a:t>
            </a:fld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Very High Levels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related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no common links between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0080" y="4562640"/>
            <a:ext cx="1000080" cy="1000080"/>
            <a:chOff x="5410080" y="4562640"/>
            <a:chExt cx="1000080" cy="1000080"/>
          </a:xfrm>
        </p:grpSpPr>
        <p:sp>
          <p:nvSpPr>
            <p:cNvPr id="187" name=""/>
            <p:cNvSpPr/>
            <p:nvPr/>
          </p:nvSpPr>
          <p:spPr>
            <a:xfrm>
              <a:off x="541008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78480" y="4631040"/>
              <a:ext cx="861840" cy="8618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743200" y="4562640"/>
            <a:ext cx="1000080" cy="1000080"/>
            <a:chOff x="2743200" y="4562640"/>
            <a:chExt cx="1000080" cy="1000080"/>
          </a:xfrm>
        </p:grpSpPr>
        <p:sp>
          <p:nvSpPr>
            <p:cNvPr id="190" name=""/>
            <p:cNvSpPr/>
            <p:nvPr/>
          </p:nvSpPr>
          <p:spPr>
            <a:xfrm>
              <a:off x="274320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1600" y="4630680"/>
              <a:ext cx="861840" cy="86220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932280" y="3038400"/>
            <a:ext cx="1261800" cy="1261800"/>
            <a:chOff x="3932280" y="3038400"/>
            <a:chExt cx="1261800" cy="1261800"/>
          </a:xfrm>
        </p:grpSpPr>
        <p:sp>
          <p:nvSpPr>
            <p:cNvPr id="193" name=""/>
            <p:cNvSpPr/>
            <p:nvPr/>
          </p:nvSpPr>
          <p:spPr>
            <a:xfrm>
              <a:off x="3932280" y="3038400"/>
              <a:ext cx="1261800" cy="12618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18320" y="3124440"/>
              <a:ext cx="1087560" cy="10875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7CD05-D542-4313-B332-025C42AE0337}" type="slidenum">
              <a:t>8</a:t>
            </a:fld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49068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s and Types of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8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239240" cy="5172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6324480"/>
            <a:ext cx="701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Adapted from R. P. Rumelt, 1974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y, Structure and Economic Performance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ston: Harvard Business Schoo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131FB-460B-4DF2-B1CC-006932A5A93F}" type="slidenum">
              <a:t>9</a:t>
            </a:fld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dii</cp:lastModifiedBy>
  <dcterms:modified xsi:type="dcterms:W3CDTF">2007-06-12T13:36:47Z</dcterms:modified>
  <cp:revision>42</cp:revision>
  <dc:subject>Chapter 6</dc:subject>
  <dc:title>Strategic Management 7e.</dc:title>
</cp:coreProperties>
</file>