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A2CF-3541-4E3F-9BB8-D32D5A599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6164-F62D-437A-A79E-5A0186C1F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B533-2952-4BE3-9CFB-09E606230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D53D-E1CA-4CA7-AFE4-16F8EC298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581D-DD12-43C4-B108-43A92ACE2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650E-48A7-4E72-9C77-780B81ECF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2923-2795-4ABB-BBAA-6085D06AA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7601-6778-441D-BAD8-6E75128FF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4916-FDD1-41FB-964C-E7B7AC154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4F1C-9622-4914-8FAD-28B75DEB4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D6B9-992A-45E2-8407-9A6AD7CB7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2697-AEFA-41F1-A994-23B2581C4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66F6-FA2B-453D-B61E-571B8028B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175A-0F65-4A80-8D4F-7AD002D59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F913-59C0-44AD-97BB-4F23AFFFC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6908-07D1-46A4-B0E6-642395F69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A5B4-0CFE-4AE2-8DA2-631DEB620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2425-62A6-457C-BDCC-CB8235973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E609-1B31-4E5B-B1CD-59AEF371F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1119-E611-44AE-8C5F-9891A1853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58C3-CBE6-47CD-AA0F-9C8A959B7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2528-4014-413A-A647-2EB7BC839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EE9E-9446-4899-93A9-C835BA565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E6C7-B79C-4BC8-AE7A-5CA71B2BF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829F-4CF1-4162-A79A-F769DBDCF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D30B-9CF4-4B6B-9472-9908C381B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3358-D787-42CA-8AC6-BF5E9D7AE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76FF-0E0E-4F97-B5A9-71553931C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F239C-426B-415D-9127-46DF531D8B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29C5A-FBD1-4773-A737-81A16CB7E1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D495A-3708-43FE-8B83-04B6C25864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D92C1-C6F5-417D-9210-A340E7C798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06C80-B5DA-469E-B3F0-FD986D008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E330A-6CFD-4A8A-B80E-6F14C48F43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06A93-7450-471D-A41B-A5F63FCDB4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7C08A-AB5F-495C-B959-3A58F946C6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49C00-B9B3-4BE1-A3BC-C42968BCCE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8CC6B-2914-46A5-9B04-E97B2F3C05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7013D-D0BE-468A-91A3-C045BB32F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105EA-6F3C-4593-9787-4C130D4A5A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–</a:t>
            </a:r>
            <a:fld id="{5B3A7078-11CD-4BC8-A4C9-E17E10E8E856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590920"/>
            <a:ext cx="556272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ahoma"/>
              </a:rPr>
              <a:t>CHAPTER 9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operative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219320"/>
            <a:ext cx="156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7360" y="1884240"/>
            <a:ext cx="28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low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1884240"/>
            <a:ext cx="544032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access to a restricted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a franchise in a new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market stability (e.g., establishing standa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42DF3-9F44-4162-8E7E-2CCD56975A7E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219320"/>
            <a:ext cx="195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908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Fast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1908000"/>
            <a:ext cx="5410440" cy="40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development of new goods o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new market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market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n industry technology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risky R&amp;D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come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48EB6-C53A-4DD3-AA36-74FBD2C9999A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21932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9876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1851120"/>
            <a:ext cx="28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Standard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98760" y="1851120"/>
            <a:ext cx="521172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market power (reduce industry overcapa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access to complementary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economies of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come trade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 competitive challenges from other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l resources for very large capit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new busines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23BD3-7C26-4391-AA02-B3233ED393E3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-Level Cooperative Strategi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5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90680" y="1333440"/>
            <a:ext cx="636264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4E368-35F6-445B-9CF1-DD29B1CF2496}" type="slidenum">
              <a:t>13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usiness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05280" y="1371600"/>
            <a:ext cx="4781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bine partner firms’ assets in complementary ways to create new valu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clude distribution, supplier or outsourcing alliances where firms rely on upstream or downstream partners to build competitive advant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1371600"/>
            <a:ext cx="838440" cy="2819520"/>
          </a:xfrm>
          <a:custGeom>
            <a:avLst/>
            <a:gdLst>
              <a:gd name="textAreaLeft" fmla="*/ 535680 w 838440"/>
              <a:gd name="textAreaRight" fmla="*/ 838800 w 83844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892"/>
                </a:lnTo>
                <a:cubicBezTo>
                  <a:pt x="10800" y="3892"/>
                  <a:pt x="5400" y="3892"/>
                  <a:pt x="0" y="3892"/>
                </a:cubicBezTo>
                <a:cubicBezTo>
                  <a:pt x="5400" y="3892"/>
                  <a:pt x="10800" y="3892"/>
                  <a:pt x="10800" y="3892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9360" y="1332000"/>
            <a:ext cx="2955960" cy="1030320"/>
            <a:chOff x="549360" y="1332000"/>
            <a:chExt cx="2955960" cy="1030320"/>
          </a:xfrm>
        </p:grpSpPr>
        <p:sp>
          <p:nvSpPr>
            <p:cNvPr id="164" name=""/>
            <p:cNvSpPr/>
            <p:nvPr/>
          </p:nvSpPr>
          <p:spPr>
            <a:xfrm>
              <a:off x="549360" y="1332000"/>
              <a:ext cx="2955960" cy="1030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5520" y="1390680"/>
              <a:ext cx="2842920" cy="9129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35052-F70E-4C6A-A1D7-D9363D9C5752}" type="slidenum">
              <a:t>14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70200" y="304920"/>
            <a:ext cx="5445000" cy="6019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rcRect l="686" t="0" r="3416" b="0"/>
          <a:stretch/>
        </p:blipFill>
        <p:spPr>
          <a:xfrm>
            <a:off x="6578640" y="4572000"/>
            <a:ext cx="2066760" cy="16765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934320" y="4686480"/>
            <a:ext cx="175248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9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tical and Horizontal Complementary Strategic Alliance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6856560" y="47181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27960" y="501480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26D5F-5906-455D-87DB-8F8849CFD781}" type="slidenum">
              <a:t>15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lementary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3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Vertical Complementary Strategic Allia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ormed between firms that agree to use their skills and capabilities in different stages of the value chain to create value for both firm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sourcing is one example of this type of alli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3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rizontal Complementary Strategic Allia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ormed when partners who agree to combine their resources and skills to create value in the same stage of the value chain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is on long-term product development and distribution opportun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rtners may become competitors which requires a great deal of trust between the partn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6BFDE-5E18-4117-BAE6-B63D2AED459F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on Respons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062240" y="1409400"/>
            <a:ext cx="462456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81520" indent="-281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Occur when firms join forces to respond to a strategic action of another competitor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1520" indent="-281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ecause they can be difficult to reverse and expensive to operate, strategic alliances are primarily formed to respond to strategic rather than tactical ac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1447920"/>
            <a:ext cx="838080" cy="335268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352680"/>
              <a:gd name="textAreaBottom" fmla="*/ 335304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299"/>
                </a:lnTo>
                <a:cubicBezTo>
                  <a:pt x="10800" y="10299"/>
                  <a:pt x="5400" y="10299"/>
                  <a:pt x="0" y="10299"/>
                </a:cubicBezTo>
                <a:cubicBezTo>
                  <a:pt x="5400" y="10299"/>
                  <a:pt x="10800" y="10299"/>
                  <a:pt x="10800" y="1029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20560" y="1407960"/>
            <a:ext cx="3124440" cy="1106280"/>
            <a:chOff x="520560" y="1407960"/>
            <a:chExt cx="3124440" cy="1106280"/>
          </a:xfrm>
        </p:grpSpPr>
        <p:sp>
          <p:nvSpPr>
            <p:cNvPr id="177" name=""/>
            <p:cNvSpPr/>
            <p:nvPr/>
          </p:nvSpPr>
          <p:spPr>
            <a:xfrm>
              <a:off x="520560" y="14079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9960" y="14709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33520" y="2548080"/>
            <a:ext cx="3124080" cy="1053720"/>
            <a:chOff x="533520" y="2548080"/>
            <a:chExt cx="3124080" cy="1053720"/>
          </a:xfrm>
        </p:grpSpPr>
        <p:sp>
          <p:nvSpPr>
            <p:cNvPr id="180" name=""/>
            <p:cNvSpPr/>
            <p:nvPr/>
          </p:nvSpPr>
          <p:spPr>
            <a:xfrm>
              <a:off x="533520" y="25480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2920" y="26078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EFFF5-FDD6-4A9D-9E3D-A01319262590}" type="slidenum">
              <a:t>17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Uncertainty-Reducing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62240" y="1379520"/>
            <a:ext cx="45468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e used to hedge against risk and uncertaint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se alliances are most noticed in fast-cycle marke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n alliance may be formed to reduce the uncertainty associated with developing new product or technology standard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1447920"/>
            <a:ext cx="838080" cy="34290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6930"/>
                </a:lnTo>
                <a:cubicBezTo>
                  <a:pt x="10800" y="16930"/>
                  <a:pt x="5400" y="16930"/>
                  <a:pt x="0" y="16930"/>
                </a:cubicBezTo>
                <a:cubicBezTo>
                  <a:pt x="5400" y="16930"/>
                  <a:pt x="10800" y="16930"/>
                  <a:pt x="10800" y="1693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186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33520" y="2560680"/>
            <a:ext cx="3124080" cy="1053720"/>
            <a:chOff x="533520" y="2560680"/>
            <a:chExt cx="3124080" cy="1053720"/>
          </a:xfrm>
        </p:grpSpPr>
        <p:sp>
          <p:nvSpPr>
            <p:cNvPr id="189" name=""/>
            <p:cNvSpPr/>
            <p:nvPr/>
          </p:nvSpPr>
          <p:spPr>
            <a:xfrm>
              <a:off x="533520" y="25606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2920" y="26204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33520" y="3643200"/>
            <a:ext cx="3124080" cy="1066680"/>
            <a:chOff x="533520" y="3643200"/>
            <a:chExt cx="3124080" cy="1066680"/>
          </a:xfrm>
        </p:grpSpPr>
        <p:sp>
          <p:nvSpPr>
            <p:cNvPr id="192" name=""/>
            <p:cNvSpPr/>
            <p:nvPr/>
          </p:nvSpPr>
          <p:spPr>
            <a:xfrm>
              <a:off x="533520" y="364320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2920" y="370368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Uncertainty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6798A-10D2-4E40-99B8-1F87F21691CB}" type="slidenum">
              <a:t>18</a:t>
            </a:fld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Competition-Reducing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38480" y="2161800"/>
            <a:ext cx="464832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reated to avoid destructive or excessive competitio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Explicit collusion: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when firms directly negotiate production output and pricing agreements in order to reduce competition (illegal)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Tacit collusion: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when firms in an industry indirectly coordinate their production and pricing decisions by observing other firm’s actions and respons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2127240"/>
            <a:ext cx="838080" cy="36576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657600"/>
              <a:gd name="textAreaBottom" fmla="*/ 36579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8703"/>
                </a:lnTo>
                <a:cubicBezTo>
                  <a:pt x="10800" y="18703"/>
                  <a:pt x="5400" y="18703"/>
                  <a:pt x="0" y="18703"/>
                </a:cubicBezTo>
                <a:cubicBezTo>
                  <a:pt x="5400" y="18703"/>
                  <a:pt x="10800" y="18703"/>
                  <a:pt x="10800" y="18703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198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33520" y="2560680"/>
            <a:ext cx="3124080" cy="1053720"/>
            <a:chOff x="533520" y="2560680"/>
            <a:chExt cx="3124080" cy="1053720"/>
          </a:xfrm>
        </p:grpSpPr>
        <p:sp>
          <p:nvSpPr>
            <p:cNvPr id="201" name=""/>
            <p:cNvSpPr/>
            <p:nvPr/>
          </p:nvSpPr>
          <p:spPr>
            <a:xfrm>
              <a:off x="533520" y="25606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2920" y="26204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33520" y="3643200"/>
            <a:ext cx="3124080" cy="1066680"/>
            <a:chOff x="533520" y="3643200"/>
            <a:chExt cx="3124080" cy="1066680"/>
          </a:xfrm>
        </p:grpSpPr>
        <p:sp>
          <p:nvSpPr>
            <p:cNvPr id="204" name=""/>
            <p:cNvSpPr/>
            <p:nvPr/>
          </p:nvSpPr>
          <p:spPr>
            <a:xfrm>
              <a:off x="533520" y="364320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2920" y="370368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certaint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33520" y="4724280"/>
            <a:ext cx="3124080" cy="1066680"/>
            <a:chOff x="533520" y="4724280"/>
            <a:chExt cx="3124080" cy="1066680"/>
          </a:xfrm>
        </p:grpSpPr>
        <p:sp>
          <p:nvSpPr>
            <p:cNvPr id="207" name=""/>
            <p:cNvSpPr/>
            <p:nvPr/>
          </p:nvSpPr>
          <p:spPr>
            <a:xfrm>
              <a:off x="533520" y="472428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2920" y="478476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etition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0701D-0CEB-47A9-BBDD-193F0530A11E}" type="slidenum">
              <a:t>19</a:t>
            </a:fld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ooperative strategies and explain why firms use the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d discuss three types of strategic allianc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the business-level cooperative strategies and describe their us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use of corporate-level cooperative strategies in diversified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importance of cross-border strategic alliances as an international cooperative strateg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97D93-42C9-4883-ADF6-76B13F49B678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ssessment of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lementary business-level strategic alliances, especially the vertical ones, have the greatest probability of creating a sustainable competitive advant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rizontal complementary alliances are sometimes difficult to maintain because they are often between rival competito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etitive advantages gained from competition and uncertainty reducing strategies tend to be temporar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E8C25-5300-457C-A452-A39D92882C63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463680"/>
            <a:ext cx="79344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3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porate-Level Cooperative Strategie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14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23880" y="1576440"/>
            <a:ext cx="6043680" cy="310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7A7E3-D2A4-426A-8B0F-1412E60D9021}" type="slidenum">
              <a:t>21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 the firm diversify in terms of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 offered to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rkets it 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 fewer resource commitme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mit greater flexibility in terms of efforts to diversify partners’ oper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F3431-6B92-4CE8-9C70-1EE78CC37EC8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Diversifying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09680" y="1447920"/>
            <a:ext cx="45464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lows a firm to expand into new product or market areas without completing a merger or an acquisi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rovides some of the potential synergistic benefits of a merger or acquisition, but with less risk and greater levels of flexibilit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ermits a “test” of whether a future merger between the partners would benefit both part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05320" y="1447920"/>
            <a:ext cx="838080" cy="358128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255"/>
                </a:lnTo>
                <a:cubicBezTo>
                  <a:pt x="10800" y="3255"/>
                  <a:pt x="5400" y="3255"/>
                  <a:pt x="0" y="3255"/>
                </a:cubicBezTo>
                <a:cubicBezTo>
                  <a:pt x="5400" y="3255"/>
                  <a:pt x="10800" y="3255"/>
                  <a:pt x="10800" y="325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20560" y="1422360"/>
            <a:ext cx="3124440" cy="1066320"/>
            <a:chOff x="520560" y="1422360"/>
            <a:chExt cx="3124440" cy="1066320"/>
          </a:xfrm>
        </p:grpSpPr>
        <p:sp>
          <p:nvSpPr>
            <p:cNvPr id="223" name=""/>
            <p:cNvSpPr/>
            <p:nvPr/>
          </p:nvSpPr>
          <p:spPr>
            <a:xfrm>
              <a:off x="520560" y="14223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9960" y="14828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B205A-E050-463E-9793-D5E21C08501C}" type="slidenum">
              <a:t>23</a:t>
            </a:fld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Synergistic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62160" y="1483920"/>
            <a:ext cx="4546440" cy="27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eates joint economies of scope between two or more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eates synergy across multiple functions or multiple businesses between partner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05320" y="1447920"/>
            <a:ext cx="838080" cy="27432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2743200"/>
              <a:gd name="textAreaBottom" fmla="*/ 274356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2850"/>
                </a:lnTo>
                <a:cubicBezTo>
                  <a:pt x="10800" y="12850"/>
                  <a:pt x="5400" y="12850"/>
                  <a:pt x="0" y="12850"/>
                </a:cubicBezTo>
                <a:cubicBezTo>
                  <a:pt x="5400" y="12850"/>
                  <a:pt x="10800" y="12850"/>
                  <a:pt x="10800" y="1285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229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20560" y="2552760"/>
            <a:ext cx="3124440" cy="1066320"/>
            <a:chOff x="520560" y="2552760"/>
            <a:chExt cx="3124440" cy="1066320"/>
          </a:xfrm>
        </p:grpSpPr>
        <p:sp>
          <p:nvSpPr>
            <p:cNvPr id="232" name=""/>
            <p:cNvSpPr/>
            <p:nvPr/>
          </p:nvSpPr>
          <p:spPr>
            <a:xfrm>
              <a:off x="520560" y="25527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9960" y="26132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ynergistic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17E6B-3D33-41B3-98A0-7A75902F0335}" type="slidenum">
              <a:t>24</a:t>
            </a:fld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Franchis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62240" y="1430280"/>
            <a:ext cx="45468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preads risks and uses resources, capabilities, and competencies without merging or acquiring another compan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contractual relationship (the franchise) is developed between two parties, the franchisee and the franchisor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 alternative to pursuing growth through mergers and acquisition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505320" y="1447920"/>
            <a:ext cx="838080" cy="327636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276360"/>
              <a:gd name="textAreaBottom" fmla="*/ 3276720 h 32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7916"/>
                </a:lnTo>
                <a:cubicBezTo>
                  <a:pt x="10800" y="17916"/>
                  <a:pt x="5400" y="17916"/>
                  <a:pt x="0" y="17916"/>
                </a:cubicBezTo>
                <a:cubicBezTo>
                  <a:pt x="5400" y="17916"/>
                  <a:pt x="10800" y="17916"/>
                  <a:pt x="10800" y="17916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238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20560" y="2560680"/>
            <a:ext cx="3124440" cy="1053720"/>
            <a:chOff x="520560" y="2560680"/>
            <a:chExt cx="3124440" cy="1053720"/>
          </a:xfrm>
        </p:grpSpPr>
        <p:sp>
          <p:nvSpPr>
            <p:cNvPr id="241" name=""/>
            <p:cNvSpPr/>
            <p:nvPr/>
          </p:nvSpPr>
          <p:spPr>
            <a:xfrm>
              <a:off x="520560" y="2560680"/>
              <a:ext cx="312444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9960" y="2620440"/>
              <a:ext cx="300528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nergistic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20560" y="3643200"/>
            <a:ext cx="3124440" cy="1066680"/>
            <a:chOff x="520560" y="3643200"/>
            <a:chExt cx="3124440" cy="1066680"/>
          </a:xfrm>
        </p:grpSpPr>
        <p:sp>
          <p:nvSpPr>
            <p:cNvPr id="244" name=""/>
            <p:cNvSpPr/>
            <p:nvPr/>
          </p:nvSpPr>
          <p:spPr>
            <a:xfrm>
              <a:off x="520560" y="3643200"/>
              <a:ext cx="312444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9960" y="3703680"/>
              <a:ext cx="300528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ranchi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6AC78-D276-4A5D-A2FD-75C654D3CF2A}" type="slidenum">
              <a:t>25</a:t>
            </a:fld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ssessment of Corporate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ared to business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roader in scope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More complex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cost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22120" indent="-2221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n lead to competitive advantage and value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ccessful alliance experiences are intern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 uses such strategies to develop useful knowledge about how to succeed in the futur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2DC93-7701-44C3-BAA4-39FA92718C71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oss-border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trategy in which firms with headquarters in different nations combine their resources and capabilities to create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may form cross-border strategic alliances to leverage core competencies that are the foundation of its domestic success to expand into international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50648-85A1-4DDE-A161-94D459E93790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ynergistic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risk sharing by reducing financial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st partner knows local market and custo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tional alliances can be difficult to manage due to differences in management styles, cultures or regulatory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st gauge partner’s strategic intent such that the partner does not gain access to important technology and become a competito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E7DE7-2FF0-4160-9C7B-A329FCEB581F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cooperative strategy wherein several firms agree to form multiple partnerships to achieve shared objectiv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able alliance net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ynamic alliance net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ocial relationships and interactions among partners are keys to a successful network cooperative strateg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D1D52-A698-461E-89E5-9FA9A1CE319D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cooperative strategies’ risks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wo approaches used to manage cooperative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2A934-8E57-47F3-B44F-381C1794C749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1528920"/>
            <a:ext cx="4495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ng term relationships that often appear in mature industries where demand is relatively constant and predic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table networks are built for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exploitation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of the economies (scale and/or scope) available between the fi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05320" y="1523880"/>
            <a:ext cx="838080" cy="34290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90"/>
                </a:lnTo>
                <a:cubicBezTo>
                  <a:pt x="10800" y="2890"/>
                  <a:pt x="5400" y="2890"/>
                  <a:pt x="0" y="2890"/>
                </a:cubicBezTo>
                <a:cubicBezTo>
                  <a:pt x="5400" y="2890"/>
                  <a:pt x="10800" y="2890"/>
                  <a:pt x="10800" y="289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20560" y="1419120"/>
            <a:ext cx="3124440" cy="1066680"/>
            <a:chOff x="520560" y="1419120"/>
            <a:chExt cx="3124440" cy="1066680"/>
          </a:xfrm>
        </p:grpSpPr>
        <p:sp>
          <p:nvSpPr>
            <p:cNvPr id="259" name=""/>
            <p:cNvSpPr/>
            <p:nvPr/>
          </p:nvSpPr>
          <p:spPr>
            <a:xfrm>
              <a:off x="520560" y="1419120"/>
              <a:ext cx="312444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9960" y="1479600"/>
              <a:ext cx="300528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able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93E95-7319-49EE-BF3B-299886A4FB5B}" type="slidenum">
              <a:t>30</a:t>
            </a:fld>
          </a:p>
        </p:txBody>
      </p:sp>
    </p:spTree>
  </p:cSld>
  <p:transition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1479600"/>
            <a:ext cx="44197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rangements that evolve in industries with rapid technological change leading to short product life cy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marily used to stimulate rapid, value-creating product innovation and subsequent successful market e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urpose is often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exploration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of new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1447920"/>
            <a:ext cx="838080" cy="41148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4114800"/>
              <a:gd name="textAreaBottom" fmla="*/ 411516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8542"/>
                </a:lnTo>
                <a:cubicBezTo>
                  <a:pt x="10800" y="8542"/>
                  <a:pt x="5400" y="8542"/>
                  <a:pt x="0" y="8542"/>
                </a:cubicBezTo>
                <a:cubicBezTo>
                  <a:pt x="5400" y="8542"/>
                  <a:pt x="10800" y="8542"/>
                  <a:pt x="10800" y="8542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20560" y="1407960"/>
            <a:ext cx="3124440" cy="1106280"/>
            <a:chOff x="520560" y="1407960"/>
            <a:chExt cx="3124440" cy="1106280"/>
          </a:xfrm>
        </p:grpSpPr>
        <p:sp>
          <p:nvSpPr>
            <p:cNvPr id="265" name=""/>
            <p:cNvSpPr/>
            <p:nvPr/>
          </p:nvSpPr>
          <p:spPr>
            <a:xfrm>
              <a:off x="520560" y="14079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9960" y="14709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able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20560" y="2552760"/>
            <a:ext cx="3124440" cy="1066320"/>
            <a:chOff x="520560" y="2552760"/>
            <a:chExt cx="3124440" cy="1066320"/>
          </a:xfrm>
        </p:grpSpPr>
        <p:sp>
          <p:nvSpPr>
            <p:cNvPr id="268" name=""/>
            <p:cNvSpPr/>
            <p:nvPr/>
          </p:nvSpPr>
          <p:spPr>
            <a:xfrm>
              <a:off x="520560" y="25527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9960" y="26132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Dynamic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1D6B8-42D7-457F-870F-A035DB63E55B}" type="slidenum">
              <a:t>31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ve Risks of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may act opportunisticall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may misrepresent competencies brought to the partnership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fail to make committed resources and capabilities available to other partn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ne partner may make investments that are specific to the alliance while its partner does no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06C40-44D1-4E1D-B884-1DB9F9E70720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4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aging Competitive Risks in Cooperative Strategi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7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76960" cy="27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42ABC-1B3E-4428-B1FF-1733DC8A1B60}" type="slidenum">
              <a:t>33</a:t>
            </a:fld>
          </a:p>
        </p:txBody>
      </p:sp>
    </p:spTree>
  </p:cSld>
  <p:transition>
    <p:random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Risks in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670200" y="5724360"/>
            <a:ext cx="243072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reating valu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77960" y="4038480"/>
            <a:ext cx="2727360" cy="1295280"/>
            <a:chOff x="777960" y="4038480"/>
            <a:chExt cx="2727360" cy="1295280"/>
          </a:xfrm>
        </p:grpSpPr>
        <p:sp>
          <p:nvSpPr>
            <p:cNvPr id="281" name=""/>
            <p:cNvSpPr/>
            <p:nvPr/>
          </p:nvSpPr>
          <p:spPr>
            <a:xfrm>
              <a:off x="777960" y="4038480"/>
              <a:ext cx="2727360" cy="129528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9800" y="4112640"/>
              <a:ext cx="2623320" cy="1147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isk and Asset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nagement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pproach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777960" y="5562720"/>
            <a:ext cx="2727360" cy="609480"/>
            <a:chOff x="777960" y="5562720"/>
            <a:chExt cx="2727360" cy="609480"/>
          </a:xfrm>
        </p:grpSpPr>
        <p:sp>
          <p:nvSpPr>
            <p:cNvPr id="284" name=""/>
            <p:cNvSpPr/>
            <p:nvPr/>
          </p:nvSpPr>
          <p:spPr>
            <a:xfrm>
              <a:off x="777960" y="5562720"/>
              <a:ext cx="2727360" cy="60948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29800" y="5597280"/>
              <a:ext cx="2623320" cy="5400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ired Outco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777960" y="1425600"/>
            <a:ext cx="2727360" cy="2231280"/>
            <a:chOff x="777960" y="1425600"/>
            <a:chExt cx="2727360" cy="2231280"/>
          </a:xfrm>
        </p:grpSpPr>
        <p:sp>
          <p:nvSpPr>
            <p:cNvPr id="287" name=""/>
            <p:cNvSpPr/>
            <p:nvPr/>
          </p:nvSpPr>
          <p:spPr>
            <a:xfrm>
              <a:off x="777960" y="1425600"/>
              <a:ext cx="2727360" cy="223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29800" y="1552680"/>
              <a:ext cx="2623320" cy="1977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v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is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9" name=""/>
          <p:cNvCxnSpPr>
            <a:stCxn id="287" idx="2"/>
            <a:endCxn id="281" idx="0"/>
          </p:cNvCxnSpPr>
          <p:nvPr/>
        </p:nvCxnSpPr>
        <p:spPr>
          <a:xfrm>
            <a:off x="2141280" y="3657600"/>
            <a:ext cx="108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90" name=""/>
          <p:cNvCxnSpPr>
            <a:stCxn id="281" idx="2"/>
            <a:endCxn id="284" idx="0"/>
          </p:cNvCxnSpPr>
          <p:nvPr/>
        </p:nvCxnSpPr>
        <p:spPr>
          <a:xfrm>
            <a:off x="2141280" y="5333760"/>
            <a:ext cx="10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291" name=""/>
          <p:cNvSpPr/>
          <p:nvPr/>
        </p:nvSpPr>
        <p:spPr>
          <a:xfrm>
            <a:off x="3598920" y="4114800"/>
            <a:ext cx="4859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etailed contracts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eveloping trusting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98920" y="1495440"/>
            <a:ext cx="4859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nadequate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isrepresentation of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artners fail to use their complementary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olding alliance partner’s specific investments ho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79C2E-76AD-47DF-B5D4-81FA64A6ABE2}" type="slidenum">
              <a:t>34</a:t>
            </a:fld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st Minimization Management Approach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formal contracts with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y how strategy is to be monito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y how partner behavior is to be controll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t goals that minimize costs and to prevent opportunistic behavior by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82D66-9044-496D-A349-08E6E018B046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portunity Maximization Approach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ximize partnership’s value-creation opportun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rn from each oth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lore additional marketplace pos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intain less formal contracts, fewer constrai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62B87-1E54-40E7-82A3-C0D7AFB6808A}" type="slidenum">
              <a:t>36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operative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trategy in which firms work together to achieve a shared objecti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operating with other firms is a strategy tha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s value for a custom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ceeds the cost of constructing customer value in other way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es a favorable position relative to 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90D88-1B2F-49A7-BC74-05A05603F8E1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primary type of cooperative strategy in which firms combine some of their resources and capabilities to create a mutual competitive advanta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the exchange and sharing of resources and capabilities to co-develop or distribute goods and servi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s cooperative behavior from all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A8592-FDB0-48A5-A093-0AD075A53E0D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 Behavi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amples of cooperative behavior known to contribute to alliance succes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ely solving proble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ing trustworth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ly pursuing ways to combine partners’ resources and capabilities to create valu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llaborative (Relational) Advantag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mpetitive advantage developed through a cooperative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2031C-5361-45B8-A369-1CEB80CDA596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21120" y="3057480"/>
            <a:ext cx="3105000" cy="1736640"/>
            <a:chOff x="3021120" y="3057480"/>
            <a:chExt cx="3105000" cy="1736640"/>
          </a:xfrm>
        </p:grpSpPr>
        <p:sp>
          <p:nvSpPr>
            <p:cNvPr id="111" name=""/>
            <p:cNvSpPr/>
            <p:nvPr/>
          </p:nvSpPr>
          <p:spPr>
            <a:xfrm>
              <a:off x="3021120" y="3057480"/>
              <a:ext cx="3105000" cy="173664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79800" y="3122280"/>
              <a:ext cx="2987640" cy="1605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Comb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907920" y="2157480"/>
            <a:ext cx="2725920" cy="1330200"/>
            <a:chOff x="907920" y="2157480"/>
            <a:chExt cx="2725920" cy="1330200"/>
          </a:xfrm>
        </p:grpSpPr>
        <p:sp>
          <p:nvSpPr>
            <p:cNvPr id="114" name=""/>
            <p:cNvSpPr/>
            <p:nvPr/>
          </p:nvSpPr>
          <p:spPr>
            <a:xfrm>
              <a:off x="907920" y="2157480"/>
              <a:ext cx="2725920" cy="13302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66960" y="2215800"/>
              <a:ext cx="2608200" cy="1212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662440" y="2155680"/>
            <a:ext cx="2725920" cy="1330200"/>
            <a:chOff x="5662440" y="2155680"/>
            <a:chExt cx="2725920" cy="1330200"/>
          </a:xfrm>
        </p:grpSpPr>
        <p:sp>
          <p:nvSpPr>
            <p:cNvPr id="117" name=""/>
            <p:cNvSpPr/>
            <p:nvPr/>
          </p:nvSpPr>
          <p:spPr>
            <a:xfrm>
              <a:off x="5662440" y="2155680"/>
              <a:ext cx="2725920" cy="133020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21480" y="2214360"/>
              <a:ext cx="2608200" cy="12128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139920" y="1449360"/>
            <a:ext cx="1409760" cy="1409760"/>
            <a:chOff x="3139920" y="1449360"/>
            <a:chExt cx="1409760" cy="1409760"/>
          </a:xfrm>
        </p:grpSpPr>
        <p:sp>
          <p:nvSpPr>
            <p:cNvPr id="120" name=""/>
            <p:cNvSpPr/>
            <p:nvPr/>
          </p:nvSpPr>
          <p:spPr>
            <a:xfrm>
              <a:off x="3139920" y="1449360"/>
              <a:ext cx="1409760" cy="1409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98960" y="1508040"/>
              <a:ext cx="1292040" cy="12924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irm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595760" y="1447920"/>
            <a:ext cx="1409760" cy="1409760"/>
            <a:chOff x="4595760" y="1447920"/>
            <a:chExt cx="1409760" cy="1409760"/>
          </a:xfrm>
        </p:grpSpPr>
        <p:sp>
          <p:nvSpPr>
            <p:cNvPr id="123" name=""/>
            <p:cNvSpPr/>
            <p:nvPr/>
          </p:nvSpPr>
          <p:spPr>
            <a:xfrm>
              <a:off x="4595760" y="1447920"/>
              <a:ext cx="1409760" cy="1409760"/>
            </a:xfrm>
            <a:prstGeom prst="ellipse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54440" y="1506600"/>
              <a:ext cx="1292400" cy="129204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irm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312920" y="5191200"/>
            <a:ext cx="6521400" cy="965160"/>
            <a:chOff x="1312920" y="5191200"/>
            <a:chExt cx="6521400" cy="965160"/>
          </a:xfrm>
        </p:grpSpPr>
        <p:sp>
          <p:nvSpPr>
            <p:cNvPr id="126" name=""/>
            <p:cNvSpPr/>
            <p:nvPr/>
          </p:nvSpPr>
          <p:spPr>
            <a:xfrm>
              <a:off x="1312920" y="5191200"/>
              <a:ext cx="6521400" cy="965160"/>
            </a:xfrm>
            <a:prstGeom prst="rect">
              <a:avLst/>
            </a:prstGeom>
            <a:gradFill rotWithShape="0">
              <a:gsLst>
                <a:gs pos="0">
                  <a:srgbClr val="8643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63680" y="5249880"/>
              <a:ext cx="6418080" cy="8478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864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utual interests in designing, manufacturing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 distributing goods or serv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8" name=""/>
          <p:cNvCxnSpPr>
            <a:stCxn id="111" idx="2"/>
            <a:endCxn id="126" idx="0"/>
          </p:cNvCxnSpPr>
          <p:nvPr/>
        </p:nvCxnSpPr>
        <p:spPr>
          <a:xfrm>
            <a:off x="4573080" y="4793760"/>
            <a:ext cx="1080" cy="3978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lg" type="stealth" w="lg"/>
          </a:ln>
        </p:spPr>
      </p:cxnSp>
      <p:grpSp>
        <p:nvGrpSpPr>
          <p:cNvPr id="129" name=""/>
          <p:cNvGrpSpPr/>
          <p:nvPr/>
        </p:nvGrpSpPr>
        <p:grpSpPr>
          <a:xfrm>
            <a:off x="2260440" y="3483000"/>
            <a:ext cx="4613400" cy="453600"/>
            <a:chOff x="2260440" y="3483000"/>
            <a:chExt cx="4613400" cy="453600"/>
          </a:xfrm>
        </p:grpSpPr>
        <p:sp>
          <p:nvSpPr>
            <p:cNvPr id="130" name=""/>
            <p:cNvSpPr/>
            <p:nvPr/>
          </p:nvSpPr>
          <p:spPr>
            <a:xfrm>
              <a:off x="2260440" y="3487680"/>
              <a:ext cx="0" cy="44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73840" y="3483000"/>
              <a:ext cx="0" cy="44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260440" y="3921120"/>
            <a:ext cx="4613400" cy="4680"/>
            <a:chOff x="2260440" y="3921120"/>
            <a:chExt cx="4613400" cy="4680"/>
          </a:xfrm>
        </p:grpSpPr>
        <p:sp>
          <p:nvSpPr>
            <p:cNvPr id="133" name=""/>
            <p:cNvSpPr/>
            <p:nvPr/>
          </p:nvSpPr>
          <p:spPr>
            <a:xfrm>
              <a:off x="2260440" y="3925800"/>
              <a:ext cx="75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6114960" y="3921120"/>
              <a:ext cx="75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B9381-030F-452F-8FB5-1C155D4205DF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e Types of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oint Ven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firms create a legally independent company by sharing some of their resources and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quity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artners who own different percentages of equity in a separate company they have form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onequity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firms develop a contractual relationship to share some of their unique resources and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F373A-B735-4BF4-983D-3D7ED1424AA1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9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Strategic Alliances by Market Type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60360" y="1219320"/>
            <a:ext cx="840276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90680" indent="-2290680"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access to a restricted mark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Establish a franchise in a new mark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aintain market stability (e.g., establishing standar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peed up development of new goods or servi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peed up new market ent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aintain market leadersh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Form an industry technology standar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hare risky R&amp;D expens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Overcome 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market power (reduce industry overcapacit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access to complementary resour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Establish better economies of sca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Overcome trade barrie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eet competitive challenges from other competito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Pool resources for very large capital proj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Learn new business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10CCD-2ED7-4FF7-BE92-223408A69EEC}" type="slidenum">
              <a:t>9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dii</cp:lastModifiedBy>
  <dcterms:modified xsi:type="dcterms:W3CDTF">2007-06-12T13:38:31Z</dcterms:modified>
  <cp:revision>41</cp:revision>
  <dc:subject>Chapter 9</dc:subject>
  <dc:title>Strategic Management 7e.</dc:title>
</cp:coreProperties>
</file>