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10.gif" ContentType="image/gi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move the slid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6A78-20B9-4509-AAF7-BB4F36D5B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7E19-AFF6-44E4-BA79-036059199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23F2-9FF8-4E6E-8C3D-481F50FCC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F9A9-2055-4120-90BC-1ED6E6B18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5F6D-D658-4B9F-BCEC-1A1686ACB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554D-70B9-4880-8C9D-76C6C5C5D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6C66-EFD4-48FF-A996-55340D859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F0A4-3311-428D-8129-416CB1FF2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3888-8D26-422D-A62C-B3C4BC136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B75E-0057-409A-BA0D-2790AB65F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9AF9-DD57-46E0-A55D-F8DC52238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11FC-2FA6-4D5F-B1CB-AFE7BFD19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CFF4-7CD4-4034-BB2F-B2812D731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D257-4240-4806-A048-D50D7168E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1190-B3BB-4E1B-B796-D244ADAB5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75FD-C201-4C15-B5E0-B3898651E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4149-91DA-4C09-A79A-EE6CC89FD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F393-7443-46C0-AEF4-856E91CE5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207F-FC0B-40E3-AF9E-4847F9F8E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046F-298C-4C8E-AF64-F067D5C50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94AD-81F9-4F3A-8EE5-9DD48A900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25C0-3D63-4D35-8822-972A2AF26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4CB5-A0BC-44FC-854E-C956C255B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B5BF-46BB-44B0-9A09-2252CE3D5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FC3B-74D5-4650-B52B-22E87E92E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D737-A9E4-4CB6-AFF9-AE1BD17D3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63E4-3380-4D89-AA39-E9F5DD7AB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6D4A-DB7C-42FF-8B22-57C375C81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4892-75A7-4C5F-9838-2872A43AF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33ED-A434-4BC5-BDA7-F6576F975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D61D-667C-4E9B-95CB-352109741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B24F-4B8D-44D9-883B-E8CC09C1C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542B-D048-40E5-908B-3E069FD74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C9A5-9AB3-47C9-890C-BD9210795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6829-FDC8-4496-857C-61FB12209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2DF3-1817-4E44-86CE-652D1F49F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CFAC-D525-4ADA-99B7-95D039135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F3086-991E-4EA9-8951-48FABBBA03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15E0A-804D-4D6B-A469-97B238CED1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A73D8-ACC9-4A75-A486-C0C5E5793F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5DB2E-A971-419C-B75B-A0D621B5EA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5935A-7D4B-4877-A5DB-6B44554AB3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9454B-379A-4A4E-BCBD-1123A3B6DA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1EE8E-0314-487B-8E66-E9CF5EB924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AC826-BFD1-4A7A-97B5-278C1285A3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AED33-054E-4E93-8117-4168FFE7F1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5EFEC-D1F9-4C5D-9DB0-0344776AC4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8E7D3-F1B3-4C4B-A0C2-F65F6FCD63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E395A-3B34-406F-9DD9-F846D1026C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–</a:t>
            </a:r>
            <a:fld id="{4661D0D4-8318-4658-84C4-A3E54B4182EB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2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1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2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Line 13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4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5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6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8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1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0492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00400" y="2646360"/>
            <a:ext cx="5562720" cy="9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0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rporate Governance</a:t>
            </a:r>
            <a:endParaRPr b="0" lang="en-US" sz="3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3BBEB0DA-3275-4D1F-8DD6-6A0D02EAEAA2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Opportunis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eeking of self-interest with guile (cunning or deceit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opportunism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attitude (inclination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et of behaviors (specific acts of self-interest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opportunism prevents the maximization of shareholder wealth (the primary goal of owner/principals)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1F90444E-1D03-4CA4-BD97-4879BB9A95B9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ponse to Managerial Opportunis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incipals do not know beforehand which agents will or will not act opportunisticall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us, principals establish governance and control mechanisms to prevent managerial opportunis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3C233782-82DC-4C19-9E6A-30D254CA4D8F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amples of the Agency Proble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Problem of Product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size, and the relationship of size to managerial compens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duction of managerial employment ris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 of Free Cash Flow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prefer to invest these funds in additional product diversification (see above)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areholders prefer the funds as dividends so they control how the funds are invest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BDBE20B5-2815-4F72-942B-1B6D90734B6A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495360"/>
            <a:ext cx="79344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0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r and Shareholder Risk and Diversification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Freeform 3"/>
          <p:cNvSpPr/>
          <p:nvPr/>
        </p:nvSpPr>
        <p:spPr>
          <a:xfrm>
            <a:off x="457200" y="457200"/>
            <a:ext cx="8229600" cy="4665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56" name="Line 5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6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" name="Picture 8" descr=""/>
          <p:cNvPicPr/>
          <p:nvPr/>
        </p:nvPicPr>
        <p:blipFill>
          <a:blip r:embed="rId1"/>
          <a:stretch/>
        </p:blipFill>
        <p:spPr>
          <a:xfrm>
            <a:off x="1214280" y="1143000"/>
            <a:ext cx="6715440" cy="4915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4099AB39-2155-4EED-A9C9-201A9CF12EC9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Costs and 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gency Cos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um of incentive costs, monitoring costs, enforcement costs, and individual financial losses incurred by principals, because governance mechanisms cannot guarantee total compliance by the ag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incipals may engage in monitoring behavior to assess the activities and decisions of manag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ever, dispersed shareholding makes it difficult and inefficient to monitor management’s behavio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E987A163-FC19-44E7-AE11-47346345CD29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Costs and 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oards of Directors have a fiduciary duty to shareholders to monitor managemen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ever, Boards of Directors are often accused of being lax in performing this func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1DADB49D-8E3C-4EA5-9C81-AFDCA3C45960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7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206064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10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porate Governance Mechanism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04920" y="1327320"/>
            <a:ext cx="8305560" cy="47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Governance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wnership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amounts of stock owned by individual shareholders and institutional inves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s responsible for representing the firm’s owners by monitoring top-level managers’ strategic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ecutive Compen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salary, bonuses, and long-term incentives to align managers’ interests with shareholders’ interest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Governance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ket for Corporat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urchase of a company that is underperforming relative to industry rivals in order to improve the firm’s strategic competi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CD793EC0-803D-4DB2-A174-B5D7BFD639BD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"/>
          <p:cNvSpPr/>
          <p:nvPr/>
        </p:nvSpPr>
        <p:spPr>
          <a:xfrm>
            <a:off x="3200400" y="1314360"/>
            <a:ext cx="990720" cy="44053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405320"/>
              <a:gd name="textAreaBottom" fmla="*/ 4404240 h 44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727"/>
                </a:lnTo>
                <a:cubicBezTo>
                  <a:pt x="10800" y="2738"/>
                  <a:pt x="5400" y="2749"/>
                  <a:pt x="0" y="2749"/>
                </a:cubicBezTo>
                <a:cubicBezTo>
                  <a:pt x="5400" y="2749"/>
                  <a:pt x="10800" y="2760"/>
                  <a:pt x="10800" y="2771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777840" y="1330200"/>
            <a:ext cx="49086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arge block shareholders have a strong incentive to monitor management closely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ir large stakes make it worth their while to spend time, effort and expense to monitor closely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y may also obtain Board seats which enhances their ability to monitor effectively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inancial institutions are legally forbidden from directly holding board sea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76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77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D0895640-06E3-41A0-BBFD-C0E52FFD2BC1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3200400" y="1386000"/>
            <a:ext cx="990720" cy="3186000"/>
          </a:xfrm>
          <a:custGeom>
            <a:avLst/>
            <a:gdLst>
              <a:gd name="textAreaLeft" fmla="*/ 632880 w 990720"/>
              <a:gd name="textAreaRight" fmla="*/ 991080 w 990720"/>
              <a:gd name="textAreaTop" fmla="*/ 720 h 3186000"/>
              <a:gd name="textAreaBottom" fmla="*/ 3185280 h 31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3530"/>
                </a:lnTo>
                <a:cubicBezTo>
                  <a:pt x="10800" y="3541"/>
                  <a:pt x="5400" y="3552"/>
                  <a:pt x="0" y="3552"/>
                </a:cubicBezTo>
                <a:cubicBezTo>
                  <a:pt x="5400" y="3552"/>
                  <a:pt x="10800" y="3563"/>
                  <a:pt x="10800" y="3574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777840" y="1455840"/>
            <a:ext cx="4908600" cy="39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increasing influence of institutional owners (stock mutual funds and pension funds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Have the size (proxy voting power) and incentive (demand for returns to funds) to discipline ineffective top-level manage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an affect the firm’s choice of strategi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84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85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C9D4D125-CCAE-4148-9FA2-E2B70DC3A368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"/>
          <p:cNvSpPr/>
          <p:nvPr/>
        </p:nvSpPr>
        <p:spPr>
          <a:xfrm>
            <a:off x="3200400" y="1386000"/>
            <a:ext cx="990720" cy="387180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871800"/>
              <a:gd name="textAreaBottom" fmla="*/ 3870720 h 38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901"/>
                </a:lnTo>
                <a:cubicBezTo>
                  <a:pt x="10800" y="2912"/>
                  <a:pt x="5400" y="2923"/>
                  <a:pt x="0" y="2923"/>
                </a:cubicBezTo>
                <a:cubicBezTo>
                  <a:pt x="5400" y="2923"/>
                  <a:pt x="10800" y="2934"/>
                  <a:pt x="10800" y="294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777840" y="1452240"/>
            <a:ext cx="4908600" cy="37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hareholder activism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can convene to discuss corporation’s direction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f a consensus exists, shareholders can vote as a block to elect their candidates to the board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xy fight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re are limits on shareholder activism available to institutional owners in responding to activists’ tactic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92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93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6DA8002B-C2B6-4F6B-BA7C-8CC58A319579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corporate governance and explain why it is used to monitor and control managers’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y ownership has been largely separated from managerial control in the modern corporatio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 agency relationship and managerial opportunism and describe their strategic implic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hree internal governance mechanisms—ownership concentration, the board of directors, and executive compensation—are used to monitor and control managerial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4505D2AC-A997-4371-9DCA-04BA5CE7E4FD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3200400" y="1386000"/>
            <a:ext cx="990720" cy="402408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024080"/>
              <a:gd name="textAreaBottom" fmla="*/ 4023000 h 40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226"/>
                </a:lnTo>
                <a:cubicBezTo>
                  <a:pt x="10800" y="8237"/>
                  <a:pt x="5400" y="8248"/>
                  <a:pt x="0" y="8248"/>
                </a:cubicBezTo>
                <a:cubicBezTo>
                  <a:pt x="5400" y="8248"/>
                  <a:pt x="10800" y="8259"/>
                  <a:pt x="10800" y="8270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952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oard of director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Group of elected individuals that acts in the owners’ interests to formally monitor and control the firm’s top-level executiv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oard has the power to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irect the affairs of the organiz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unish and reward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tect owners from managerial opportunis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00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01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8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04" name="Rectangle 9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371BF58F-1342-4924-AD5D-D8EFFD9DC536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"/>
          <p:cNvSpPr/>
          <p:nvPr/>
        </p:nvSpPr>
        <p:spPr>
          <a:xfrm>
            <a:off x="3200400" y="1386000"/>
            <a:ext cx="990720" cy="34909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490920"/>
              <a:gd name="textAreaBottom" fmla="*/ 3489840 h 34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9575"/>
                </a:lnTo>
                <a:cubicBezTo>
                  <a:pt x="10800" y="9586"/>
                  <a:pt x="5400" y="9597"/>
                  <a:pt x="0" y="9597"/>
                </a:cubicBezTo>
                <a:cubicBezTo>
                  <a:pt x="5400" y="9597"/>
                  <a:pt x="10800" y="9608"/>
                  <a:pt x="10800" y="9619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position of Board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n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the firm’s CEO and other top-level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Related Out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individuals uninvolved with day-to-day operations, but who have a relationship with the fir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Out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individuals who are independent of the firm’s day-to-day operations and other relationship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11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12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8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15" name="Rectangle 9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0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22601A2A-81CB-44A8-8B12-26F529F7B718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"/>
          <p:cNvSpPr/>
          <p:nvPr/>
        </p:nvSpPr>
        <p:spPr>
          <a:xfrm>
            <a:off x="3200400" y="1386000"/>
            <a:ext cx="990720" cy="39481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948120"/>
              <a:gd name="textAreaBottom" fmla="*/ 3947040 h 39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741"/>
                </a:lnTo>
                <a:cubicBezTo>
                  <a:pt x="10800" y="8752"/>
                  <a:pt x="5400" y="8763"/>
                  <a:pt x="0" y="8763"/>
                </a:cubicBezTo>
                <a:cubicBezTo>
                  <a:pt x="5400" y="8763"/>
                  <a:pt x="10800" y="8774"/>
                  <a:pt x="10800" y="878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riticisms of Boards of Directors includ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oo readily approve managers’ self-serving initiativ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re exploited by managers with personal ties to board memb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re not vigilant enough in hiring and monitoring CEO behavior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ack of agreement about the number of and most appropriate role of outside directo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22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23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8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26" name="Rectangle 9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0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DD5CECEE-4062-4478-A2E6-EDF7F809772C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"/>
          <p:cNvSpPr/>
          <p:nvPr/>
        </p:nvSpPr>
        <p:spPr>
          <a:xfrm>
            <a:off x="3200400" y="1386000"/>
            <a:ext cx="990720" cy="39481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948120"/>
              <a:gd name="textAreaBottom" fmla="*/ 3947040 h 39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368"/>
                </a:lnTo>
                <a:cubicBezTo>
                  <a:pt x="10800" y="8379"/>
                  <a:pt x="5400" y="8390"/>
                  <a:pt x="0" y="8390"/>
                </a:cubicBezTo>
                <a:cubicBezTo>
                  <a:pt x="5400" y="8390"/>
                  <a:pt x="10800" y="8401"/>
                  <a:pt x="10800" y="8412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nhancing the effectiveness of boards and director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ore diversity in the backgrounds of board memb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onger internal management and accounting control system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ore formal processes to evaluate the board’s performanc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dopting a “lead director” role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hanges in compensation of directo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33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34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8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37" name="Rectangle 9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0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F2B61C49-63CF-4036-8ECA-97CAF4363C06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2"/>
          <p:cNvSpPr/>
          <p:nvPr/>
        </p:nvSpPr>
        <p:spPr>
          <a:xfrm>
            <a:off x="3200400" y="1386000"/>
            <a:ext cx="990720" cy="4557600"/>
          </a:xfrm>
          <a:custGeom>
            <a:avLst/>
            <a:gdLst>
              <a:gd name="textAreaLeft" fmla="*/ 632880 w 990720"/>
              <a:gd name="textAreaRight" fmla="*/ 991080 w 990720"/>
              <a:gd name="textAreaTop" fmla="*/ 1440 h 4557600"/>
              <a:gd name="textAreaBottom" fmla="*/ 4556160 h 45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2399"/>
                </a:lnTo>
                <a:cubicBezTo>
                  <a:pt x="10800" y="12410"/>
                  <a:pt x="5400" y="12421"/>
                  <a:pt x="0" y="12421"/>
                </a:cubicBezTo>
                <a:cubicBezTo>
                  <a:pt x="5400" y="12421"/>
                  <a:pt x="10800" y="12432"/>
                  <a:pt x="10800" y="12443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20680" indent="-22068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orms of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alaries, bonuses, long-term performance incentives, stock awards, stock op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20680" indent="-22068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actors complicating executive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ategic decisions by top-level managers are complex, non-routine and affect the firm over an extended period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ther variables affecting the firm’s performance over time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44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45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1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48" name="Rectangle 12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3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mpensation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4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51" name="Rectangle 15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6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12DA0F7A-4AA8-4EE6-9273-B8CD264FEB3B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"/>
          <p:cNvSpPr/>
          <p:nvPr/>
        </p:nvSpPr>
        <p:spPr>
          <a:xfrm>
            <a:off x="3200400" y="1386000"/>
            <a:ext cx="990720" cy="37195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719520"/>
              <a:gd name="textAreaBottom" fmla="*/ 3718440 h 37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5060"/>
                </a:lnTo>
                <a:cubicBezTo>
                  <a:pt x="10800" y="15071"/>
                  <a:pt x="5400" y="15082"/>
                  <a:pt x="0" y="15082"/>
                </a:cubicBezTo>
                <a:cubicBezTo>
                  <a:pt x="5400" y="15082"/>
                  <a:pt x="10800" y="15093"/>
                  <a:pt x="10800" y="15104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imits on the effectiveness of executive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Unintended consequences of stock op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irm performance not as important than firm siz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Balance sheet not showing executive wealth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ptions not expensed at the time they are awarded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58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59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14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62" name="Rectangle 15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6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7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65" name="Rectangle 18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9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mpensation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F8CAECCA-3C11-4893-A42B-145F2F599554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"/>
          <p:cNvSpPr/>
          <p:nvPr/>
        </p:nvSpPr>
        <p:spPr>
          <a:xfrm>
            <a:off x="3200400" y="1690560"/>
            <a:ext cx="990720" cy="379584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795840"/>
              <a:gd name="textAreaBottom" fmla="*/ 3794760 h 37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8877"/>
                </a:lnTo>
                <a:cubicBezTo>
                  <a:pt x="10800" y="18888"/>
                  <a:pt x="5400" y="18899"/>
                  <a:pt x="0" y="18899"/>
                </a:cubicBezTo>
                <a:cubicBezTo>
                  <a:pt x="5400" y="18899"/>
                  <a:pt x="10800" y="18910"/>
                  <a:pt x="10800" y="18921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762000" y="1752480"/>
            <a:ext cx="4876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dividuals and firms buy or take over undervalued corpor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neffective managers are usually replaced in such takeove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reat of takeover may lead firm to operate more efficientl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hanges in regulations have made hostile takeovers difficul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72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73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14"/>
          <p:cNvGrpSpPr/>
          <p:nvPr/>
        </p:nvGrpSpPr>
        <p:grpSpPr>
          <a:xfrm>
            <a:off x="541440" y="4538520"/>
            <a:ext cx="2811240" cy="1036440"/>
            <a:chOff x="541440" y="4538520"/>
            <a:chExt cx="2811240" cy="1036440"/>
          </a:xfrm>
        </p:grpSpPr>
        <p:sp>
          <p:nvSpPr>
            <p:cNvPr id="276" name="Rectangle 15"/>
            <p:cNvSpPr/>
            <p:nvPr/>
          </p:nvSpPr>
          <p:spPr>
            <a:xfrm>
              <a:off x="541440" y="45385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7c9496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6"/>
            <p:cNvSpPr/>
            <p:nvPr/>
          </p:nvSpPr>
          <p:spPr>
            <a:xfrm>
              <a:off x="644400" y="46162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d5c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Market 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rporate Control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20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79" name="Rectangle 21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2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23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82" name="Rectangle 24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5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mpens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500"/>
                            </p:stCondLst>
                            <p:childTnLst>
                              <p:par>
                                <p:cTn id="6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000"/>
                            </p:stCondLst>
                            <p:childTnLst>
                              <p:par>
                                <p:cTn id="6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8E5B93A5-E201-4C92-BF01-4FE5A8DBAE65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2"/>
          <p:cNvSpPr/>
          <p:nvPr/>
        </p:nvSpPr>
        <p:spPr>
          <a:xfrm>
            <a:off x="3200400" y="1512720"/>
            <a:ext cx="990720" cy="425304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253040"/>
              <a:gd name="textAreaBottom" fmla="*/ 4251960 h 42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8079"/>
                </a:lnTo>
                <a:cubicBezTo>
                  <a:pt x="10800" y="18090"/>
                  <a:pt x="5400" y="18101"/>
                  <a:pt x="0" y="18101"/>
                </a:cubicBezTo>
                <a:cubicBezTo>
                  <a:pt x="5400" y="18101"/>
                  <a:pt x="10800" y="18112"/>
                  <a:pt x="10800" y="18123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733920" y="1523520"/>
            <a:ext cx="48765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anagerial defense tactics increase the costs of mounting a takeov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fense tactics may requir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sset restructuring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hanges in the financial structure of the fir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 approval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arket for corporate control lacks the precision of internal governance mechanis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89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90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11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93" name="Rectangle 12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3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mpens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14"/>
          <p:cNvGrpSpPr/>
          <p:nvPr/>
        </p:nvGrpSpPr>
        <p:grpSpPr>
          <a:xfrm>
            <a:off x="541440" y="4538520"/>
            <a:ext cx="2811240" cy="1036440"/>
            <a:chOff x="541440" y="4538520"/>
            <a:chExt cx="2811240" cy="1036440"/>
          </a:xfrm>
        </p:grpSpPr>
        <p:sp>
          <p:nvSpPr>
            <p:cNvPr id="296" name="Rectangle 15"/>
            <p:cNvSpPr/>
            <p:nvPr/>
          </p:nvSpPr>
          <p:spPr>
            <a:xfrm>
              <a:off x="541440" y="45385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6"/>
            <p:cNvSpPr/>
            <p:nvPr/>
          </p:nvSpPr>
          <p:spPr>
            <a:xfrm>
              <a:off x="644400" y="46162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Market 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rporate Control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17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99" name="Rectangle 18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9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70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500"/>
                            </p:stCondLst>
                            <p:childTnLst>
                              <p:par>
                                <p:cTn id="71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500"/>
                            </p:stCondLst>
                            <p:childTnLst>
                              <p:par>
                                <p:cTn id="7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000"/>
                            </p:stCondLst>
                            <p:childTnLst>
                              <p:par>
                                <p:cTn id="7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500"/>
                            </p:stCondLst>
                            <p:childTnLst>
                              <p:par>
                                <p:cTn id="7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B4384322-3D91-4F46-9DAD-F9BF52832857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441360"/>
            <a:ext cx="8381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10.2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General Environment: Segments and Elem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209520" y="1251000"/>
            <a:ext cx="878220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Defense strateg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Categor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Popularit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Effectiveness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Stockholder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mong firms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s a defense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wealth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son pi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rate char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l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end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lden parachu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lig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tig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enma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l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sti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 structu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nclus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396360" y="6313320"/>
            <a:ext cx="7688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. A. Pearce II &amp; R. B. Robinson, Jr., 2004, Hostile takeover defenses that maximize shareholder wealth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Business Horizons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7(5): 15–24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FEDF8215-F286-4F4F-A229-A4C434FF1A32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1814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erman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wner and manager are often the same in private firm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ublic firms often have a dominant shareholder, frequently a ban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requently there is less emphasis on shareholder value than in U.S. firms, although this may be changing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310" name="Picture 4" descr="j0234757"/>
          <p:cNvPicPr/>
          <p:nvPr/>
        </p:nvPicPr>
        <p:blipFill>
          <a:blip r:embed="rId1"/>
          <a:stretch/>
        </p:blipFill>
        <p:spPr>
          <a:xfrm>
            <a:off x="5888160" y="4038480"/>
            <a:ext cx="1655640" cy="19051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csuj_3zz[1]"/>
          <p:cNvPicPr/>
          <p:nvPr/>
        </p:nvPicPr>
        <p:blipFill>
          <a:blip r:embed="rId2"/>
          <a:stretch/>
        </p:blipFill>
        <p:spPr>
          <a:xfrm>
            <a:off x="6324480" y="2819520"/>
            <a:ext cx="2286000" cy="1379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AE84E8CF-3769-4B5E-ABE3-89612779ED4A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types of compensation executives receive and their effects on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the external corporate governance mechanism—the market for corporate control—acts as a restraint on top-level managers’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use of corporate governance in international settings, in particular in Germany and Japa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rporate governance fosters ethical strategic decisions and the importance of such behaviors on the part of top-level executiv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38A1ADCE-861A-4772-A53A-B4728EFFCD62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"/>
          <p:cNvSpPr/>
          <p:nvPr/>
        </p:nvSpPr>
        <p:spPr>
          <a:xfrm>
            <a:off x="4006800" y="225252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the functions of direction and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4006800" y="347184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appointing members to the Vo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4006800" y="493704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appointing members to the Aufsichtsr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318" name="Group 6"/>
          <p:cNvGrpSpPr/>
          <p:nvPr/>
        </p:nvGrpSpPr>
        <p:grpSpPr>
          <a:xfrm>
            <a:off x="1301760" y="2057400"/>
            <a:ext cx="2482560" cy="1033200"/>
            <a:chOff x="1301760" y="2057400"/>
            <a:chExt cx="2482560" cy="1033200"/>
          </a:xfrm>
        </p:grpSpPr>
        <p:sp>
          <p:nvSpPr>
            <p:cNvPr id="319" name="Rectangle 7"/>
            <p:cNvSpPr/>
            <p:nvPr/>
          </p:nvSpPr>
          <p:spPr>
            <a:xfrm>
              <a:off x="1301760" y="2057400"/>
              <a:ext cx="2482560" cy="10332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8"/>
            <p:cNvSpPr/>
            <p:nvPr/>
          </p:nvSpPr>
          <p:spPr>
            <a:xfrm>
              <a:off x="1361880" y="2125440"/>
              <a:ext cx="2327400" cy="897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orst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9"/>
          <p:cNvGrpSpPr/>
          <p:nvPr/>
        </p:nvGrpSpPr>
        <p:grpSpPr>
          <a:xfrm>
            <a:off x="1301760" y="3352680"/>
            <a:ext cx="2482920" cy="1033200"/>
            <a:chOff x="1301760" y="3352680"/>
            <a:chExt cx="2482920" cy="1033200"/>
          </a:xfrm>
        </p:grpSpPr>
        <p:sp>
          <p:nvSpPr>
            <p:cNvPr id="322" name="Rectangle 10"/>
            <p:cNvSpPr/>
            <p:nvPr/>
          </p:nvSpPr>
          <p:spPr>
            <a:xfrm>
              <a:off x="1301760" y="3352680"/>
              <a:ext cx="2482920" cy="1033200"/>
            </a:xfrm>
            <a:prstGeom prst="rect">
              <a:avLst/>
            </a:prstGeom>
            <a:gradFill rotWithShape="0">
              <a:gsLst>
                <a:gs pos="0">
                  <a:srgbClr val="5e4700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1"/>
            <p:cNvSpPr/>
            <p:nvPr/>
          </p:nvSpPr>
          <p:spPr>
            <a:xfrm>
              <a:off x="1362240" y="3420720"/>
              <a:ext cx="2327040" cy="8971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5e4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ufsichtsr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12"/>
          <p:cNvGrpSpPr/>
          <p:nvPr/>
        </p:nvGrpSpPr>
        <p:grpSpPr>
          <a:xfrm>
            <a:off x="1300320" y="4627440"/>
            <a:ext cx="2495520" cy="1359000"/>
            <a:chOff x="1300320" y="4627440"/>
            <a:chExt cx="2495520" cy="1359000"/>
          </a:xfrm>
        </p:grpSpPr>
        <p:sp>
          <p:nvSpPr>
            <p:cNvPr id="325" name="Rectangle 13"/>
            <p:cNvSpPr/>
            <p:nvPr/>
          </p:nvSpPr>
          <p:spPr>
            <a:xfrm>
              <a:off x="1300320" y="4627440"/>
              <a:ext cx="2495520" cy="1359000"/>
            </a:xfrm>
            <a:prstGeom prst="rect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4"/>
            <p:cNvSpPr/>
            <p:nvPr/>
          </p:nvSpPr>
          <p:spPr>
            <a:xfrm>
              <a:off x="1377720" y="4802400"/>
              <a:ext cx="2340000" cy="10087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Un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embers Shar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27" name="AutoShape 15"/>
          <p:cNvCxnSpPr>
            <a:stCxn id="325" idx="0"/>
            <a:endCxn id="322" idx="2"/>
          </p:cNvCxnSpPr>
          <p:nvPr/>
        </p:nvCxnSpPr>
        <p:spPr>
          <a:xfrm flipH="1" flipV="1">
            <a:off x="2542680" y="4385880"/>
            <a:ext cx="5760" cy="241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328" name="AutoShape 16"/>
          <p:cNvCxnSpPr>
            <a:stCxn id="322" idx="0"/>
            <a:endCxn id="319" idx="2"/>
          </p:cNvCxnSpPr>
          <p:nvPr/>
        </p:nvCxnSpPr>
        <p:spPr>
          <a:xfrm flipV="1">
            <a:off x="2542680" y="3090600"/>
            <a:ext cx="1080" cy="262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329" name="Text Box 17"/>
          <p:cNvSpPr/>
          <p:nvPr/>
        </p:nvSpPr>
        <p:spPr>
          <a:xfrm>
            <a:off x="1952640" y="1295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Germany: Two-tiered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0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000"/>
                            </p:stCondLst>
                            <p:childTnLst>
                              <p:par>
                                <p:cTn id="8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00"/>
                            </p:stCondLst>
                            <p:childTnLst>
                              <p:par>
                                <p:cTn id="8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B5F351B9-32CC-448C-82D5-B4BBDF423410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2" descr="j0090245"/>
          <p:cNvPicPr/>
          <p:nvPr/>
        </p:nvPicPr>
        <p:blipFill>
          <a:blip r:embed="rId1"/>
          <a:stretch/>
        </p:blipFill>
        <p:spPr>
          <a:xfrm>
            <a:off x="6864480" y="3352680"/>
            <a:ext cx="1670040" cy="170496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9562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pa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ortant governance factor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n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eiretsus: strongly interrelated groups of firms tied together by cross-shareholding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anks (especially “main bank”) are highly influential with firm’s manag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335" name="Picture 5" descr="v0igzx1j[1]"/>
          <p:cNvPicPr/>
          <p:nvPr/>
        </p:nvPicPr>
        <p:blipFill>
          <a:blip r:embed="rId2"/>
          <a:stretch/>
        </p:blipFill>
        <p:spPr>
          <a:xfrm>
            <a:off x="6172200" y="1981080"/>
            <a:ext cx="2127240" cy="1495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8E439EEB-DA8E-4E70-8400-D7C463ACD8DE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pan (cont’d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Other governance characteristics: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government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relationships between firms and government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ive and stable shareholders who exert littl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bsence of external market for corporat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BB6AD8BE-1343-40A7-9108-72CBD18E0934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lobal Corporate Govern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2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Organizations worldwide are adopting a relatively uniform governance structure.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s of directors are becoming smaller, with more independent and outside me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ors are becoming more a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apidly developing market economies, minority shareholder rights are not protected by adequate governance contr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E3698F97-48AC-4F46-8847-2CEA502E5893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4"/>
          <p:cNvGrpSpPr/>
          <p:nvPr/>
        </p:nvGrpSpPr>
        <p:grpSpPr>
          <a:xfrm>
            <a:off x="566640" y="4716360"/>
            <a:ext cx="2584440" cy="846360"/>
            <a:chOff x="566640" y="4716360"/>
            <a:chExt cx="2584440" cy="846360"/>
          </a:xfrm>
        </p:grpSpPr>
        <p:sp>
          <p:nvSpPr>
            <p:cNvPr id="347" name="Rectangle 5"/>
            <p:cNvSpPr/>
            <p:nvPr/>
          </p:nvSpPr>
          <p:spPr>
            <a:xfrm>
              <a:off x="566640" y="4716360"/>
              <a:ext cx="2584440" cy="846360"/>
            </a:xfrm>
            <a:prstGeom prst="rect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6"/>
            <p:cNvSpPr/>
            <p:nvPr/>
          </p:nvSpPr>
          <p:spPr>
            <a:xfrm>
              <a:off x="619200" y="477432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7"/>
          <p:cNvGrpSpPr/>
          <p:nvPr/>
        </p:nvGrpSpPr>
        <p:grpSpPr>
          <a:xfrm>
            <a:off x="566640" y="3835440"/>
            <a:ext cx="2584440" cy="846000"/>
            <a:chOff x="566640" y="3835440"/>
            <a:chExt cx="2584440" cy="846000"/>
          </a:xfrm>
        </p:grpSpPr>
        <p:sp>
          <p:nvSpPr>
            <p:cNvPr id="350" name="Rectangle 8"/>
            <p:cNvSpPr/>
            <p:nvPr/>
          </p:nvSpPr>
          <p:spPr>
            <a:xfrm>
              <a:off x="566640" y="38354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9"/>
            <p:cNvSpPr/>
            <p:nvPr/>
          </p:nvSpPr>
          <p:spPr>
            <a:xfrm>
              <a:off x="625320" y="38890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518760"/>
            <a:ext cx="5410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Ethical Behavio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53" name="Text Box 29"/>
          <p:cNvSpPr/>
          <p:nvPr/>
        </p:nvSpPr>
        <p:spPr>
          <a:xfrm>
            <a:off x="1752480" y="1905120"/>
            <a:ext cx="563904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0"/>
          <p:cNvSpPr/>
          <p:nvPr/>
        </p:nvSpPr>
        <p:spPr>
          <a:xfrm>
            <a:off x="3530520" y="3033720"/>
            <a:ext cx="510552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hareholders (in the capital market stakeholder group) are viewed as the most important stakeholder gro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he focus of governance mechanisms is on the control of managerial decisions to assure shareholder inter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nterests of shareholders is served by the Board of Direc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32"/>
          <p:cNvSpPr/>
          <p:nvPr/>
        </p:nvSpPr>
        <p:spPr>
          <a:xfrm>
            <a:off x="3124080" y="3022560"/>
            <a:ext cx="609840" cy="2743200"/>
          </a:xfrm>
          <a:custGeom>
            <a:avLst/>
            <a:gdLst>
              <a:gd name="textAreaLeft" fmla="*/ 389520 w 609840"/>
              <a:gd name="textAreaRight" fmla="*/ 610200 w 609840"/>
              <a:gd name="textAreaTop" fmla="*/ 720 h 2743200"/>
              <a:gd name="textAreaBottom" fmla="*/ 274248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918"/>
                </a:lnTo>
                <a:cubicBezTo>
                  <a:pt x="10800" y="2929"/>
                  <a:pt x="5400" y="2940"/>
                  <a:pt x="0" y="2940"/>
                </a:cubicBezTo>
                <a:cubicBezTo>
                  <a:pt x="5400" y="2940"/>
                  <a:pt x="10800" y="2951"/>
                  <a:pt x="10800" y="2962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10"/>
          <p:cNvGrpSpPr/>
          <p:nvPr/>
        </p:nvGrpSpPr>
        <p:grpSpPr>
          <a:xfrm>
            <a:off x="565200" y="2963880"/>
            <a:ext cx="2584440" cy="846000"/>
            <a:chOff x="565200" y="2963880"/>
            <a:chExt cx="2584440" cy="846000"/>
          </a:xfrm>
        </p:grpSpPr>
        <p:sp>
          <p:nvSpPr>
            <p:cNvPr id="357" name="Rectangle 11"/>
            <p:cNvSpPr/>
            <p:nvPr/>
          </p:nvSpPr>
          <p:spPr>
            <a:xfrm>
              <a:off x="565200" y="296388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2"/>
            <p:cNvSpPr/>
            <p:nvPr/>
          </p:nvSpPr>
          <p:spPr>
            <a:xfrm>
              <a:off x="623880" y="301788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500"/>
                            </p:stCondLst>
                            <p:childTnLst>
                              <p:par>
                                <p:cTn id="9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2000"/>
                            </p:stCondLst>
                            <p:childTnLst>
                              <p:par>
                                <p:cTn id="9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2500"/>
                            </p:stCondLst>
                            <p:childTnLst>
                              <p:par>
                                <p:cTn id="93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3000"/>
                            </p:stCondLst>
                            <p:childTnLst>
                              <p:par>
                                <p:cTn id="94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3500"/>
                            </p:stCondLst>
                            <p:childTnLst>
                              <p:par>
                                <p:cTn id="94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7FE8F5E6-C5B5-40FA-B6AA-1EEB7B5B18B8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566640" y="4718160"/>
            <a:ext cx="2584440" cy="846000"/>
            <a:chOff x="566640" y="4718160"/>
            <a:chExt cx="2584440" cy="846000"/>
          </a:xfrm>
        </p:grpSpPr>
        <p:sp>
          <p:nvSpPr>
            <p:cNvPr id="362" name="Rectangle 5"/>
            <p:cNvSpPr/>
            <p:nvPr/>
          </p:nvSpPr>
          <p:spPr>
            <a:xfrm>
              <a:off x="566640" y="471816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6"/>
            <p:cNvSpPr/>
            <p:nvPr/>
          </p:nvSpPr>
          <p:spPr>
            <a:xfrm>
              <a:off x="619200" y="477612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7"/>
          <p:cNvGrpSpPr/>
          <p:nvPr/>
        </p:nvGrpSpPr>
        <p:grpSpPr>
          <a:xfrm>
            <a:off x="566640" y="3833640"/>
            <a:ext cx="2584440" cy="846360"/>
            <a:chOff x="566640" y="3833640"/>
            <a:chExt cx="2584440" cy="846360"/>
          </a:xfrm>
        </p:grpSpPr>
        <p:sp>
          <p:nvSpPr>
            <p:cNvPr id="365" name="Rectangle 8"/>
            <p:cNvSpPr/>
            <p:nvPr/>
          </p:nvSpPr>
          <p:spPr>
            <a:xfrm>
              <a:off x="566640" y="3833640"/>
              <a:ext cx="2584440" cy="8463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9"/>
            <p:cNvSpPr/>
            <p:nvPr/>
          </p:nvSpPr>
          <p:spPr>
            <a:xfrm>
              <a:off x="625320" y="38872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10"/>
          <p:cNvGrpSpPr/>
          <p:nvPr/>
        </p:nvGrpSpPr>
        <p:grpSpPr>
          <a:xfrm>
            <a:off x="565200" y="2959200"/>
            <a:ext cx="2584440" cy="846000"/>
            <a:chOff x="565200" y="2959200"/>
            <a:chExt cx="2584440" cy="846000"/>
          </a:xfrm>
        </p:grpSpPr>
        <p:sp>
          <p:nvSpPr>
            <p:cNvPr id="368" name="Rectangle 11"/>
            <p:cNvSpPr/>
            <p:nvPr/>
          </p:nvSpPr>
          <p:spPr>
            <a:xfrm>
              <a:off x="565200" y="295920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2"/>
            <p:cNvSpPr/>
            <p:nvPr/>
          </p:nvSpPr>
          <p:spPr>
            <a:xfrm>
              <a:off x="623880" y="301320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160" y="5187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Behavio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71" name="Rectangle 30"/>
          <p:cNvSpPr/>
          <p:nvPr/>
        </p:nvSpPr>
        <p:spPr>
          <a:xfrm>
            <a:off x="3505320" y="3040200"/>
            <a:ext cx="4952880" cy="19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roduct market stakeholders (customers, suppliers and host communities) and organizational stakeholders may withdraw their support of the firm if their needs are not met, at least minim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32"/>
          <p:cNvSpPr/>
          <p:nvPr/>
        </p:nvSpPr>
        <p:spPr>
          <a:xfrm>
            <a:off x="3124080" y="2997360"/>
            <a:ext cx="609840" cy="2082600"/>
          </a:xfrm>
          <a:custGeom>
            <a:avLst/>
            <a:gdLst>
              <a:gd name="textAreaLeft" fmla="*/ 389520 w 609840"/>
              <a:gd name="textAreaRight" fmla="*/ 610200 w 609840"/>
              <a:gd name="textAreaTop" fmla="*/ 360 h 2082600"/>
              <a:gd name="textAreaBottom" fmla="*/ 2082240 h 2082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3001"/>
                </a:lnTo>
                <a:cubicBezTo>
                  <a:pt x="10800" y="13012"/>
                  <a:pt x="5400" y="13023"/>
                  <a:pt x="0" y="13023"/>
                </a:cubicBezTo>
                <a:cubicBezTo>
                  <a:pt x="5400" y="13023"/>
                  <a:pt x="10800" y="13034"/>
                  <a:pt x="10800" y="1304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3"/>
          <p:cNvSpPr/>
          <p:nvPr/>
        </p:nvSpPr>
        <p:spPr>
          <a:xfrm>
            <a:off x="1752480" y="1905120"/>
            <a:ext cx="563904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0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500"/>
                            </p:stCondLst>
                            <p:childTnLst>
                              <p:par>
                                <p:cTn id="96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CF6D1E09-055B-46F5-85D3-8A3EB6CA68D4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32"/>
          <p:cNvSpPr/>
          <p:nvPr/>
        </p:nvSpPr>
        <p:spPr>
          <a:xfrm>
            <a:off x="3124080" y="2971800"/>
            <a:ext cx="609840" cy="2743200"/>
          </a:xfrm>
          <a:custGeom>
            <a:avLst/>
            <a:gdLst>
              <a:gd name="textAreaLeft" fmla="*/ 389520 w 609840"/>
              <a:gd name="textAreaRight" fmla="*/ 610200 w 609840"/>
              <a:gd name="textAreaTop" fmla="*/ 720 h 2743200"/>
              <a:gd name="textAreaBottom" fmla="*/ 274248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6703"/>
                </a:lnTo>
                <a:cubicBezTo>
                  <a:pt x="10800" y="16714"/>
                  <a:pt x="5400" y="16725"/>
                  <a:pt x="0" y="16725"/>
                </a:cubicBezTo>
                <a:cubicBezTo>
                  <a:pt x="5400" y="16725"/>
                  <a:pt x="10800" y="16736"/>
                  <a:pt x="10800" y="16747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7"/>
          <p:cNvGrpSpPr/>
          <p:nvPr/>
        </p:nvGrpSpPr>
        <p:grpSpPr>
          <a:xfrm>
            <a:off x="566640" y="3822840"/>
            <a:ext cx="2584440" cy="846000"/>
            <a:chOff x="566640" y="3822840"/>
            <a:chExt cx="2584440" cy="846000"/>
          </a:xfrm>
        </p:grpSpPr>
        <p:sp>
          <p:nvSpPr>
            <p:cNvPr id="378" name="Rectangle 8"/>
            <p:cNvSpPr/>
            <p:nvPr/>
          </p:nvSpPr>
          <p:spPr>
            <a:xfrm>
              <a:off x="566640" y="38228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9"/>
            <p:cNvSpPr/>
            <p:nvPr/>
          </p:nvSpPr>
          <p:spPr>
            <a:xfrm>
              <a:off x="625320" y="38764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4"/>
          <p:cNvGrpSpPr/>
          <p:nvPr/>
        </p:nvGrpSpPr>
        <p:grpSpPr>
          <a:xfrm>
            <a:off x="566640" y="4710240"/>
            <a:ext cx="2584440" cy="846000"/>
            <a:chOff x="566640" y="4710240"/>
            <a:chExt cx="2584440" cy="846000"/>
          </a:xfrm>
        </p:grpSpPr>
        <p:sp>
          <p:nvSpPr>
            <p:cNvPr id="381" name="Rectangle 5"/>
            <p:cNvSpPr/>
            <p:nvPr/>
          </p:nvSpPr>
          <p:spPr>
            <a:xfrm>
              <a:off x="566640" y="47102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6"/>
            <p:cNvSpPr/>
            <p:nvPr/>
          </p:nvSpPr>
          <p:spPr>
            <a:xfrm>
              <a:off x="619200" y="476820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10"/>
          <p:cNvGrpSpPr/>
          <p:nvPr/>
        </p:nvGrpSpPr>
        <p:grpSpPr>
          <a:xfrm>
            <a:off x="565200" y="2951280"/>
            <a:ext cx="2584440" cy="846000"/>
            <a:chOff x="565200" y="2951280"/>
            <a:chExt cx="2584440" cy="846000"/>
          </a:xfrm>
        </p:grpSpPr>
        <p:sp>
          <p:nvSpPr>
            <p:cNvPr id="384" name="Rectangle 11"/>
            <p:cNvSpPr/>
            <p:nvPr/>
          </p:nvSpPr>
          <p:spPr>
            <a:xfrm>
              <a:off x="565200" y="295128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2"/>
            <p:cNvSpPr/>
            <p:nvPr/>
          </p:nvSpPr>
          <p:spPr>
            <a:xfrm>
              <a:off x="623880" y="300528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160" y="5187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Behavio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87" name="Text Box 29"/>
          <p:cNvSpPr/>
          <p:nvPr/>
        </p:nvSpPr>
        <p:spPr>
          <a:xfrm>
            <a:off x="1790640" y="1905120"/>
            <a:ext cx="556272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0"/>
          <p:cNvSpPr/>
          <p:nvPr/>
        </p:nvSpPr>
        <p:spPr>
          <a:xfrm>
            <a:off x="3505320" y="3014640"/>
            <a:ext cx="495288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ome observers believe that ethically responsible companies design and use governance mechanisms that serve all stakeholders’ inter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mportance of maintaining ethical behavior is seen in the examples of Enron, WorldCom, HealthSouth and Ty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0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"/>
                            </p:stCondLst>
                            <p:childTnLst>
                              <p:par>
                                <p:cTn id="97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1000"/>
                            </p:stCondLst>
                            <p:childTnLst>
                              <p:par>
                                <p:cTn id="9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B0BAF0CE-BF67-49E5-89B9-BF59EB22180B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 Govern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 governance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relationship among stakeholders that is used to determine and control the strategic direction and performance of organiz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ed with identifying ways to ensure that strategic decisions are made more effective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ed in corporations to establish order between the firm’s owners and its top-level managers whose interests may be in confli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6874674B-8930-4906-A69C-B95773B68044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9924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ship Concentr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lative amounts of stock owned by individual shareholders and institutional investo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oard of Directo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viduals responsible 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representing the firm’s 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wners by monitoring top-level managers’ strategic decis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16" name="Picture 27" descr="j0090344"/>
          <p:cNvPicPr/>
          <p:nvPr/>
        </p:nvPicPr>
        <p:blipFill>
          <a:blip r:embed="rId1"/>
          <a:stretch/>
        </p:blipFill>
        <p:spPr>
          <a:xfrm>
            <a:off x="5486400" y="2401920"/>
            <a:ext cx="2801880" cy="2093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A22456E1-9F00-48F3-A1B5-212F963F1F9A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4864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ecutive Compens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use of salary, bonuses, and long-term incentives to align managers’ interests with shareholders’ intere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 for Corporate Contro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purchase of a firm that is underperforming relative to industry rivals in order to improve its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1" name="Picture 29" descr="j0215564"/>
          <p:cNvPicPr/>
          <p:nvPr/>
        </p:nvPicPr>
        <p:blipFill>
          <a:blip r:embed="rId1"/>
          <a:stretch/>
        </p:blipFill>
        <p:spPr>
          <a:xfrm>
            <a:off x="5791320" y="2009880"/>
            <a:ext cx="2879640" cy="2867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Marcador de pie de página 4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Marcador de número de diapositiva 5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F6778247-6E39-421D-844D-95A0EE33C644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paration of Ownership and Managerial Contro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asis of the modern corpor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purchase stock, becoming residual claimant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reduce risk by holding diversified portfolio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fessional managers are contracted to provide decision making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odern public corporation form leads to efficient specialization of task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Risk bearing by sharehold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ategy development and decision making by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49234607-1A6C-40E3-9AF3-92CC9C08C08E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463680"/>
            <a:ext cx="793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0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gency Relationship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0" name="Freeform 4"/>
          <p:cNvSpPr/>
          <p:nvPr/>
        </p:nvSpPr>
        <p:spPr>
          <a:xfrm>
            <a:off x="457200" y="457200"/>
            <a:ext cx="8229600" cy="4665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10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32" name="Line 6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7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12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391520" cy="4538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3E883EC3-0872-4A78-9641-B6E1202F6373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Relationship Proble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ncipal and agent have divergent interests and goa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hareholders lack direct control of large, publicly traded corpor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nt makes decisions that result in the pursuit of goals that conflict with those of the princip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t is difficult or expensive for the principal to verify that the agent has behaved appropriatel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nt falls prey to managerial opportunis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16:39:10Z</dcterms:created>
  <dc:creator>Charlie Cook, The University of West Alabama</dc:creator>
  <dc:description/>
  <dc:language>en-US</dc:language>
  <cp:lastModifiedBy>Luis Zaviezo</cp:lastModifiedBy>
  <dcterms:modified xsi:type="dcterms:W3CDTF">2010-11-08T16:49:52Z</dcterms:modified>
  <cp:revision>47</cp:revision>
  <dc:subject>Chapter 10</dc:subject>
  <dc:title>Strategic Management 7e.</dc:title>
</cp:coreProperties>
</file>