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8918-AF39-4D7B-B220-FBA9EDBBCB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58CD-21D8-482C-9C9F-77CCE661FEA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FF1F-A7D1-4348-9493-3CA735EE3C6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0D84-222D-4281-8384-AB3112F256A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DC2A-DFC9-47DF-82DE-F810DBE2D97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EDEB-2930-41E4-B171-BFCB745EED0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F930-15C8-40DD-B8CA-4AABF94ADCB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80DD-0EC7-4C82-ADB9-601CEEA7AB8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0FA7-EF82-4FF3-B785-2A52BEC9B32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3BA1-0941-4FE5-85E5-6091CC733EF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37DF-9C4A-49B4-B105-06F09E9A365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444C-5A20-4851-B2E4-755A8FD76DB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A254-EE55-4924-9868-9CF249CA154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9C77-ED7D-47F1-8922-37349D548E3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663D-BCC1-4F54-925A-C69384FFC71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2B8B-21D2-4FE3-8DB4-7D5AC6F928E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F0A8-DBEA-49A5-928D-3221CBEC470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438-D4AF-40A1-B06D-EEA7067F372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5D07-499C-4B75-BE1F-F59D7B44A96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7638-717A-46F8-BF29-C78E9F6D51C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B032-868F-46C8-86EA-451E00C55ED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C9EC-1685-43A4-812A-8D0B2280D5D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F9C8-2EDE-4D24-97E7-D8F3EB536D1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650B-F95B-4445-B26F-3412D9717C0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B91-858B-46DF-B261-519F85DC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820-EFFD-4AEF-AEA7-55E7061A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DD5-9CA1-41A2-8149-EA494409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73C-D85C-4BCE-80C4-69C9DA9B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357A-249B-4840-96DD-84C456DA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EED5-8E3C-4DCC-9BCA-A206922E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9196-2164-4592-8573-502B380E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DCFA-919F-4245-97DB-EE8057FA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BD7F-906C-4A13-95B1-968A22BB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8DA7-70F7-4772-A583-3AC5E593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CDD8-8048-4808-AB2A-E7952753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B62-E3B2-4184-B961-81FE56B7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9B69-1F17-4440-883B-993D6A73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A0FD-380E-4D7A-A089-8FF5E5F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9A0B-5CE2-4D7B-BF39-7B623237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2FA5-54F5-4FDD-88CD-7F5A8BF8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8D97-7A4F-462B-A0A2-2E1BA814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20BC-0D12-4E95-B3E1-41BC09A9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8A07-8071-4CB4-934F-89D78306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5C08-2DDA-4D88-9B9B-6BC880A4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354B-194B-4EC6-9DBB-ADC9A14D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0C15-260B-4DE8-87B4-341DF2AF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CB1-7C0C-4CCB-84E9-83B9917D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82C4-53D6-4992-A66C-DD41A9CC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1D54-001D-4C2F-9AFC-D637B28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9802-5067-41EF-92F2-1C10BE28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7B0A-60B0-434C-8458-203865D8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D69D-12BD-44F5-9871-1961E11B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BFA9-419D-426C-A6F2-36DB2EA1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AF62B-2C85-4314-965E-8715C267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F67A-99CB-40E2-9008-12A01CC1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1494-288B-41AC-A9F4-632114ED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2667-690F-4649-ADE7-25707EF9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387-C048-4DB6-AE6D-42FC8C6C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50AC-A386-4364-A85E-37176A8F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8A92-98A2-4565-B174-D49ECB0B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517E-BB06-405E-B960-3F454439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C57FC-7AC5-4217-8F4C-7463D7B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A1AEE-96D8-4AD1-868D-8F92E88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5899B-BA46-4B56-BC26-15D3F192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B9E8-4753-45B8-9AFF-134C06CB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6E5A-11D6-48C4-8E45-3E0E6BEF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C42D-5AC4-46CF-96BF-C7F21635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ECE15-9900-44FD-BC07-A234002A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E7D-F7EF-4CD8-98FC-366CAD5D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B959D-BC1E-427F-A59A-50AD2CE6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A2283-60FE-43BB-9813-06F6B996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E1D04-1F15-45B0-A7D7-F2569165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BC870-AA25-4B35-9336-1D875363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92999-80CB-49D0-AE91-E7439D1C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9D41-0D13-42F9-8644-2184417C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AC15C-7E24-4A7D-9F2A-E12A28EA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E2392-C12F-4952-93A5-72914E71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D51B9-89DF-4EBB-901D-7163B8C5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F1765-09AF-4BDD-A714-8177FD22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92D-5D58-4DC4-80BF-CE9FAC09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AEF9C-D8AF-45CB-80BF-3B2F42AF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23DAD-C4CF-455B-96DE-224D09F8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357B2-C3C2-4257-B65B-25DEED44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FAB92-4A42-4DD2-8A81-367FA4E0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3FF20-3363-4438-878A-79F9A649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109D8-7DF6-4F75-AE8A-CA0E9056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DDFFD-3626-473B-8CB5-807AE80B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96225-D9C4-427C-80BD-FD14D2C4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846A3-AABB-46BF-B3E2-9DF47A14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253ED-E485-4EDD-8291-0EADB270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A4E-CB8B-4C69-88AF-171BA068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098A5-7968-4789-8CC3-FAFAF7F2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48DE5-3B75-4A20-8B24-783FA5E3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61286-C023-455D-94B9-78E7345A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69B95-69EB-419B-9EE4-AC7949FC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CB0B5-BFF5-44CB-A4CA-6448459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B6E30-595B-4577-8E78-610C3E98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8BD34-7037-460A-AE16-7A7472AC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2B4F1-D26B-4DDA-9183-5C53544E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FA67F-FA24-4DFF-98B0-2A1E15E0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4B710-29BA-4DFE-9BCF-2E3CD4C6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5BE-5F87-4733-9B98-912C176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531CE-8F26-4FA3-983F-6303398C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BC453-2EE5-433F-96F8-6C3B6F62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522C6-6803-40C1-8D2E-3D9DF598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896A8-7FC5-45FE-9E30-9117DE86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5C296-A77D-4964-8025-59D4F13E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0F4FA-FBB7-4947-ABBA-7F8D4FFD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5E1F1-78BD-401F-9D5F-6E4D384A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FE37C-9134-4080-8952-C0158799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59258-E638-4B32-BEEC-3715E28D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9B5A3-7E1A-4BFC-A14F-F12522B9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15D-867E-4B97-B758-A4707A4F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CF24E-F085-4FE0-8B03-D0E1C616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EAC2F-DDC1-428A-8A1E-D72E9028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823ED-69D3-4FC6-9C0E-D8566F0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DAABA-BB0D-4E6C-8C72-9D2DBFA0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6632A-B2FB-4424-91F4-75E2EA60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2AB34-C959-46AF-AEB3-0AA0C301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8C950-97CF-4BAF-BA80-D7B31A46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4D7E-6734-4679-B1B2-A9445BEA873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B2C7-567D-4152-9D9A-38BFB2985998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7450-ECE6-4864-978F-54CF8EBC17EB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3C0B-3FDD-42D0-88F9-805CFE11DBB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8A03-CE26-4310-8D51-29644E513BB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DFF-DE7A-4CE1-87CA-12A09F7B9ED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A3E0-6FD4-44D9-A7BD-AEFE2DFBF57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A9E4-D07D-4D03-B7B6-8B25067AA75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Primavera 20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C29B-A147-4A1D-898B-FA7973A6979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50088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7476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9ED3-8A9D-4C8A-BFF8-F31B6DD8502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2A33-E5C5-4E89-ADEB-52290464FAF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9F7D-37DE-49AD-B77A-A73FBA4CCC1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rbel"/>
                </a:rPr>
                <a:t>CC44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24F0-89DC-4CCE-83BF-73CC954225F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280" cy="1399680"/>
            <a:chOff x="5724360" y="3429000"/>
            <a:chExt cx="2969280" cy="139968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5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38520" y="3922920"/>
              <a:ext cx="2355120" cy="905760"/>
              <a:chOff x="6338520" y="3922920"/>
              <a:chExt cx="2355120" cy="90576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6720" y="4369680"/>
                <a:ext cx="208692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38520" y="3922920"/>
                <a:ext cx="1310040" cy="44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58A6-8CAD-4727-9CF1-CA2B1A45472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184F-EEA7-49CC-BB52-048058723F1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/clou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CBB4-4B64-4522-88C5-9EFB7F2EA9A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B925-A969-4341-8E24-1E1CE111797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AD68-FA7C-4800-85C7-7F2408D4570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Miércoles/6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materia incluyendo lecturas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8277-BE2B-409A-91E2-8886C1F7155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1FDB-A9FB-4F13-92F5-2E2E23714F9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E442-D344-4380-9E17-1BC60012B2C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90480" cy="327240"/>
            <a:chOff x="685800" y="5973840"/>
            <a:chExt cx="7890480" cy="327240"/>
          </a:xfrm>
        </p:grpSpPr>
        <p:sp>
          <p:nvSpPr>
            <p:cNvPr id="473" name="Text Box 5"/>
            <p:cNvSpPr/>
            <p:nvPr/>
          </p:nvSpPr>
          <p:spPr>
            <a:xfrm>
              <a:off x="206496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alta calidad 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033E-50CE-4A80-A3CB-ECCB6502C42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580D-8652-47B6-908C-27B5697C378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3C56-CC3C-475E-BA8F-82C77889AB9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C0DB-7EA9-41A5-B67E-0C6287BE876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dos o tre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18 de octubre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18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6EAD-79F6-41B9-B971-E5D11C4533D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51E2-0B14-4F81-A7F8-F1A116C0FB7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EABA-3D27-4256-96C7-7D1758F551F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31B7-3FBA-4301-9E4D-A18F35EF93E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94B6-9C53-46C1-A936-F99BEF554A3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F8B0-6E3F-4812-A561-21FB8A5405D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1-10-11T14:19:24Z</dcterms:modified>
  <cp:revision>24</cp:revision>
  <dc:subject/>
  <dc:title>CC31B – Desarrollo de Software de Aplicación</dc:title>
</cp:coreProperties>
</file>