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26A1-D1D9-4C9B-87FD-66134CED70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FA6-BDDA-45CB-89BE-304B50D23B7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BF2E-ECF6-4D79-9FE0-8AD3BD99306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6E68-7770-4220-8A45-0B151FF42E8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B710-A7F3-4D1F-B896-12BC8C870F3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315B-CC4B-4770-8E39-4AE9D4EF352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A12A-5188-40C3-8CEB-52BECCAFE97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EF68-4F78-4D66-A9EB-D4E50CA720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AD20-1B38-48FE-9D65-EBCE82A729E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BC9-7170-4C27-BF14-F7CB0832CB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4A0E-0DCA-4597-97E9-A4E3B10A541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5E3-51D2-4B5E-9EC4-13ED4A8780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D29B-14B8-49CE-9DFD-BBD8CEC58C0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917-0F05-46CB-A722-F48BCB5BD7E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5D85-C786-42FD-8A9D-5553512E5BB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57ED-C8D8-4DB6-9C43-B791A60A9CE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33F8-EAD1-4E2D-B9CC-1B992B6E2E0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BA12-ED9E-46BA-B4FB-45ED5011FE8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C33C-F9A3-474A-B085-D6733DA733B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BFD9-CB6E-4D42-A9F5-B9CD008589B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8A4-2B26-4A03-A93D-233F9BD51B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D394-01BA-4B77-A4C5-377FC412CBC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CCC9-586B-4630-AF05-12844BBC943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966B-AE2B-46AD-A00E-FBC0D27225E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131-5EC6-4616-9541-DFB34335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517-276C-444B-8459-DC0A65F6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07A-64C9-45B0-A40C-D4453FEE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F51-7F5A-4412-BE50-1099943B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AD3-30E1-4A3E-AE55-445F809E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9B26-26DC-4376-B7B8-5D859067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EE4E-59AD-448D-85C5-32DC326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3E28-046F-4FEF-8308-C508F5E4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323-C038-42A4-AEF6-4780D1E0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6C0C-3AC4-4DA6-902A-E7EC32F1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763D-0D1F-4747-B399-EC611D1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3A0-B2A7-4225-BADB-6FB41AE6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578D-838C-4CF7-B2C3-D069D70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4213-CCD1-4112-85DD-0136CDF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B36-0C87-433D-B43F-31B96E5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9DE5-787F-4B30-BBF5-51203FE3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0E46-CD15-4A7E-A382-92643DFA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445C-1023-4F86-9394-4B48AD5C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88EE-C295-459F-A029-AF6E656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A7AC-8121-437C-A887-9473AB91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147C-75E6-4240-8A7F-4B1D8CB2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9786-DEC7-4428-AAFF-33C2835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EC5-EF64-488D-BC05-A05B641A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4814-7CBE-488E-B9EE-834178B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E733-3BD5-43A7-A786-18C6F50B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8B70-9C71-4FCF-853F-41CDEBF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6295-228A-4FD8-B76E-26FA1A6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D69F-189E-4ED8-B28D-E1935D85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7F9E-E701-400D-A2EE-F005FECD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5088-B8B2-49F4-8A04-79FF60F4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BB72-1A06-430B-B670-144C0E54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296C-9215-48E2-B050-FF693B85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AFD9-25FA-4CDA-B901-3F603B6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281-06AF-48E8-ABED-D9F8FB3B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3CC8-DEE0-4B6B-8B44-C898728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BB70-BA76-47FB-BCC1-D404DD3F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87F9-5799-430A-B4A5-B10AA473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BC8E-CFD9-4C9F-AD36-925A8CAD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8874-16FB-4865-BD27-E082F79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BA7E-B115-467C-B478-E209FFD7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68B5-E93F-456F-A122-35F6A422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D6B2-B15F-4590-B336-23413FD4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FBFF-BFDB-4E70-A766-EDB9CC9E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4471A-D178-40F5-83E7-F0F6294E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AD3-D4DA-404A-B570-75971FB4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A76BE-2408-44D8-843A-E8364296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03F0-D929-4BDF-81CD-A19B627B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56B9-129B-47A4-9525-DB240A4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3207-ABBD-4C69-B7E9-BEA2D80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07A1-EC9A-4F29-8CFD-46CC2D17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E113B-C7E7-4AE6-9740-61B539ED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88FC-572F-4B13-8BC8-7826538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2C6F-479A-46B8-BB7C-20514FD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BC55-7266-487F-AA73-4D7131A4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C8167-3898-4DB2-BA1A-74D51F57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EA1-3B1D-4EDB-A5F8-C477806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9FB7-7AB2-4088-8D19-5767814B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2FDC-5B49-41B0-A654-8EFDACD0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8DB6-007A-4C3A-A72E-0AC1A112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8E619-498A-4B63-9FC8-A8F14DB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DB0D7-5125-4E0F-880B-7F2E43F7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BF42-C928-42ED-8C51-1057BC04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FC172-0094-41C8-B1B9-D7DC386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41DA-BA6A-4622-AFC0-5050524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1362A-85B0-4FF2-9169-FC82DCA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3443-F066-4085-83CA-D8E4036C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AD6-9C6B-4DAA-B4EA-F2C03AA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BEEDA-56F6-4CC0-A9F2-6E55485A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C629D-2978-4C94-872D-FA760260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415A-DF21-4FAB-94C4-7F3B7AAE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BB18-09DA-49C9-8E70-53909696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6853-2E9E-435E-B9CD-773BBEB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542B6-6014-477D-BD9A-7004938B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3394-3EA7-4C95-89E1-CFA2391C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7CBD-FC88-424F-A5ED-C109FEB9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01E5-232F-437E-932B-C3E6FAFC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439E1-F6AB-4CF1-A342-D1869EDF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218-FB91-4DAC-BBA7-7EC2F4F4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7A2EB-28C6-4A6A-AF1A-5F8906B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48A57-092B-4519-98EE-3AE793E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ADF8F-512A-4A13-BC7F-A77140C4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69F8-FC44-466A-B3A0-CDBE8DCD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949AB-CF70-4577-B5C4-DAF7DDB0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0F2B3-999E-4F26-8520-1AA892B1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93FF-0E08-4DFF-AC11-C21FF6F8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CD5AB-7BC9-4089-A686-4E8FF8D9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C29B1-FB2B-4EEF-AF3B-891278E1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9836-CDC4-4A4A-8C1C-6997EE6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BBA-414F-4CD9-A490-8324DB3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D2CB2-2726-40E9-A2F3-FD6E746B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3F3BA-8563-421E-BDB2-354B552E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D74D4-3E83-459C-920D-F6383D3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A2666-C816-4265-AF1D-136FB90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B020E-A14D-470E-94C9-D6B0056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E0BC4-D112-4948-8AC7-D0FD7595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080CF-BACA-446E-B9F1-C9C01CC2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C7D6-A2D1-4792-BE44-5B68A48AC98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A88-FBB7-4C82-B4D1-1085743717CA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A4D-C99C-46CF-ADEB-FD7367F85CC3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D8AF-A5C2-449E-BEB4-5C2E1D14DADF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387C-D833-461D-9FEF-4E9F005D710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4638-FC78-4C48-AB1F-F5A5EA23F4B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C26B-0ACE-4269-A583-73F32602322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49E0-8035-4268-BED3-1FF79D6EE20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48EA-C4CF-4839-971A-5B0F014EF31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7476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D152-764C-4FBD-A392-16A630439AA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512E-D5CD-4650-B1CD-986C0DEFECF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430B-FB24-4B65-AF2A-AB93C841AF4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8654-A614-4196-90A3-6200DDBFA11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D540-131E-4DD3-96E1-DE017C2AB2D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58E-EFF9-4BD5-8BAC-94CE1B132F6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F389-AECB-40B6-83E7-B353A89BDF6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70ED-5EA5-449B-9680-EE03DCFF64F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C10D-EE77-42DF-8DE5-CB361471EF2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Miércoles/6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materia incluyendo lecturas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0A6-9671-4FAD-8A63-160B2DCB19A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1A2C-0D71-4469-8CBF-33FED47C493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FDA1-87A9-439F-9DAE-5469E2E93A1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8F00-61E8-4332-BD97-02D09E6CA81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7B50-2E58-4A74-B209-1415B00ACF3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0E73-A0DC-4D18-B48E-B56A135F155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E70D-E247-45ED-9190-21944309FB5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o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8 de octubre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8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B7C2-632A-4F18-978A-E284C426878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8E18-006B-4B51-AA84-8B872FA7183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BFE5-143E-4B41-BD08-6A4C8D8932B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7FA5-814E-4D62-A1B6-73D980454B1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DDE-72B1-4FCF-9BFB-D3342EC635A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B259-3AEB-4FC9-8EB4-7611C1E3F0D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1T14:19:24Z</dcterms:modified>
  <cp:revision>24</cp:revision>
  <dc:subject/>
  <dc:title>CC31B – Desarrollo de Software de Aplicación</dc:title>
</cp:coreProperties>
</file>